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BCB-DB3C-4DE2-BD10-F9DCA160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867-097F-4173-A038-E007DCC2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AB8-9039-4459-9B87-4454486D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EFA-C71B-44E1-8577-1F78C9F3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4ADF-A134-452E-860C-2F8D3C2A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5E93-E41E-449B-BDA8-4AFBA74F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0C92-4821-44AA-8361-B902EF2C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FD75-2B98-4C6E-B443-5A6CC1B0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101C-20A9-4103-800B-475E1D66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B69A-2EBA-407C-B253-4BEECA12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9603-9D1E-4026-84B9-5A686D09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F37-67B4-4CCB-ADAA-41DA3B2D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C2BF-9793-4B25-BB7F-912BD5DE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A368-0EBE-40FB-A68E-4A2AD140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A11D-ACF4-45C7-BC5E-802C8A9A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2461-1354-445A-B95A-6DBDC502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5F65-C013-4E0F-BC10-CFFBC580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8F8-D755-4AEF-82BF-87286DF3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F0C-3C12-44BF-80CE-CE1A6CBA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ED4-3A19-4F2C-A24F-1C3CE2F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3A8-A865-4398-BE2C-A3870B6C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99E-B91F-4A2A-8496-18468934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3B65-2C77-4929-B015-DB5ABCB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66E-80A0-4074-96C5-F419205C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9D26-5F7A-4841-838D-5FA132279C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D:\фоны и шаблоны\ec5f413bf509.jpg"/>
          <p:cNvPicPr/>
          <p:nvPr/>
        </p:nvPicPr>
        <p:blipFill>
          <a:blip r:embed="rId2"/>
          <a:srcRect l="13357" t="0" r="80365" b="0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D:\фоны и шаблоны\ec5f413bf509.jpg"/>
          <p:cNvPicPr/>
          <p:nvPr/>
        </p:nvPicPr>
        <p:blipFill>
          <a:blip r:embed="rId2"/>
          <a:srcRect l="13357" t="0" r="80365" b="0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D:\фоны и шаблоны\ec5f413bf509.jpg"/>
          <p:cNvPicPr/>
          <p:nvPr/>
        </p:nvPicPr>
        <p:blipFill>
          <a:blip r:embed="rId3"/>
          <a:stretch/>
        </p:blipFill>
        <p:spPr>
          <a:xfrm>
            <a:off x="0" y="0"/>
            <a:ext cx="90932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:\клипарты\Оформляшки\1851d2a7fc66.png"/>
          <p:cNvPicPr/>
          <p:nvPr/>
        </p:nvPicPr>
        <p:blipFill>
          <a:blip r:embed="rId4"/>
          <a:stretch/>
        </p:blipFill>
        <p:spPr>
          <a:xfrm>
            <a:off x="357120" y="500040"/>
            <a:ext cx="819936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5303-AA5D-43A7-8762-C3E66C1B24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322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2"/>
          <a:stretch/>
        </p:blipFill>
        <p:spPr>
          <a:xfrm>
            <a:off x="2792520" y="1816200"/>
            <a:ext cx="4924440" cy="2317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987480" y="580536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тищева Н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"/>
          <p:cNvPicPr/>
          <p:nvPr/>
        </p:nvPicPr>
        <p:blipFill>
          <a:blip r:embed="rId1"/>
          <a:stretch/>
        </p:blipFill>
        <p:spPr>
          <a:xfrm>
            <a:off x="5532480" y="1398600"/>
            <a:ext cx="3610080" cy="54594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3" descr=""/>
          <p:cNvPicPr/>
          <p:nvPr/>
        </p:nvPicPr>
        <p:blipFill>
          <a:blip r:embed="rId2"/>
          <a:stretch/>
        </p:blipFill>
        <p:spPr>
          <a:xfrm>
            <a:off x="219240" y="-85680"/>
            <a:ext cx="6162480" cy="160344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" descr=""/>
          <p:cNvPicPr/>
          <p:nvPr/>
        </p:nvPicPr>
        <p:blipFill>
          <a:blip r:embed="rId3"/>
          <a:stretch/>
        </p:blipFill>
        <p:spPr>
          <a:xfrm>
            <a:off x="55440" y="1085760"/>
            <a:ext cx="6485040" cy="16020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5" descr=""/>
          <p:cNvPicPr/>
          <p:nvPr/>
        </p:nvPicPr>
        <p:blipFill>
          <a:blip r:embed="rId4"/>
          <a:stretch/>
        </p:blipFill>
        <p:spPr>
          <a:xfrm>
            <a:off x="-55440" y="3260880"/>
            <a:ext cx="5986440" cy="145080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6" descr=""/>
          <p:cNvPicPr/>
          <p:nvPr/>
        </p:nvPicPr>
        <p:blipFill>
          <a:blip r:embed="rId5"/>
          <a:stretch/>
        </p:blipFill>
        <p:spPr>
          <a:xfrm>
            <a:off x="-60480" y="4479840"/>
            <a:ext cx="5065920" cy="145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108000" y="25560"/>
            <a:ext cx="42688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Овал 3"/>
          <p:cNvSpPr/>
          <p:nvPr/>
        </p:nvSpPr>
        <p:spPr>
          <a:xfrm>
            <a:off x="2700360" y="189000"/>
            <a:ext cx="6335640" cy="251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овелеваю в моём Сказочном Математическом Королевстве ребятам  2 В класса выполнить мои желани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804120" y="1309680"/>
            <a:ext cx="4644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читайте примеры, реши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2914560" y="1968480"/>
            <a:ext cx="6705720" cy="192708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3" descr=""/>
          <p:cNvPicPr/>
          <p:nvPr/>
        </p:nvPicPr>
        <p:blipFill>
          <a:blip r:embed="rId3"/>
          <a:stretch/>
        </p:blipFill>
        <p:spPr>
          <a:xfrm>
            <a:off x="2932200" y="3481560"/>
            <a:ext cx="6649920" cy="19256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4" descr=""/>
          <p:cNvPicPr/>
          <p:nvPr/>
        </p:nvPicPr>
        <p:blipFill>
          <a:blip r:embed="rId4"/>
          <a:stretch/>
        </p:blipFill>
        <p:spPr>
          <a:xfrm>
            <a:off x="2938320" y="4992840"/>
            <a:ext cx="7107480" cy="19256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5"/>
          <a:stretch/>
        </p:blipFill>
        <p:spPr>
          <a:xfrm>
            <a:off x="108000" y="2433600"/>
            <a:ext cx="2670120" cy="42894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7" descr=""/>
          <p:cNvPicPr/>
          <p:nvPr/>
        </p:nvPicPr>
        <p:blipFill>
          <a:blip r:embed="rId6"/>
          <a:stretch/>
        </p:blipFill>
        <p:spPr>
          <a:xfrm>
            <a:off x="3919680" y="1962000"/>
            <a:ext cx="4047840" cy="19274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8" descr=""/>
          <p:cNvPicPr/>
          <p:nvPr/>
        </p:nvPicPr>
        <p:blipFill>
          <a:blip r:embed="rId7"/>
          <a:stretch/>
        </p:blipFill>
        <p:spPr>
          <a:xfrm>
            <a:off x="3919680" y="3481560"/>
            <a:ext cx="4005000" cy="19256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9" descr=""/>
          <p:cNvPicPr/>
          <p:nvPr/>
        </p:nvPicPr>
        <p:blipFill>
          <a:blip r:embed="rId8"/>
          <a:stretch/>
        </p:blipFill>
        <p:spPr>
          <a:xfrm>
            <a:off x="3333600" y="4992840"/>
            <a:ext cx="5585040" cy="192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798840" y="285840"/>
            <a:ext cx="2288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пиши 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785880" y="1000080"/>
            <a:ext cx="7929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На сколько надо увеличит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чтобы получит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Число в котором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 десятка и 8 единиц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Уменьши его н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 десят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Уменьшаемо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7 десятк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вычитаемо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7 единиц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йди раз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Первое слагаемо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3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торо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 сум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 Найди разность чисел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0 и 3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Увелич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7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Какое число меньш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?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Какое число надо увеличить н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чтобы получилос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77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 Из какого числа вычл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 получил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8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Прямоугольник 4" descr=""/>
          <p:cNvPicPr/>
          <p:nvPr/>
        </p:nvPicPr>
        <p:blipFill>
          <a:blip r:embed="rId1"/>
          <a:stretch/>
        </p:blipFill>
        <p:spPr>
          <a:xfrm>
            <a:off x="23760" y="4962600"/>
            <a:ext cx="9590040" cy="16034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" descr=""/>
          <p:cNvPicPr/>
          <p:nvPr/>
        </p:nvPicPr>
        <p:blipFill>
          <a:blip r:embed="rId2"/>
          <a:stretch/>
        </p:blipFill>
        <p:spPr>
          <a:xfrm>
            <a:off x="378000" y="4962600"/>
            <a:ext cx="8753400" cy="160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2" descr=""/>
          <p:cNvPicPr/>
          <p:nvPr/>
        </p:nvPicPr>
        <p:blipFill>
          <a:blip r:embed="rId1"/>
          <a:stretch/>
        </p:blipFill>
        <p:spPr>
          <a:xfrm>
            <a:off x="542880" y="-19080"/>
            <a:ext cx="3876840" cy="14572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4" descr=""/>
          <p:cNvPicPr/>
          <p:nvPr/>
        </p:nvPicPr>
        <p:blipFill>
          <a:blip r:embed="rId2"/>
          <a:stretch/>
        </p:blipFill>
        <p:spPr>
          <a:xfrm>
            <a:off x="476280" y="914400"/>
            <a:ext cx="4029120" cy="14572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3"/>
          <a:stretch/>
        </p:blipFill>
        <p:spPr>
          <a:xfrm>
            <a:off x="469800" y="1835280"/>
            <a:ext cx="4029120" cy="145728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4"/>
          <a:stretch/>
        </p:blipFill>
        <p:spPr>
          <a:xfrm>
            <a:off x="554040" y="2762280"/>
            <a:ext cx="3878280" cy="14558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" descr=""/>
          <p:cNvPicPr/>
          <p:nvPr/>
        </p:nvPicPr>
        <p:blipFill>
          <a:blip r:embed="rId5"/>
          <a:stretch/>
        </p:blipFill>
        <p:spPr>
          <a:xfrm>
            <a:off x="560520" y="3681360"/>
            <a:ext cx="3878280" cy="14572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8" descr=""/>
          <p:cNvPicPr/>
          <p:nvPr/>
        </p:nvPicPr>
        <p:blipFill>
          <a:blip r:embed="rId6"/>
          <a:stretch/>
        </p:blipFill>
        <p:spPr>
          <a:xfrm>
            <a:off x="536400" y="4608360"/>
            <a:ext cx="3902400" cy="14576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10" descr=""/>
          <p:cNvPicPr/>
          <p:nvPr/>
        </p:nvPicPr>
        <p:blipFill>
          <a:blip r:embed="rId7"/>
          <a:stretch/>
        </p:blipFill>
        <p:spPr>
          <a:xfrm>
            <a:off x="365040" y="5529240"/>
            <a:ext cx="4249800" cy="14572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2" descr=""/>
          <p:cNvPicPr/>
          <p:nvPr/>
        </p:nvPicPr>
        <p:blipFill>
          <a:blip r:embed="rId8"/>
          <a:stretch/>
        </p:blipFill>
        <p:spPr>
          <a:xfrm>
            <a:off x="5024520" y="703440"/>
            <a:ext cx="3917880" cy="58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737640" y="357120"/>
            <a:ext cx="8190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колько см периметр треугольника меньше периме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ырёхугольника, если длина стороны каждой фиг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Равнобедренный треугольник 2"/>
          <p:cNvSpPr/>
          <p:nvPr/>
        </p:nvSpPr>
        <p:spPr>
          <a:xfrm>
            <a:off x="1000080" y="4214880"/>
            <a:ext cx="2786040" cy="207180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5715000" y="4214880"/>
            <a:ext cx="2071800" cy="214308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5" descr=""/>
          <p:cNvPicPr/>
          <p:nvPr/>
        </p:nvPicPr>
        <p:blipFill>
          <a:blip r:embed="rId1"/>
          <a:stretch/>
        </p:blipFill>
        <p:spPr>
          <a:xfrm>
            <a:off x="2651040" y="3992400"/>
            <a:ext cx="157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6" descr=""/>
          <p:cNvPicPr/>
          <p:nvPr/>
        </p:nvPicPr>
        <p:blipFill>
          <a:blip r:embed="rId2"/>
          <a:stretch/>
        </p:blipFill>
        <p:spPr>
          <a:xfrm>
            <a:off x="500040" y="3852720"/>
            <a:ext cx="1693800" cy="16099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7" descr=""/>
          <p:cNvPicPr/>
          <p:nvPr/>
        </p:nvPicPr>
        <p:blipFill>
          <a:blip r:embed="rId3"/>
          <a:stretch/>
        </p:blipFill>
        <p:spPr>
          <a:xfrm>
            <a:off x="1712880" y="5937120"/>
            <a:ext cx="1401840" cy="10494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8" descr=""/>
          <p:cNvPicPr/>
          <p:nvPr/>
        </p:nvPicPr>
        <p:blipFill>
          <a:blip r:embed="rId4"/>
          <a:stretch/>
        </p:blipFill>
        <p:spPr>
          <a:xfrm>
            <a:off x="6072120" y="3144960"/>
            <a:ext cx="1401840" cy="104904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9" descr=""/>
          <p:cNvPicPr/>
          <p:nvPr/>
        </p:nvPicPr>
        <p:blipFill>
          <a:blip r:embed="rId5"/>
          <a:stretch/>
        </p:blipFill>
        <p:spPr>
          <a:xfrm>
            <a:off x="7716960" y="4932360"/>
            <a:ext cx="1396800" cy="10476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0" descr=""/>
          <p:cNvPicPr/>
          <p:nvPr/>
        </p:nvPicPr>
        <p:blipFill>
          <a:blip r:embed="rId6"/>
          <a:stretch/>
        </p:blipFill>
        <p:spPr>
          <a:xfrm>
            <a:off x="6145200" y="5937120"/>
            <a:ext cx="1395360" cy="10494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1" descr=""/>
          <p:cNvPicPr/>
          <p:nvPr/>
        </p:nvPicPr>
        <p:blipFill>
          <a:blip r:embed="rId7"/>
          <a:stretch/>
        </p:blipFill>
        <p:spPr>
          <a:xfrm>
            <a:off x="4432320" y="4857840"/>
            <a:ext cx="1395360" cy="10494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2" descr=""/>
          <p:cNvPicPr/>
          <p:nvPr/>
        </p:nvPicPr>
        <p:blipFill>
          <a:blip r:embed="rId8"/>
          <a:stretch/>
        </p:blipFill>
        <p:spPr>
          <a:xfrm>
            <a:off x="5022720" y="1652760"/>
            <a:ext cx="3835440" cy="177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инус 1"/>
          <p:cNvSpPr/>
          <p:nvPr/>
        </p:nvSpPr>
        <p:spPr>
          <a:xfrm>
            <a:off x="357120" y="3857760"/>
            <a:ext cx="9072720" cy="285480"/>
          </a:xfrm>
          <a:custGeom>
            <a:avLst/>
            <a:gdLst/>
            <a:ahLst/>
            <a:rect l="l" t="t" r="r" b="b"/>
            <a:pathLst>
              <a:path w="9072562" h="285750">
                <a:moveTo>
                  <a:pt x="1202568" y="109271"/>
                </a:moveTo>
                <a:lnTo>
                  <a:pt x="7869994" y="109271"/>
                </a:lnTo>
                <a:lnTo>
                  <a:pt x="7869994" y="176479"/>
                </a:lnTo>
                <a:lnTo>
                  <a:pt x="1202568" y="176479"/>
                </a:lnTo>
                <a:lnTo>
                  <a:pt x="1202568" y="1092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2"/>
          <p:cNvSpPr/>
          <p:nvPr/>
        </p:nvSpPr>
        <p:spPr>
          <a:xfrm>
            <a:off x="5286240" y="3857760"/>
            <a:ext cx="214560" cy="2142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3"/>
          <p:cNvSpPr/>
          <p:nvPr/>
        </p:nvSpPr>
        <p:spPr>
          <a:xfrm>
            <a:off x="1428840" y="3857760"/>
            <a:ext cx="214200" cy="2142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4"/>
          <p:cNvSpPr/>
          <p:nvPr/>
        </p:nvSpPr>
        <p:spPr>
          <a:xfrm>
            <a:off x="8072280" y="3857760"/>
            <a:ext cx="214560" cy="2142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авая фигурная скобка 7"/>
          <p:cNvSpPr/>
          <p:nvPr/>
        </p:nvSpPr>
        <p:spPr>
          <a:xfrm rot="5400000">
            <a:off x="4572000" y="1285560"/>
            <a:ext cx="571680" cy="657216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6572160"/>
              <a:gd name="textAreaBottom" fmla="*/ 6557400 h 657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9"/>
                  <a:pt x="10800" y="157"/>
                </a:cubicBezTo>
                <a:lnTo>
                  <a:pt x="10800" y="10643"/>
                </a:lnTo>
                <a:cubicBezTo>
                  <a:pt x="10800" y="10722"/>
                  <a:pt x="16200" y="10800"/>
                  <a:pt x="21600" y="10800"/>
                </a:cubicBezTo>
                <a:cubicBezTo>
                  <a:pt x="16200" y="10800"/>
                  <a:pt x="10800" y="10879"/>
                  <a:pt x="10800" y="10957"/>
                </a:cubicBezTo>
                <a:lnTo>
                  <a:pt x="10800" y="21443"/>
                </a:lnTo>
                <a:cubicBezTo>
                  <a:pt x="10800" y="21522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8" descr=""/>
          <p:cNvPicPr/>
          <p:nvPr/>
        </p:nvPicPr>
        <p:blipFill>
          <a:blip r:embed="rId1"/>
          <a:stretch/>
        </p:blipFill>
        <p:spPr>
          <a:xfrm>
            <a:off x="2395440" y="4400640"/>
            <a:ext cx="2683080" cy="14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D:\клипарты\сказки\015.png"/>
          <p:cNvPicPr/>
          <p:nvPr/>
        </p:nvPicPr>
        <p:blipFill>
          <a:blip r:embed="rId2"/>
          <a:stretch/>
        </p:blipFill>
        <p:spPr>
          <a:xfrm>
            <a:off x="0" y="1500120"/>
            <a:ext cx="2082960" cy="272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клипарты\домики\0_4eac1_23b2cd2b_XXXL.png"/>
          <p:cNvPicPr/>
          <p:nvPr/>
        </p:nvPicPr>
        <p:blipFill>
          <a:blip r:embed="rId3"/>
          <a:stretch/>
        </p:blipFill>
        <p:spPr>
          <a:xfrm>
            <a:off x="6967440" y="1571760"/>
            <a:ext cx="2176560" cy="236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D:\клипарты\еда раст\0_5b275_6d5008ee_XXXL.png"/>
          <p:cNvPicPr/>
          <p:nvPr/>
        </p:nvPicPr>
        <p:blipFill>
          <a:blip r:embed="rId4"/>
          <a:stretch/>
        </p:blipFill>
        <p:spPr>
          <a:xfrm>
            <a:off x="4500720" y="2071800"/>
            <a:ext cx="1500120" cy="185580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2" descr=""/>
          <p:cNvPicPr/>
          <p:nvPr/>
        </p:nvPicPr>
        <p:blipFill>
          <a:blip r:embed="rId5"/>
          <a:stretch/>
        </p:blipFill>
        <p:spPr>
          <a:xfrm>
            <a:off x="1822320" y="2755800"/>
            <a:ext cx="2298960" cy="145584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3" descr=""/>
          <p:cNvPicPr/>
          <p:nvPr/>
        </p:nvPicPr>
        <p:blipFill>
          <a:blip r:embed="rId6"/>
          <a:stretch/>
        </p:blipFill>
        <p:spPr>
          <a:xfrm>
            <a:off x="6004080" y="2687760"/>
            <a:ext cx="1255680" cy="14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571680" y="258840"/>
            <a:ext cx="84834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сной Шапочке нужно пройти до домика бабуш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00 м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а уже прошл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70 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Сколько метров осталось прой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сной Шапочке до домика бабуш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15" descr=""/>
          <p:cNvPicPr/>
          <p:nvPr/>
        </p:nvPicPr>
        <p:blipFill>
          <a:blip r:embed="rId7"/>
          <a:stretch/>
        </p:blipFill>
        <p:spPr>
          <a:xfrm>
            <a:off x="1523880" y="5473800"/>
            <a:ext cx="5821560" cy="145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D:\клипарты\сказки\e1062190e634.png"/>
          <p:cNvPicPr/>
          <p:nvPr/>
        </p:nvPicPr>
        <p:blipFill>
          <a:blip r:embed="rId1"/>
          <a:stretch/>
        </p:blipFill>
        <p:spPr>
          <a:xfrm>
            <a:off x="928800" y="1928880"/>
            <a:ext cx="3268440" cy="46720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943920" y="285840"/>
            <a:ext cx="78818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Красной Шапочки в корзин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ирожков с яблок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 мясом. А с капустой столько, сколько с яблок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ясом вместе. Сколько пирожков с капустой в корзи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4157640" y="3164040"/>
            <a:ext cx="4413240" cy="156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D:\клипарты\сказки\015.png"/>
          <p:cNvPicPr/>
          <p:nvPr/>
        </p:nvPicPr>
        <p:blipFill>
          <a:blip r:embed="rId1"/>
          <a:stretch/>
        </p:blipFill>
        <p:spPr>
          <a:xfrm>
            <a:off x="-181080" y="2087640"/>
            <a:ext cx="3648240" cy="47703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888480" y="214200"/>
            <a:ext cx="8002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е того, как мама вытащила из духовк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ирож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й осталось вытащить ещё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4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колько пирожков испек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Прямоугольник 3" descr=""/>
          <p:cNvPicPr/>
          <p:nvPr/>
        </p:nvPicPr>
        <p:blipFill>
          <a:blip r:embed="rId2"/>
          <a:stretch/>
        </p:blipFill>
        <p:spPr>
          <a:xfrm>
            <a:off x="2627280" y="1798560"/>
            <a:ext cx="654696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USER</cp:lastModifiedBy>
  <dcterms:modified xsi:type="dcterms:W3CDTF">2019-12-26T16:50:40Z</dcterms:modified>
  <cp:revision>70</cp:revision>
  <dc:subject/>
  <dc:title>Слайд 1</dc:title>
</cp:coreProperties>
</file>