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7C6-E829-4B6A-9516-E3E313B8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EFF-31C8-41D7-AF63-F138BDE4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E5A-ACDF-4A1A-ACFF-4B24D38F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08E-75B6-47F9-A7FB-74AB3C1A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F1C-48D4-4FCC-A99F-676EA8B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141-DEAD-452E-B7D4-FE6550A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C1D-5959-4B6B-9027-74C0C7CE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8DE-FC72-44DF-AAA7-67D23DC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CBA-B9ED-48E4-A94C-A1FDCCCF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E07-CCAC-4750-AB8E-101E0280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159-8403-43F1-91EB-6D0DE55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28A-FEFA-4CD4-9A60-094A2C9E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3FDF-E14B-4A85-9476-F6BEDD677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media1.fanparty.ru/images/fanclubs/Interesting%20facts/gallery/80142_interesting_facts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54061"/>
                </a:solidFill>
                <a:latin typeface="Calibri"/>
              </a:rPr>
              <a:t>ЗИ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ый год Дедушка Мороз готовит подарки, чтобы в Новый год подарить их детя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deswal.ru/newyear/1280-1024/00000252.jpg"/>
          <p:cNvPicPr/>
          <p:nvPr/>
        </p:nvPicPr>
        <p:blipFill>
          <a:blip r:embed="rId2"/>
          <a:stretch/>
        </p:blipFill>
        <p:spPr>
          <a:xfrm>
            <a:off x="468360" y="907920"/>
            <a:ext cx="828036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зменился лес! Вокруг белым-бело, повсюду снег! Это значит наступила зим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tapetky.sk/images/wallpapers/Zima-353101.jpeg"/>
          <p:cNvPicPr/>
          <p:nvPr/>
        </p:nvPicPr>
        <p:blipFill>
          <a:blip r:embed="rId1"/>
          <a:srcRect l="0" t="2668" r="0" b="0"/>
          <a:stretch/>
        </p:blipFill>
        <p:spPr>
          <a:xfrm>
            <a:off x="324000" y="134136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отри какими красивыми бывают снежинки, если посмотреть на них близко-близк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voprosy-kak-i-pochemu.ru/wp-content/uploads/2010/09/snow.jpg"/>
          <p:cNvPicPr/>
          <p:nvPr/>
        </p:nvPicPr>
        <p:blipFill>
          <a:blip r:embed="rId1"/>
          <a:stretch/>
        </p:blipFill>
        <p:spPr>
          <a:xfrm>
            <a:off x="324000" y="3645000"/>
            <a:ext cx="3487680" cy="25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117 И все-таки одинаковых снежинок в природе нет"/>
          <p:cNvPicPr/>
          <p:nvPr/>
        </p:nvPicPr>
        <p:blipFill>
          <a:blip r:embed="rId2"/>
          <a:stretch/>
        </p:blipFill>
        <p:spPr>
          <a:xfrm>
            <a:off x="3924360" y="141300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img0.liveinternet.ru/images/attach/c/2/66/281/66281440_0_1c9e5_52e019_XL.jpg"/>
          <p:cNvPicPr/>
          <p:nvPr/>
        </p:nvPicPr>
        <p:blipFill>
          <a:blip r:embed="rId3"/>
          <a:stretch/>
        </p:blipFill>
        <p:spPr>
          <a:xfrm>
            <a:off x="324000" y="1413000"/>
            <a:ext cx="34876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теплую одежду одевают не только люди. Посмотри какой пушистый хвостик у этой белочки! А какая густая шерсть у этой лисички! Зимой шерсть всех животных становится очень густой и хорошо согревает их в самые сильные мороз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dobrochan.ru/src/jpg/1112/%D0%91%D0%B5%D0%BB%D0%BA%D0%B0-%D0%BD%D0%B0-%D1%81%D0%BD%D0%B5%D0%B3%D1%83.jpg"/>
          <p:cNvPicPr/>
          <p:nvPr/>
        </p:nvPicPr>
        <p:blipFill>
          <a:blip r:embed="rId2"/>
          <a:srcRect l="0" t="0" r="18304" b="0"/>
          <a:stretch/>
        </p:blipFill>
        <p:spPr>
          <a:xfrm>
            <a:off x="250920" y="1484280"/>
            <a:ext cx="4505400" cy="475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g.mota.ru/upload/wallpapers/2010/08/30/10/04/22895/mota_ru_0091015-1280x720.jpg"/>
          <p:cNvPicPr/>
          <p:nvPr/>
        </p:nvPicPr>
        <p:blipFill>
          <a:blip r:embed="rId3"/>
          <a:srcRect l="11826" t="0" r="27971" b="0"/>
          <a:stretch/>
        </p:blipFill>
        <p:spPr>
          <a:xfrm>
            <a:off x="4788000" y="1484280"/>
            <a:ext cx="4032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многие звери меняют свой цвет. Смотри – этот зайчик зимой носит только белую шубку. Потому что в такой шкурке легче всего прятаться на снегу от волка и лис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marina-dorih.ru/wp-content/uploads/2010/08/17-%D0%B9-%D0%BB%D1%83%D0%BD%D0%BD%D1%8B%D0%B9-%D0%B4%D0%B5%D0%BD%D1%8C.-%D0%A1%D0%B8%D0%BC%D0%B2%D0%BE%D0%BB-%E2%80%93-%D0%97%D0%B0%D1%8F%D1%86-1024x768.jpg"/>
          <p:cNvPicPr/>
          <p:nvPr/>
        </p:nvPicPr>
        <p:blipFill>
          <a:blip r:embed="rId2"/>
          <a:stretch/>
        </p:blipFill>
        <p:spPr>
          <a:xfrm>
            <a:off x="395280" y="1268280"/>
            <a:ext cx="8353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но приходится и птицам. Под снегом не найти ни зернышка, ни травинки. Поэтому дети часто помогают им – строят кормушки и наполняют их корм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 (700x560, 102Kb)"/>
          <p:cNvPicPr/>
          <p:nvPr/>
        </p:nvPicPr>
        <p:blipFill>
          <a:blip r:embed="rId2"/>
          <a:stretch/>
        </p:blipFill>
        <p:spPr>
          <a:xfrm>
            <a:off x="324000" y="1268280"/>
            <a:ext cx="8424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ям зимой очень весело! Они катаются на санка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Samsung\Google Диск\добро\написать\два года\new\времена года Любовь Новооселова\557e3f4bfa93t.jpg"/>
          <p:cNvPicPr/>
          <p:nvPr/>
        </p:nvPicPr>
        <p:blipFill>
          <a:blip r:embed="rId1"/>
          <a:stretch/>
        </p:blipFill>
        <p:spPr>
          <a:xfrm>
            <a:off x="324000" y="1197000"/>
            <a:ext cx="3678120" cy="53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Samsung\Google Диск\добро\написать\два года\new\времена года Любовь Новооселова\b8ce5d6aea4bt.jpg"/>
          <p:cNvPicPr/>
          <p:nvPr/>
        </p:nvPicPr>
        <p:blipFill>
          <a:blip r:embed="rId2"/>
          <a:stretch/>
        </p:blipFill>
        <p:spPr>
          <a:xfrm>
            <a:off x="4002120" y="1214280"/>
            <a:ext cx="43862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троят снегов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Samsung\Google Диск\добро\написать\два года\new\времена года Любовь Новооселова\67659174_robertduncanartworksnowman.jpg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овый год к деткам приходят Дед Мороз и его внучка – Снегуроч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tunnel.ru/userfiles/ck/images/68/ded_moroz_i_snegurochka.jpg"/>
          <p:cNvPicPr/>
          <p:nvPr/>
        </p:nvPicPr>
        <p:blipFill>
          <a:blip r:embed="rId2"/>
          <a:stretch/>
        </p:blipFill>
        <p:spPr>
          <a:xfrm>
            <a:off x="468360" y="907920"/>
            <a:ext cx="83516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5:24:41Z</dcterms:created>
  <dc:creator>Samsung</dc:creator>
  <dc:description/>
  <dc:language>en-US</dc:language>
  <cp:lastModifiedBy>User</cp:lastModifiedBy>
  <dcterms:modified xsi:type="dcterms:W3CDTF">2019-12-26T03:35:31Z</dcterms:modified>
  <cp:revision>25</cp:revision>
  <dc:subject/>
  <dc:title>зима</dc:title>
</cp:coreProperties>
</file>