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A9CB-BE41-4BCA-9FE8-70B1E8B711B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AEF1-B3AE-4611-BE3C-D051D0DD4E7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AC2C-6297-41EF-ABE9-78DC1294DE5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E05-7D9D-4002-B003-B0315098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02F-27FB-478E-B149-CFD86E9D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5BA-1199-4C62-B83B-224135A2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708-B2DC-4B93-9F49-53F83B2D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98B7-AE4B-414B-9679-7FAD5CEE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9190-11CB-4BB0-B3B1-6A8B3D49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C6E5-CB1E-4059-81F0-E49A6DB8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3FFE-0617-4067-8CE3-17C876E5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029A-229B-4D0E-B300-58E3D697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D916-377C-46CD-8A65-39F4AA31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B603-D997-47F9-A9AF-034CF9AA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233-D469-45D0-8573-A6514D4D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6D59-EAEC-4437-B7CA-33937466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6B51-BB59-4475-BFE3-E19AB6AB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20AD-4686-43E3-AD42-C5A5D32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501A-79E3-4D04-AB69-3A586603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EA64-BDB8-4420-A16D-23659B69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06F0-3032-49AE-BFF7-DFA3B197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9CED-CC7A-4691-B81E-9F2C075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8F9A-4FEE-4CB0-98C0-0997EC24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063B-0D8D-49F2-ADF5-0F3166B7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150C-D62D-4347-80C7-9D96DDBE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8C5-2B34-479F-9A82-CDE66863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2B20-08E1-4DC8-A468-71E20B97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1A2F-8A7D-414B-9AD0-9FD119DF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8CC9-1B2B-4D88-8C28-5E5A07D1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C39E-1A72-48F5-BB26-32FC236C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1338-0986-42D2-875D-9B4B77FD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B572-6A45-40A2-B6E6-82D35786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4426-2C8F-4026-AA33-418566D0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322B-B067-4F0B-BDEB-35BB47D4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5641-B6C0-4FB9-823D-E18FBFBC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6FE3-8B5A-4FB8-BEB1-EFF95A1B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09D-6195-44B3-AB27-010C3CE0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4B68-3F10-40D6-B597-F10D3907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B237-74D0-4F46-A6EE-3E844989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D85B-F8CD-45FB-8821-48DE2B7F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6048-AA46-4379-9B06-6D6EDF5C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48DF-BDBA-419C-86CE-3E2491B6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A024-8CED-4A10-9199-CA36560D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A51D-D161-440B-85F4-18B98DE4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F594-EF77-4998-8A44-FE3483B6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DCE4-536F-44EE-88B9-B43CD597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096F1-4D7D-4F86-9125-E2EAF098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212-D37A-491C-ACF3-9E5ECF22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68B00-835F-4D55-B837-C2505671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72CD-789C-4DFC-B465-CDD3D5D6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11CC5-6788-4B7B-BAEA-33310158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411A-773D-4051-A7B0-1E802129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93F8B-6CC4-47F5-9494-7DBA32E1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981C4-2A5C-4036-AE17-9ED73C9E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0AE45-3C86-4226-B19D-ED8F523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1954-BA07-4651-8EAA-8353C251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D4AE-B383-4F13-BF03-A2DB8D4D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6D89-1B1C-4FC6-99E8-F27372D6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B39-18D3-4847-8222-550F6BBF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17963-A4F6-4C16-A2FE-F9B03B04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C1D30-8FFB-4A85-A53B-992D4EDD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69F0-C34B-4897-A6B7-5022846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AE69D-F50F-4691-8508-F3110E1F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5C153-1793-4254-8497-6E4FC873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8F98-2AC7-44A9-8455-A82DA5B4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615B-053F-45B9-B352-FC40F2A1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81846-E7BD-4CD9-BA7F-BE595C3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AC1AD-914E-4E20-9AE6-2BC8240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2532F-F834-4DA8-BA8D-6949D56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670-5DD1-43D7-B109-DA4A5CE3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95E3D-493C-4A33-ABFC-3C2B029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3A08-D16F-4CF2-A259-603D2919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B001-8963-4012-9BE2-8066C697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19DE4-B98E-4148-94A2-5A9AAF8B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EFA6F-DD56-4F80-9C7E-4A9E1520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A368C-AD72-4892-8795-F6E65D45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829D2-D930-4CB8-A311-134C2CD6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00874-1060-4FD5-A6DB-2079AA51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412E5-6F94-417F-BC4E-906A95FB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9FBB4-B44A-4C1A-B4BF-34EBFC73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EE6-D078-4617-BAEA-61257669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84F81-9EF2-4C04-8D66-26EC4EE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4FFAE-3FB6-44FA-ABD1-B1BE7FD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C24C-8F4F-426C-9393-D4CB6416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410CD-9E74-47E4-9D4E-23B1F41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08D3E-0E85-4067-85CE-9B44905B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764-3E60-4F46-B02A-6C47C04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979-F77D-4BB3-8022-11A6E5E87852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A751-CC75-4CBD-9FFE-73A64A410984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2B45-46BD-41B9-81E8-B8FC76FC76DA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F5FE-EA63-4A49-8288-C97C700F9AAD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16CE-4C9F-441C-8490-7ED785099584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6F73-CB60-47B3-B370-BAF8AAF54F69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170B-2B87-48E9-ADBA-990032E04B9B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&#1050;&#1072;&#1088;&#1090;&#1080;&#1085;&#1082;&#1072;.ppt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4400" spc="-1" strike="noStrike">
                <a:solidFill>
                  <a:srgbClr val="3891a7"/>
                </a:solidFill>
                <a:latin typeface="Corbel"/>
              </a:rPr>
              <a:t>Открытый урок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891a7"/>
                </a:solidFill>
                <a:latin typeface="Corbel"/>
              </a:rPr>
              <a:t>БИОЛОГИЯ 9 КЛАСС</a:t>
            </a:r>
            <a:br>
              <a:rPr sz="2200"/>
            </a:br>
            <a:r>
              <a:rPr b="1" lang="ru-RU" sz="2200" spc="-1" strike="noStrike">
                <a:solidFill>
                  <a:srgbClr val="3891a7"/>
                </a:solidFill>
                <a:latin typeface="Corbel"/>
              </a:rPr>
              <a:t>	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457200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Учитель биологии первой категори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МБОУ Батуринской ООШ Иванова Е.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фаза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5" name="Picture 4" descr="7_2"/>
          <p:cNvPicPr/>
          <p:nvPr/>
        </p:nvPicPr>
        <p:blipFill>
          <a:blip r:embed="rId1"/>
          <a:stretch/>
        </p:blipFill>
        <p:spPr>
          <a:xfrm>
            <a:off x="971640" y="1557360"/>
            <a:ext cx="7153200" cy="295128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4"/>
          <p:cNvSpPr/>
          <p:nvPr/>
        </p:nvSpPr>
        <p:spPr>
          <a:xfrm>
            <a:off x="1042920" y="4581360"/>
            <a:ext cx="78501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 объем яд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ерная мембрана распадаетс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ы спирализуются, укорачиваются, становятся четко различимыми в микроскоп, они состоят из двух хроматид, соединенных в зоне центромер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трубочки и центриоли участвуют в образовании веретена деления ( в клетках животн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афаза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8" name="Picture 4" descr="7_3"/>
          <p:cNvPicPr/>
          <p:nvPr/>
        </p:nvPicPr>
        <p:blipFill>
          <a:blip r:embed="rId1"/>
          <a:stretch/>
        </p:blipFill>
        <p:spPr>
          <a:xfrm>
            <a:off x="539640" y="1440000"/>
            <a:ext cx="7704360" cy="2931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39280" y="4724280"/>
            <a:ext cx="8147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и веретена деления прикрепляются к центромер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ы располагаются в районе экватора клет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афаза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1" name="Picture 4" descr="7_4"/>
          <p:cNvPicPr/>
          <p:nvPr/>
        </p:nvPicPr>
        <p:blipFill>
          <a:blip r:embed="rId1"/>
          <a:stretch/>
        </p:blipFill>
        <p:spPr>
          <a:xfrm>
            <a:off x="457200" y="1413000"/>
            <a:ext cx="8470800" cy="28796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755280" y="4437000"/>
            <a:ext cx="793116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омеры делят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атиды транспортируются с помощью прикрепленных к центромерам нитей веретена деления к противоположным полюсам клет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лофаза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4" name="Picture 4" descr="7_5"/>
          <p:cNvPicPr/>
          <p:nvPr/>
        </p:nvPicPr>
        <p:blipFill>
          <a:blip r:embed="rId1"/>
          <a:stretch/>
        </p:blipFill>
        <p:spPr>
          <a:xfrm>
            <a:off x="826920" y="1052640"/>
            <a:ext cx="7921800" cy="3240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68000" y="4292280"/>
            <a:ext cx="821844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ы деспирализуютс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новые ядр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вь  появляется ядрышко и образуется ядерная оболочк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экватора образуется перетяжка и формируются две дочерние клет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4"/>
          <p:cNvSpPr/>
          <p:nvPr/>
        </p:nvSpPr>
        <p:spPr>
          <a:xfrm>
            <a:off x="1857240" y="214200"/>
            <a:ext cx="63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Закрепление знан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Прямоугольник 5"/>
          <p:cNvSpPr/>
          <p:nvPr/>
        </p:nvSpPr>
        <p:spPr>
          <a:xfrm>
            <a:off x="2000160" y="3071880"/>
            <a:ext cx="63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928800" y="928800"/>
            <a:ext cx="757224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Биологическое значение митоз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6858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значение митоза огромно. Постоянство строения, а также правильность функционирования органов и тканей многоклеточного организма невозможно без сохранени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дентичного набора генетическ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материала в бесчисленных клеточных поколения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"/>
          <a:stretch/>
        </p:blipFill>
        <p:spPr>
          <a:xfrm>
            <a:off x="6929280" y="571680"/>
            <a:ext cx="2033640" cy="15174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8"/>
          <p:cNvSpPr/>
          <p:nvPr/>
        </p:nvSpPr>
        <p:spPr>
          <a:xfrm>
            <a:off x="7000920" y="2071800"/>
            <a:ext cx="1928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к выглядит эмбрион человека в возрасте шести недель при нормальном ходе митоз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Прямоугольник 7"/>
          <p:cNvSpPr/>
          <p:nvPr/>
        </p:nvSpPr>
        <p:spPr>
          <a:xfrm>
            <a:off x="214200" y="4500720"/>
            <a:ext cx="89298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Arial Black"/>
                <a:hlinkClick r:id="rId2"/>
              </a:rPr>
              <a:t>Митоз обеспечивает такие важные процессы жизнедеятельности как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эмбриональное развит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рос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восстановление органов и ткан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случае нарушения нормального хода митоза, а также при неравномерном распределении хромосом, происходит гибель клетки или возникают му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4"/>
          <p:cNvSpPr/>
          <p:nvPr/>
        </p:nvSpPr>
        <p:spPr>
          <a:xfrm>
            <a:off x="1714680" y="214200"/>
            <a:ext cx="63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2000160" y="3071880"/>
            <a:ext cx="63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143000" y="1000080"/>
            <a:ext cx="77868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Выводы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снове роста и размножения организма лежит процесс деления клет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изненный цикл клетки включает интерфазу и мито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нтерфаза – период, в течение которого синтезируются вещества, удваиваются хромосом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тоз – процесс деления ядра соматических клето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тоз включает 4 фазы: профаза, метафаза, анафаза, телофаз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роцессе митоза генетический материал равномерно распределяются между дочерними клетками, благодаря чему дочерние клетки получают такой же набор хромосом какой был в материнской клетк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Рефлекс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Допишите предложения: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rbel"/>
              </a:rPr>
              <a:t>«Знания полученные на уроке мне необходимы…»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rbel"/>
              </a:rPr>
              <a:t>«Я получил информацию о том, что…»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357200" y="2143080"/>
            <a:ext cx="7499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Corbel"/>
              </a:rPr>
              <a:t>Выучить параграф 28, ответить на вопросы на стр.141.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222120" y="5221440"/>
            <a:ext cx="2549520" cy="1334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1" descr="Рисунок1"/>
          <p:cNvPicPr/>
          <p:nvPr/>
        </p:nvPicPr>
        <p:blipFill>
          <a:blip r:embed="rId2"/>
          <a:stretch/>
        </p:blipFill>
        <p:spPr>
          <a:xfrm>
            <a:off x="2700360" y="3284640"/>
            <a:ext cx="3498840" cy="2840040"/>
          </a:xfrm>
          <a:prstGeom prst="rect">
            <a:avLst/>
          </a:prstGeom>
          <a:ln w="0">
            <a:noFill/>
          </a:ln>
        </p:spPr>
      </p:pic>
      <p:sp>
        <p:nvSpPr>
          <p:cNvPr id="329" name="Oval 32"/>
          <p:cNvSpPr/>
          <p:nvPr/>
        </p:nvSpPr>
        <p:spPr>
          <a:xfrm>
            <a:off x="2916360" y="3429000"/>
            <a:ext cx="3024000" cy="2448000"/>
          </a:xfrm>
          <a:prstGeom prst="ellipse">
            <a:avLst/>
          </a:pr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Oval 33"/>
          <p:cNvSpPr/>
          <p:nvPr/>
        </p:nvSpPr>
        <p:spPr>
          <a:xfrm>
            <a:off x="2987640" y="3500280"/>
            <a:ext cx="2879640" cy="2305080"/>
          </a:xfrm>
          <a:prstGeom prst="ellipse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Freeform 34"/>
          <p:cNvSpPr/>
          <p:nvPr/>
        </p:nvSpPr>
        <p:spPr>
          <a:xfrm>
            <a:off x="3719520" y="3645000"/>
            <a:ext cx="1068480" cy="211284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2112840"/>
              <a:gd name="textAreaBottom" fmla="*/ 2113200 h 2112840"/>
            </a:gdLst>
            <a:ahLst/>
            <a:rect l="textAreaLeft" t="textAreaTop" r="textAreaRight" b="textAreaBottom"/>
            <a:pathLst>
              <a:path w="673" h="1331">
                <a:moveTo>
                  <a:pt x="129" y="0"/>
                </a:moveTo>
                <a:cubicBezTo>
                  <a:pt x="386" y="79"/>
                  <a:pt x="643" y="159"/>
                  <a:pt x="628" y="227"/>
                </a:cubicBezTo>
                <a:cubicBezTo>
                  <a:pt x="613" y="295"/>
                  <a:pt x="76" y="310"/>
                  <a:pt x="38" y="408"/>
                </a:cubicBezTo>
                <a:cubicBezTo>
                  <a:pt x="0" y="506"/>
                  <a:pt x="394" y="719"/>
                  <a:pt x="401" y="817"/>
                </a:cubicBezTo>
                <a:cubicBezTo>
                  <a:pt x="408" y="915"/>
                  <a:pt x="90" y="915"/>
                  <a:pt x="83" y="998"/>
                </a:cubicBezTo>
                <a:cubicBezTo>
                  <a:pt x="76" y="1081"/>
                  <a:pt x="258" y="1301"/>
                  <a:pt x="356" y="1316"/>
                </a:cubicBezTo>
                <a:cubicBezTo>
                  <a:pt x="454" y="1331"/>
                  <a:pt x="620" y="1127"/>
                  <a:pt x="673" y="10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Freeform 36"/>
          <p:cNvSpPr/>
          <p:nvPr/>
        </p:nvSpPr>
        <p:spPr>
          <a:xfrm>
            <a:off x="3024360" y="4076640"/>
            <a:ext cx="2627280" cy="1081080"/>
          </a:xfrm>
          <a:custGeom>
            <a:avLst/>
            <a:gdLst>
              <a:gd name="textAreaLeft" fmla="*/ 0 w 2627280"/>
              <a:gd name="textAreaRight" fmla="*/ 2627640 w 262728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1655" h="681">
                <a:moveTo>
                  <a:pt x="113" y="0"/>
                </a:moveTo>
                <a:cubicBezTo>
                  <a:pt x="226" y="113"/>
                  <a:pt x="340" y="227"/>
                  <a:pt x="340" y="318"/>
                </a:cubicBezTo>
                <a:cubicBezTo>
                  <a:pt x="340" y="409"/>
                  <a:pt x="0" y="530"/>
                  <a:pt x="113" y="545"/>
                </a:cubicBezTo>
                <a:cubicBezTo>
                  <a:pt x="226" y="560"/>
                  <a:pt x="854" y="385"/>
                  <a:pt x="1020" y="408"/>
                </a:cubicBezTo>
                <a:cubicBezTo>
                  <a:pt x="1186" y="431"/>
                  <a:pt x="1013" y="681"/>
                  <a:pt x="1111" y="681"/>
                </a:cubicBezTo>
                <a:cubicBezTo>
                  <a:pt x="1209" y="681"/>
                  <a:pt x="1580" y="491"/>
                  <a:pt x="1610" y="408"/>
                </a:cubicBezTo>
                <a:cubicBezTo>
                  <a:pt x="1640" y="325"/>
                  <a:pt x="1285" y="250"/>
                  <a:pt x="1293" y="182"/>
                </a:cubicBezTo>
                <a:cubicBezTo>
                  <a:pt x="1301" y="114"/>
                  <a:pt x="1595" y="30"/>
                  <a:pt x="165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Freeform 37"/>
          <p:cNvSpPr/>
          <p:nvPr/>
        </p:nvSpPr>
        <p:spPr>
          <a:xfrm>
            <a:off x="4632480" y="3716280"/>
            <a:ext cx="1260360" cy="81612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816120"/>
              <a:gd name="textAreaBottom" fmla="*/ 816480 h 816120"/>
            </a:gdLst>
            <a:ahLst/>
            <a:rect l="textAreaLeft" t="textAreaTop" r="textAreaRight" b="textAreaBottom"/>
            <a:pathLst>
              <a:path w="794" h="514">
                <a:moveTo>
                  <a:pt x="143" y="0"/>
                </a:moveTo>
                <a:cubicBezTo>
                  <a:pt x="264" y="64"/>
                  <a:pt x="385" y="129"/>
                  <a:pt x="370" y="182"/>
                </a:cubicBezTo>
                <a:cubicBezTo>
                  <a:pt x="355" y="235"/>
                  <a:pt x="0" y="265"/>
                  <a:pt x="53" y="318"/>
                </a:cubicBezTo>
                <a:cubicBezTo>
                  <a:pt x="106" y="371"/>
                  <a:pt x="582" y="484"/>
                  <a:pt x="688" y="499"/>
                </a:cubicBezTo>
                <a:cubicBezTo>
                  <a:pt x="794" y="514"/>
                  <a:pt x="688" y="424"/>
                  <a:pt x="688" y="40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00000" y="636480"/>
            <a:ext cx="6443640" cy="416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ние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Назовите органоиды клетки (паровозик)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53" descr=""/>
          <p:cNvPicPr/>
          <p:nvPr/>
        </p:nvPicPr>
        <p:blipFill>
          <a:blip r:embed="rId3"/>
          <a:srcRect l="0" t="0" r="-2666" b="0"/>
          <a:stretch/>
        </p:blipFill>
        <p:spPr>
          <a:xfrm>
            <a:off x="179280" y="836640"/>
            <a:ext cx="2982960" cy="2589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4" descr=""/>
          <p:cNvPicPr/>
          <p:nvPr/>
        </p:nvPicPr>
        <p:blipFill>
          <a:blip r:embed="rId4"/>
          <a:stretch/>
        </p:blipFill>
        <p:spPr>
          <a:xfrm>
            <a:off x="5940360" y="981000"/>
            <a:ext cx="2737080" cy="2519280"/>
          </a:xfrm>
          <a:prstGeom prst="rect">
            <a:avLst/>
          </a:prstGeom>
          <a:ln w="0">
            <a:noFill/>
          </a:ln>
        </p:spPr>
      </p:pic>
      <p:sp>
        <p:nvSpPr>
          <p:cNvPr id="337" name="Line 56"/>
          <p:cNvSpPr/>
          <p:nvPr/>
        </p:nvSpPr>
        <p:spPr>
          <a:xfrm>
            <a:off x="900000" y="537372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59"/>
          <p:cNvSpPr/>
          <p:nvPr/>
        </p:nvSpPr>
        <p:spPr>
          <a:xfrm flipH="1">
            <a:off x="899640" y="59500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61"/>
          <p:cNvSpPr/>
          <p:nvPr/>
        </p:nvSpPr>
        <p:spPr>
          <a:xfrm>
            <a:off x="1547640" y="56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62" descr=""/>
          <p:cNvPicPr/>
          <p:nvPr/>
        </p:nvPicPr>
        <p:blipFill>
          <a:blip r:embed="rId5"/>
          <a:srcRect l="7435" t="7410" r="9913" b="11115"/>
          <a:stretch/>
        </p:blipFill>
        <p:spPr>
          <a:xfrm>
            <a:off x="6084720" y="4508640"/>
            <a:ext cx="2703600" cy="20160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4"/>
          <p:cNvSpPr/>
          <p:nvPr/>
        </p:nvSpPr>
        <p:spPr>
          <a:xfrm>
            <a:off x="250920" y="321300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65"/>
          <p:cNvSpPr/>
          <p:nvPr/>
        </p:nvSpPr>
        <p:spPr>
          <a:xfrm>
            <a:off x="1125360" y="4489560"/>
            <a:ext cx="9144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66"/>
          <p:cNvSpPr/>
          <p:nvPr/>
        </p:nvSpPr>
        <p:spPr>
          <a:xfrm>
            <a:off x="4114800" y="573264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67"/>
          <p:cNvSpPr/>
          <p:nvPr/>
        </p:nvSpPr>
        <p:spPr>
          <a:xfrm>
            <a:off x="6516720" y="371628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68"/>
          <p:cNvSpPr/>
          <p:nvPr/>
        </p:nvSpPr>
        <p:spPr>
          <a:xfrm>
            <a:off x="5219640" y="1773360"/>
            <a:ext cx="9144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Прямоугольник 1"/>
          <p:cNvSpPr/>
          <p:nvPr/>
        </p:nvSpPr>
        <p:spPr>
          <a:xfrm>
            <a:off x="1603440" y="9360"/>
            <a:ext cx="63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Актуализация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Тестовое задание для взаимопровер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79280" y="1213920"/>
            <a:ext cx="89647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А 1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 Какие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структуры клетки распределяются строго равномерно между дочерними клетками в процессе митоза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1) рибосомы 2) митохондрии 3) хлоропласты 4) хромосом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А 2. В процессе митоза каждая дочерняя клетка получает такой же набор хромосом, как и материнская, потому что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1)В профазе происходит спирализация хромосом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2) происходит деспирализация хромосом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3) в интерфазе ДНК удваивается, в каждой хромосоме образуется по две хроматид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4) каждая клетка содержит по две гомологичные хромосомы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Тестовое задание для взаимопровер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79280" y="1213920"/>
            <a:ext cx="89647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921240" indent="-49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А 3. Митоз в многоклеточном организме составляет основу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21240" indent="-49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1) гаметогенеза, 2) роста и развития, 3) обмена веществ,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21240" indent="-49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4) процессов саморегуляци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21240" indent="-49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21240" indent="-49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А 4. По каким признакам  можно узнать анафазу митоза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21240" indent="-49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1) беспорядочному расположению спирализованных хромосом в цитоплазме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21240" indent="-49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2) выстраиванию хромосом в экваториальной плоскости клетк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21240" indent="-49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3) рахождению дочерних хроматид к противоположным полюсам клетк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921240" indent="-49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4) деспирализации хромосом и образованию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дерных оболочек вокруг двух яде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Тестовое задание для взаимопровер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79280" y="1213920"/>
            <a:ext cx="89647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А 1. - 4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А 2. - 3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А 3. – 2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А 4. - 3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02544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891a7"/>
                </a:solidFill>
                <a:latin typeface="Tahoma"/>
              </a:rPr>
              <a:t>Спасибо за работу на уроке!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280" y="703080"/>
            <a:ext cx="6120000" cy="417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ние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тветьте на вопросы (кто быстрее)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Line 56"/>
          <p:cNvSpPr/>
          <p:nvPr/>
        </p:nvSpPr>
        <p:spPr>
          <a:xfrm>
            <a:off x="900000" y="537372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59"/>
          <p:cNvSpPr/>
          <p:nvPr/>
        </p:nvSpPr>
        <p:spPr>
          <a:xfrm flipH="1">
            <a:off x="899640" y="59500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61"/>
          <p:cNvSpPr/>
          <p:nvPr/>
        </p:nvSpPr>
        <p:spPr>
          <a:xfrm>
            <a:off x="1547640" y="56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Прямоугольник 1"/>
          <p:cNvSpPr/>
          <p:nvPr/>
        </p:nvSpPr>
        <p:spPr>
          <a:xfrm>
            <a:off x="1603440" y="9360"/>
            <a:ext cx="63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Актуализация знан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оугольник: скругленные углы 3"/>
          <p:cNvSpPr/>
          <p:nvPr/>
        </p:nvSpPr>
        <p:spPr>
          <a:xfrm>
            <a:off x="179280" y="1204920"/>
            <a:ext cx="7561440" cy="9288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ая единица живого организм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Прямоугольник: скругленные углы 25"/>
          <p:cNvSpPr/>
          <p:nvPr/>
        </p:nvSpPr>
        <p:spPr>
          <a:xfrm>
            <a:off x="179280" y="2271600"/>
            <a:ext cx="7561440" cy="92736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ой органоид клетки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Прямоугольник: скругленные углы 26"/>
          <p:cNvSpPr/>
          <p:nvPr/>
        </p:nvSpPr>
        <p:spPr>
          <a:xfrm>
            <a:off x="179280" y="3343320"/>
            <a:ext cx="7561440" cy="9288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клеиновая кислота, содержащаяся в ядре, имеющая вид двойной спирали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: скругленные углы 27"/>
          <p:cNvSpPr/>
          <p:nvPr/>
        </p:nvSpPr>
        <p:spPr>
          <a:xfrm>
            <a:off x="179280" y="4429080"/>
            <a:ext cx="7561440" cy="9270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оложение нуклеотидов в  ДНК не хаотичное, а в определенной последовательности, согласно правилу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Прямоугольник: скругленные углы 28"/>
          <p:cNvSpPr/>
          <p:nvPr/>
        </p:nvSpPr>
        <p:spPr>
          <a:xfrm>
            <a:off x="179280" y="5513400"/>
            <a:ext cx="7561440" cy="9288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оид, участвующий в делении клеток, состоящий из двух телец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Прямоугольник: скругленные углы 29"/>
          <p:cNvSpPr/>
          <p:nvPr/>
        </p:nvSpPr>
        <p:spPr>
          <a:xfrm>
            <a:off x="7962840" y="1214280"/>
            <a:ext cx="1001880" cy="92736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2203"/>
                </a:solidFill>
                <a:latin typeface="Arial Black"/>
              </a:rPr>
              <a:t>м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Прямоугольник: скругленные углы 30"/>
          <p:cNvSpPr/>
          <p:nvPr/>
        </p:nvSpPr>
        <p:spPr>
          <a:xfrm>
            <a:off x="7962840" y="2271600"/>
            <a:ext cx="1001880" cy="92736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2203"/>
                </a:solidFill>
                <a:latin typeface="Arial Black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Прямоугольник: скругленные углы 31"/>
          <p:cNvSpPr/>
          <p:nvPr/>
        </p:nvSpPr>
        <p:spPr>
          <a:xfrm>
            <a:off x="7959600" y="3343320"/>
            <a:ext cx="1001880" cy="9288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2203"/>
                </a:solidFill>
                <a:latin typeface="Arial Black"/>
              </a:rPr>
              <a:t>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Прямоугольник: скругленные углы 32"/>
          <p:cNvSpPr/>
          <p:nvPr/>
        </p:nvSpPr>
        <p:spPr>
          <a:xfrm>
            <a:off x="7959600" y="4437000"/>
            <a:ext cx="1001880" cy="9270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2203"/>
                </a:solidFill>
                <a:latin typeface="Arial Black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Прямоугольник: скругленные углы 33"/>
          <p:cNvSpPr/>
          <p:nvPr/>
        </p:nvSpPr>
        <p:spPr>
          <a:xfrm>
            <a:off x="7962840" y="5513400"/>
            <a:ext cx="1001880" cy="9288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2203"/>
                </a:solidFill>
                <a:latin typeface="Arial Black"/>
              </a:rPr>
              <a:t>з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Прямоугольник: скругленные углы 16"/>
          <p:cNvSpPr/>
          <p:nvPr/>
        </p:nvSpPr>
        <p:spPr>
          <a:xfrm>
            <a:off x="179280" y="1228680"/>
            <a:ext cx="7561440" cy="9288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2203"/>
                </a:solidFill>
                <a:latin typeface="Arial Black"/>
              </a:rPr>
              <a:t>КЛЕТКА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оугольник: скругленные углы 17"/>
          <p:cNvSpPr/>
          <p:nvPr/>
        </p:nvSpPr>
        <p:spPr>
          <a:xfrm>
            <a:off x="179280" y="2286000"/>
            <a:ext cx="7561440" cy="9270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2203"/>
                </a:solidFill>
                <a:latin typeface="Arial Black"/>
              </a:rPr>
              <a:t>ЯДРО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Прямоугольник: скругленные углы 18"/>
          <p:cNvSpPr/>
          <p:nvPr/>
        </p:nvSpPr>
        <p:spPr>
          <a:xfrm>
            <a:off x="203040" y="3368520"/>
            <a:ext cx="7561440" cy="9288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2203"/>
                </a:solidFill>
                <a:latin typeface="Arial Black"/>
              </a:rPr>
              <a:t>ДНК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Прямоугольник: скругленные углы 19"/>
          <p:cNvSpPr/>
          <p:nvPr/>
        </p:nvSpPr>
        <p:spPr>
          <a:xfrm>
            <a:off x="179280" y="4429080"/>
            <a:ext cx="7561440" cy="9270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203"/>
                </a:solidFill>
                <a:latin typeface="Arial Black"/>
              </a:rPr>
              <a:t>КОМПЛЕМЕНТАР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Прямоугольник: скругленные углы 20"/>
          <p:cNvSpPr/>
          <p:nvPr/>
        </p:nvSpPr>
        <p:spPr>
          <a:xfrm>
            <a:off x="193680" y="5513400"/>
            <a:ext cx="7561080" cy="928800"/>
          </a:xfrm>
          <a:prstGeom prst="roundRect">
            <a:avLst>
              <a:gd name="adj" fmla="val 16667"/>
            </a:avLst>
          </a:prstGeom>
          <a:solidFill>
            <a:srgbClr val="fed46c"/>
          </a:solidFill>
          <a:ln w="25560">
            <a:solidFill>
              <a:srgbClr val="4b220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203"/>
                </a:solidFill>
                <a:latin typeface="Arial Black"/>
              </a:rPr>
              <a:t>КЛЕТОЧНЫЙ ЦЕНТР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91a7"/>
                </a:solidFill>
                <a:latin typeface="Corbel"/>
              </a:rPr>
              <a:t>Определяем тему урока</a:t>
            </a:r>
            <a:br>
              <a:rPr sz="2200"/>
            </a:br>
            <a:r>
              <a:rPr b="1" lang="ru-RU" sz="2200" spc="-1" strike="noStrike">
                <a:solidFill>
                  <a:srgbClr val="3891a7"/>
                </a:solidFill>
                <a:latin typeface="Corbel"/>
              </a:rPr>
              <a:t>	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1060560" y="1268280"/>
            <a:ext cx="807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уда мы взялись, соседка?” 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росила как-то клетка клет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 не услышала вопрос 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на делилась! Шел  ……….!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23720" y="4218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91a7"/>
                </a:solidFill>
                <a:latin typeface="Corbe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203"/>
                </a:solidFill>
                <a:latin typeface="Corbel"/>
              </a:rPr>
              <a:t>«Деление клетки. Митоз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rbel"/>
              </a:rPr>
              <a:t>Цель урока</a:t>
            </a: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13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сформировать знания о значении деления клетки для роста, развития и размножения клетки и организма в целом;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- рассмотреть механизм</a:t>
            </a:r>
            <a:r>
              <a:rPr b="0" lang="en-US" sz="40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митоза;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- охарактеризовать основные этапы жизненного и митотического цикла;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- выявить биологическое значение митоза.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395280" y="270828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08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rbel"/>
              </a:rPr>
              <a:t>Клеточный (жизненный) цикл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период существования клетки от момента ее образования путем деления исходной (материнской) клетки, включая само деление, до собственного деления или смерти.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395280" y="189000"/>
            <a:ext cx="856944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3891a7"/>
                </a:solidFill>
                <a:uFillTx/>
                <a:latin typeface="Times New Roman"/>
              </a:rPr>
              <a:t>Это интерес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клетки со временем стареют (в них накапливаются ненужные им продукты обмена) и отмирают. Подсчитано, что у взрослого человека общее количество клеток составляет более 10</a:t>
            </a:r>
            <a:r>
              <a:rPr b="1" i="1" lang="ru-RU" sz="2400" spc="-1" strike="noStrike" baseline="52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Из них ежедневно отмирает около 1–2% клеток. Так, клетки печени живут не более 18 месяцев, эритроциты – 4 месяца, клетки эпителия тонкого кишечника – 1–2 дня. Только нервные клетки живут на протяжении всей жизни человека и функционируют, не заменяясь. Все остальные клетки человека заменяются новыми приблизительно каждые 7 л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https://cf.ppt-online.org/files/slide/v/vVIPsFBnJxMNltLwmog10fhA3Hr4T6XUyKkEWd/slide-1.jpg"/>
          <p:cNvPicPr/>
          <p:nvPr/>
        </p:nvPicPr>
        <p:blipFill>
          <a:blip r:embed="rId1"/>
          <a:stretch/>
        </p:blipFill>
        <p:spPr>
          <a:xfrm>
            <a:off x="250920" y="981000"/>
            <a:ext cx="6481800" cy="441324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4"/>
          <p:cNvSpPr/>
          <p:nvPr/>
        </p:nvSpPr>
        <p:spPr>
          <a:xfrm>
            <a:off x="250920" y="235080"/>
            <a:ext cx="72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Периоды клеточного цик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Picture 7" descr="http://biologymoscow.ucoz.ru/illustracii/obwajabio/citologia/Replika_tsiya.jpg"/>
          <p:cNvPicPr/>
          <p:nvPr/>
        </p:nvPicPr>
        <p:blipFill>
          <a:blip r:embed="rId2"/>
          <a:stretch/>
        </p:blipFill>
        <p:spPr>
          <a:xfrm>
            <a:off x="6707160" y="1268280"/>
            <a:ext cx="2225880" cy="513396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12"/>
          <p:cNvSpPr/>
          <p:nvPr/>
        </p:nvSpPr>
        <p:spPr>
          <a:xfrm>
            <a:off x="2406600" y="54943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Tahoma"/>
              </a:rPr>
              <a:t>Редупликация ДН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Стрелка: изогнутая вправо 10"/>
          <p:cNvSpPr/>
          <p:nvPr/>
        </p:nvSpPr>
        <p:spPr>
          <a:xfrm rot="19411800">
            <a:off x="1709640" y="5052600"/>
            <a:ext cx="831960" cy="2016000"/>
          </a:xfrm>
          <a:custGeom>
            <a:avLst/>
            <a:gdLst>
              <a:gd name="textAreaLeft" fmla="*/ 111240 w 831960"/>
              <a:gd name="textAreaRight" fmla="*/ 720720 w 831960"/>
              <a:gd name="textAreaTop" fmla="*/ 425880 h 2016000"/>
              <a:gd name="textAreaBottom" fmla="*/ 148608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9" stAng="-5400000" swAng="-5400000"/>
                <a:lnTo>
                  <a:pt x="0" y="11357"/>
                </a:lnTo>
                <a:arcTo wR="21600" hR="9129" stAng="10800000" swAng="-3514702"/>
                <a:lnTo>
                  <a:pt x="16200" y="21310"/>
                </a:lnTo>
                <a:lnTo>
                  <a:pt x="21600" y="19372"/>
                </a:lnTo>
                <a:lnTo>
                  <a:pt x="16200" y="16854"/>
                </a:lnTo>
                <a:lnTo>
                  <a:pt x="16200" y="17968"/>
                </a:lnTo>
                <a:arcTo wR="21600" hR="9129" stAng="7285298" swAng="3336229"/>
                <a:lnTo>
                  <a:pt x="161" y="10243"/>
                </a:lnTo>
                <a:arcTo wR="21600" hR="9129" stAng="-10621527" swAng="5221527"/>
                <a:close/>
              </a:path>
              <a:path fill="darkenLess" w="21600" h="21600">
                <a:moveTo>
                  <a:pt x="21600" y="0"/>
                </a:moveTo>
                <a:arcTo wR="21600" hR="9129" stAng="-5400000" swAng="-5400000"/>
                <a:lnTo>
                  <a:pt x="0" y="9129"/>
                </a:lnTo>
                <a:arcTo wR="21600" hR="9129" stAng="10800000" swAng="-178473"/>
                <a:lnTo>
                  <a:pt x="161" y="10243"/>
                </a:lnTo>
                <a:arcTo wR="21600" hR="9129" stAng="-10621527" swAng="5221527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38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68360" y="691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Мито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(от греч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mit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нить) способ деления клетки, в результате которого образуется две абсолютно одинаковые клетки с набором хромосом, идентичным родительской клетк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Oval 4"/>
          <p:cNvSpPr/>
          <p:nvPr/>
        </p:nvSpPr>
        <p:spPr>
          <a:xfrm>
            <a:off x="2195640" y="3860640"/>
            <a:ext cx="1512720" cy="19447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Oval 5"/>
          <p:cNvSpPr/>
          <p:nvPr/>
        </p:nvSpPr>
        <p:spPr>
          <a:xfrm>
            <a:off x="5457960" y="4840200"/>
            <a:ext cx="1058760" cy="11811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Oval 6"/>
          <p:cNvSpPr/>
          <p:nvPr/>
        </p:nvSpPr>
        <p:spPr>
          <a:xfrm>
            <a:off x="5435640" y="3357720"/>
            <a:ext cx="936720" cy="12967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AutoShape 8"/>
          <p:cNvSpPr/>
          <p:nvPr/>
        </p:nvSpPr>
        <p:spPr>
          <a:xfrm rot="8068800">
            <a:off x="4031280" y="4204440"/>
            <a:ext cx="1103040" cy="952560"/>
          </a:xfrm>
          <a:custGeom>
            <a:avLst/>
            <a:gdLst>
              <a:gd name="textAreaLeft" fmla="*/ 157320 w 1103040"/>
              <a:gd name="textAreaRight" fmla="*/ 945720 w 1103040"/>
              <a:gd name="textAreaTop" fmla="*/ 544320 h 952560"/>
              <a:gd name="textAreaBottom" fmla="*/ 816480 h 9525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Oval 9"/>
          <p:cNvSpPr/>
          <p:nvPr/>
        </p:nvSpPr>
        <p:spPr>
          <a:xfrm>
            <a:off x="2666880" y="4533840"/>
            <a:ext cx="681120" cy="69552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622840" y="3736800"/>
            <a:ext cx="604800" cy="55584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Oval 11"/>
          <p:cNvSpPr/>
          <p:nvPr/>
        </p:nvSpPr>
        <p:spPr>
          <a:xfrm>
            <a:off x="5695920" y="5178600"/>
            <a:ext cx="604800" cy="55548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2735280" y="4665600"/>
            <a:ext cx="7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5618160" y="38019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691240" y="52419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1692360" y="5877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ринская клет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AutoShape 17"/>
          <p:cNvSpPr/>
          <p:nvPr/>
        </p:nvSpPr>
        <p:spPr>
          <a:xfrm>
            <a:off x="6516720" y="3357720"/>
            <a:ext cx="719280" cy="2663640"/>
          </a:xfrm>
          <a:custGeom>
            <a:avLst/>
            <a:gdLst>
              <a:gd name="textAreaLeft" fmla="*/ 0 w 719280"/>
              <a:gd name="textAreaRight" fmla="*/ 259560 w 71928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18"/>
          <p:cNvSpPr/>
          <p:nvPr/>
        </p:nvSpPr>
        <p:spPr>
          <a:xfrm rot="16200000">
            <a:off x="6730920" y="435132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черние кле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20"/>
          <p:cNvSpPr/>
          <p:nvPr/>
        </p:nvSpPr>
        <p:spPr>
          <a:xfrm>
            <a:off x="1187280" y="3284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21"/>
          <p:cNvSpPr/>
          <p:nvPr/>
        </p:nvSpPr>
        <p:spPr>
          <a:xfrm>
            <a:off x="1187280" y="623736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Line 22"/>
          <p:cNvSpPr/>
          <p:nvPr/>
        </p:nvSpPr>
        <p:spPr>
          <a:xfrm>
            <a:off x="1187280" y="328464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23"/>
          <p:cNvSpPr/>
          <p:nvPr/>
        </p:nvSpPr>
        <p:spPr>
          <a:xfrm>
            <a:off x="8244000" y="3284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91a7"/>
                </a:solidFill>
                <a:latin typeface="Corbel"/>
              </a:rPr>
              <a:t>Митоз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Фазы митоза (стр.140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089080" cy="518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2243160" cy="5184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2095560" cy="518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"/>
          <p:cNvPicPr/>
          <p:nvPr/>
        </p:nvPicPr>
        <p:blipFill>
          <a:blip r:embed="rId4"/>
          <a:stretch/>
        </p:blipFill>
        <p:spPr>
          <a:xfrm>
            <a:off x="6732720" y="1197000"/>
            <a:ext cx="2214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7:25Z</dcterms:created>
  <dc:creator>User</dc:creator>
  <dc:description/>
  <dc:language>en-US</dc:language>
  <cp:lastModifiedBy>Боевые хомички</cp:lastModifiedBy>
  <dcterms:modified xsi:type="dcterms:W3CDTF">2019-12-27T16:14:26Z</dcterms:modified>
  <cp:revision>68</cp:revision>
  <dc:subject/>
  <dc:title>Слайд 1</dc:title>
</cp:coreProperties>
</file>