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CF8-C67B-46EA-92C9-B3533F27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B36-F15A-4D76-BD6F-C59E09C7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057-E745-4F01-B990-DF152C7B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F40-2CA1-4033-9230-C0DF3D44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5116-443C-4080-A791-B804816F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E0BF-FB48-4AA9-8E14-4D9C4F89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2972-D070-4A5D-9AE6-CF902E9C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0F23-3019-4BFB-BE3B-63C150E2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348F-A29B-4F34-B37C-E092473F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87E8-B252-4B60-B37D-909C5540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3357-A636-4E47-8675-03526095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84A-9B87-48AA-956C-25592723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DB15-B3DF-4007-A0D4-3CBEFECA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2DA5-46AA-42BC-953C-47DF218E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F19D-BB6A-46AD-8A27-454F7FA5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989E-B07C-426C-8365-0019E221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74B0-313F-433B-A5B8-4BFEED03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EE8B4-D1F9-437D-A352-A4D183E1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18755-5F9E-4D55-84D5-D89FD658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3B1C5-3C4E-4E5D-A790-3ECC084E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FB082-36C7-43A0-B361-7EA5E246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322C2-562D-4B3E-9304-40FED56B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76B-38A9-40EA-86CD-DCC6B362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B7613-5552-4F2D-BF49-5A771532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C46A5-6B30-4C76-9274-70347298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D9B00-93BE-4BDE-B06F-F2C90FF0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B3248-9ED6-4375-8ABD-60765F29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26685-F4E4-4961-BCC2-BABC96A7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4531D-74C1-4E3E-A026-629F6D25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83A04-582B-4EE9-987A-443487C8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50ADE-831E-4029-81DD-6E853841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C987A-6C75-49FB-A37D-9B406E43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F74F1-9355-4E10-8AFB-6A72B23D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7EC-4EE0-4474-98D8-A2CBDED2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47457-514B-42D5-B54E-0E8FE84F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74C43-EC20-40F3-9E0A-AB8C483E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39638-8C32-4713-A948-D04A4CA1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46E7C-6D0A-4736-B1E1-D07E841E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F5B3D-C543-40D0-A2E0-19273F0F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98646-D973-4743-8CA3-B3D3F0D9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1820B-1566-4A84-B129-EEF774A9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524D5-7C03-4B7F-9CE3-E2CBD730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73507-8D24-4022-AF91-1A33F1AF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0D5-5DDB-4DF3-9D6A-0CAA07FD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B36-FBD9-4A6B-B69F-1D1470BC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5126-7188-4D75-97AF-5C6C0649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57F-AC18-4E2B-AB41-B54F1097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933-0F34-4290-9FA9-C03B6B59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194E-2A06-4645-97C2-34692CEF84F1}" type="slidenum">
              <a:rPr b="0" lang="zh-CN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7A1B-57EB-454F-8DC8-9E1A628B4D8E}" type="slidenum">
              <a:rPr b="0" lang="zh-CN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BC2A-68EF-48B7-8F72-8451F4EE8BB0}" type="slidenum">
              <a:rPr b="0" lang="zh-CN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6D14-8F74-4A5E-8BD2-D8C5F21AAABB}" type="slidenum">
              <a:rPr b="0" lang="zh-CN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2033"/>
            </a:gs>
            <a:gs pos="100000">
              <a:srgbClr val="8283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713880" y="3567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edede"/>
                </a:solidFill>
                <a:latin typeface="Georgia"/>
              </a:rPr>
              <a:t>Система по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lnSpc>
                <a:spcPct val="2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00"/>
                </a:solidFill>
                <a:latin typeface="Trebuchet MS"/>
              </a:rPr>
              <a:t>Система подготовки </a:t>
            </a:r>
            <a:endParaRPr b="0" lang="en-US" sz="56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00"/>
                </a:solidFill>
                <a:latin typeface="Trebuchet MS"/>
              </a:rPr>
              <a:t>к ОГЭ по физике </a:t>
            </a:r>
            <a:endParaRPr b="0" lang="en-US" sz="56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lnSpc>
                <a:spcPct val="2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5" name="Рисунок 3" descr=""/>
          <p:cNvPicPr/>
          <p:nvPr/>
        </p:nvPicPr>
        <p:blipFill>
          <a:blip r:embed="rId1"/>
          <a:stretch/>
        </p:blipFill>
        <p:spPr>
          <a:xfrm>
            <a:off x="4643280" y="4214880"/>
            <a:ext cx="4318200" cy="24289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4"/>
          <p:cNvSpPr/>
          <p:nvPr/>
        </p:nvSpPr>
        <p:spPr>
          <a:xfrm>
            <a:off x="364320" y="578628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Казаева К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22160" y="71388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lang="ru-RU" sz="2100" spc="-1" strike="noStrike">
                <a:solidFill>
                  <a:srgbClr val="c00000"/>
                </a:solidFill>
                <a:latin typeface="Georgia"/>
              </a:rPr>
              <a:t>Чтобы получить 3 балла за задачу 25</a:t>
            </a: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, необходимо верно записать краткое условие задачи, привести уравнения и формулы, необходимые и достаточные для решения задачи, правильно выполнить все математические преобразования и расчёты и указать верный ответ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lang="ru-RU" sz="2100" spc="-1" strike="noStrike">
                <a:solidFill>
                  <a:srgbClr val="c00000"/>
                </a:solidFill>
                <a:latin typeface="Georgia"/>
              </a:rPr>
              <a:t>Вы получите только 2 балла </a:t>
            </a: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→ если всё верно, но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     </a:t>
            </a: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- ошиблись в записи краткого условия задачи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     </a:t>
            </a: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- неправильно перевели единицы в СИ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     </a:t>
            </a: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- привели только решение без расчётов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     </a:t>
            </a: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- неправильно выполнили математические преобразования или ошиблись в вычислениях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00000"/>
                </a:solidFill>
                <a:latin typeface="Georgia"/>
              </a:rPr>
              <a:t>Вы получите только 1 балл </a:t>
            </a: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→ если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- записали не все формулы, необходимые и достаточные для решения задачи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- привели все формулы, но в одной из них допустили ошибку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064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rebuchet MS"/>
              </a:rPr>
              <a:t>. </a:t>
            </a:r>
            <a:br>
              <a:rPr sz="1200"/>
            </a:br>
            <a:endParaRPr b="0" lang="en-US" sz="23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7" name="Прямоугольник 3" descr=""/>
          <p:cNvPicPr/>
          <p:nvPr/>
        </p:nvPicPr>
        <p:blipFill>
          <a:blip r:embed="rId1"/>
          <a:stretch/>
        </p:blipFill>
        <p:spPr>
          <a:xfrm>
            <a:off x="476280" y="536400"/>
            <a:ext cx="8271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03360" y="444600"/>
            <a:ext cx="8034120" cy="13348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73753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623316"/>
                </a:solidFill>
                <a:latin typeface="Times New Roman"/>
                <a:ea typeface="Times New Roman"/>
              </a:rPr>
              <a:t>	</a:t>
            </a:r>
            <a:endParaRPr b="0" lang="en-US" sz="10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500040" y="2286000"/>
            <a:ext cx="8143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331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23316"/>
                </a:solidFill>
                <a:latin typeface="Times New Roman"/>
                <a:ea typeface="Times New Roman"/>
              </a:rPr>
              <a:t>Начинать подготовку учащихся к экзамену необходимо как можно раньше. Учитель физики, как предметник, может и должен делать это с 8 класса и на протяжении последующих лет работы в данном классе. Самым интенсивным периодом подготовки учащихся к ЕГЭ по физике является последний год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3316"/>
                </a:solidFill>
                <a:latin typeface="Times New Roman"/>
                <a:ea typeface="Times New Roman"/>
              </a:rPr>
              <a:t>Работа должна проводиться по трем направлениям:</a:t>
            </a:r>
            <a:br>
              <a:rPr sz="2000"/>
            </a:br>
            <a:r>
              <a:rPr b="0" lang="ru-RU" sz="2000" spc="-1" strike="noStrike">
                <a:solidFill>
                  <a:srgbClr val="623316"/>
                </a:solidFill>
                <a:latin typeface="Times New Roman"/>
                <a:ea typeface="Times New Roman"/>
              </a:rPr>
              <a:t>•          Работа по самообразованию и методическая работа учителя;</a:t>
            </a:r>
            <a:br>
              <a:rPr sz="2000"/>
            </a:br>
            <a:r>
              <a:rPr b="0" lang="ru-RU" sz="2000" spc="-1" strike="noStrike">
                <a:solidFill>
                  <a:srgbClr val="623316"/>
                </a:solidFill>
                <a:latin typeface="Times New Roman"/>
                <a:ea typeface="Times New Roman"/>
              </a:rPr>
              <a:t>•          Работа с учащимися;</a:t>
            </a:r>
            <a:br>
              <a:rPr sz="2000"/>
            </a:br>
            <a:r>
              <a:rPr b="0" lang="ru-RU" sz="2000" spc="-1" strike="noStrike">
                <a:solidFill>
                  <a:srgbClr val="623316"/>
                </a:solidFill>
                <a:latin typeface="Times New Roman"/>
                <a:ea typeface="Times New Roman"/>
              </a:rPr>
              <a:t>•          Работа с родителя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Текст 2" descr=""/>
          <p:cNvPicPr/>
          <p:nvPr/>
        </p:nvPicPr>
        <p:blipFill>
          <a:blip r:embed="rId1"/>
          <a:stretch/>
        </p:blipFill>
        <p:spPr>
          <a:xfrm>
            <a:off x="822240" y="426960"/>
            <a:ext cx="760248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993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        </a:t>
            </a: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ательная и методическая работа учителя,  работа с учащимися по подготовке к итоговой аттестации – основная часть всего периода подготовки к ОГЭ. Но есть и другая не менее важная миссия у учителя выпускного класса. Это работа с родителями, администрацией школы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42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родителями предполагает выступление учителя-предметника на родительских собраниях учащихся с целью информированности родителей о порядке и сроках проведения ОГЭ. А также о ходе подготовки к итоговой аттестаци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42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объяснить родителям о создании домашней атмосферы, и даже о том, что домашнее меню должно несколько отличаться от обычного в дни сдачи ребенком выпускных экзамено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42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ность действий учителя – предметника и администрации образовательного учреждения – это еще одна слагающая успеха в достижении общей цели – получение желаемых результатов выпускных экзамено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722160" y="7858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42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ПАСИБО ЗА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НИМАНИЕ!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396720" y="-6480"/>
            <a:ext cx="7875720" cy="52246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2"/>
          <p:cNvSpPr/>
          <p:nvPr/>
        </p:nvSpPr>
        <p:spPr>
          <a:xfrm>
            <a:off x="1500120" y="714240"/>
            <a:ext cx="57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процедурой проведения ОГЭ по физике и изменениями в стру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22160" y="999720"/>
            <a:ext cx="777240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За отведенные форматом ОГЭ      180 минут,                  девятиклассникам предстоит дать ответ на 25 вопросов, среди которых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- вопросы на знание теоретических основ тем, изученных в 7-9 классах;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- задачи различных уровней сложности;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- эксперимент, для выполнения которого необходимо будет воспользоваться лабораторным оборудованием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669960" y="566640"/>
            <a:ext cx="7894440" cy="9381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22" name="Объект 3" descr=""/>
          <p:cNvPicPr/>
          <p:nvPr/>
        </p:nvPicPr>
        <p:blipFill>
          <a:blip r:embed="rId2"/>
          <a:stretch/>
        </p:blipFill>
        <p:spPr>
          <a:xfrm>
            <a:off x="285840" y="2357280"/>
            <a:ext cx="81612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706320" y="1133640"/>
            <a:ext cx="7785360" cy="8046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25" name="Объект 3" descr=""/>
          <p:cNvPicPr/>
          <p:nvPr/>
        </p:nvPicPr>
        <p:blipFill>
          <a:blip r:embed="rId2"/>
          <a:stretch/>
        </p:blipFill>
        <p:spPr>
          <a:xfrm>
            <a:off x="285840" y="2357280"/>
            <a:ext cx="8572320" cy="32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706320" y="920880"/>
            <a:ext cx="7785360" cy="6588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28" name="Объект 3" descr=""/>
          <p:cNvPicPr/>
          <p:nvPr/>
        </p:nvPicPr>
        <p:blipFill>
          <a:blip r:embed="rId2"/>
          <a:stretch/>
        </p:blipFill>
        <p:spPr>
          <a:xfrm>
            <a:off x="571680" y="2571840"/>
            <a:ext cx="82864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706320" y="493560"/>
            <a:ext cx="7785360" cy="798840"/>
          </a:xfrm>
          <a:prstGeom prst="rect">
            <a:avLst/>
          </a:prstGeom>
          <a:ln w="0">
            <a:noFill/>
          </a:ln>
        </p:spPr>
      </p:pic>
      <p:pic>
        <p:nvPicPr>
          <p:cNvPr id="230" name="Текст 2" descr=""/>
          <p:cNvPicPr/>
          <p:nvPr/>
        </p:nvPicPr>
        <p:blipFill>
          <a:blip r:embed="rId2"/>
          <a:stretch/>
        </p:blipFill>
        <p:spPr>
          <a:xfrm>
            <a:off x="701640" y="1463760"/>
            <a:ext cx="7802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8076960" cy="889200"/>
          </a:xfrm>
          <a:prstGeom prst="rect">
            <a:avLst/>
          </a:prstGeom>
          <a:ln w="0">
            <a:noFill/>
          </a:ln>
        </p:spPr>
      </p:pic>
      <p:pic>
        <p:nvPicPr>
          <p:cNvPr id="232" name="Текст 2" descr=""/>
          <p:cNvPicPr/>
          <p:nvPr/>
        </p:nvPicPr>
        <p:blipFill>
          <a:blip r:embed="rId2"/>
          <a:stretch/>
        </p:blipFill>
        <p:spPr>
          <a:xfrm>
            <a:off x="590400" y="1609560"/>
            <a:ext cx="815184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633240" y="493560"/>
            <a:ext cx="7785360" cy="731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722160" y="135684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На что обратить внима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- Обязательно записывайте краткое условие — что вам дано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- Внесите в «дано» все величины. Даже те, которые не упомянуты в задаче, но которые вы будете использовать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- Все величины должны быть в одних единицах измерения (СИ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- Объясняйте введение всех новых величин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- Рисунки и схемы должны быть понятными и отражать условие задач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- Расписывайте каждое ваше действ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- Всегда пишите слово «ответ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- Критерии оценива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3T01:48:10Z</dcterms:created>
  <dc:creator>1</dc:creator>
  <dc:description/>
  <cp:keywords/>
  <dc:language>en-US</dc:language>
  <cp:lastModifiedBy>user</cp:lastModifiedBy>
  <cp:lastPrinted>2016-09-23T10:10:06Z</cp:lastPrinted>
  <dcterms:modified xsi:type="dcterms:W3CDTF">2019-12-27T05:00:07Z</dcterms:modified>
  <cp:revision>3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50</vt:lpwstr>
  </property>
</Properties>
</file>