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C1F-BB97-4E72-9CBE-243FBE43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441-873C-4356-8900-ACD934A1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28C-49FF-40E6-967A-4E37AED2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410-15BD-4B49-B99B-0A923411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D214-6FEB-44EB-9DEA-9BF52C98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FF32-EFAD-46B2-BF77-88FA66F4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B092-203E-42C0-83A6-2374B734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DB59-6754-4166-B0CE-06BC8CB1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6A38-5751-4AA8-A967-2875B063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EAFD-92F5-4809-98A0-6784EFC1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3318-DAE2-49A8-B2C2-29B762F7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748-73DD-4E87-B032-C4604237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9E3-7045-49A3-B691-D0DD682B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E867-1460-45B5-A0AE-A3EB7C64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F973-590D-4544-A46A-C631B3BB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BF1A-31B5-41B6-A029-D8024763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7D10-F2DF-41F4-90D4-AE6567DC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3ED7-779E-4010-8BC3-3361AA03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B1FB-82DE-4ADD-BFDC-DF53D33B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811E-A809-49B6-8B3B-3C4C6D0C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A631-8A1B-4C0B-9546-CD3B64B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AF07-9E6D-4B34-B037-469D2EB2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E69-3477-4089-9B52-ADF39D01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32A8-20DB-47FC-906F-5531403B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914DD-1799-4ADC-9814-52C769B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2DDB-38CB-43FD-82B3-65999C5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F654-19DF-4FE8-9887-707DF434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1A87-3680-49A2-9E9D-0C07D182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366D-AC54-4B53-87E2-83C2D4DC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E017-6692-4E05-B1B2-0ECC8B02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9EB-C509-456B-907F-B74B6050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B84-527D-4D09-89C5-ACAEB3BA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E47-A83E-4851-90CE-FFFABE91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B78-ABA0-4992-9D57-143F1D3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18A-2BD2-4BB7-97A4-8880155B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B0C-CC1B-4DCC-8AA4-45684187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34D1-EE4A-4FBC-9F9B-60265A509919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9A0D-27D3-4FB6-9051-575DFC387A7D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1422-EE2E-4A54-B239-9CCA34DFFAD1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РАЦИОНАЛЬНЫЕ УРАВНЕНИЯ </a:t>
            </a:r>
            <a:br>
              <a:rPr sz="8800"/>
            </a:b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895120" y="45716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1282e"/>
                </a:solidFill>
                <a:latin typeface="Arial Black"/>
              </a:rPr>
              <a:t>( 10 КЛАСС</a:t>
            </a:r>
            <a:r>
              <a:rPr b="0" lang="en-US" sz="2000" spc="-1" strike="noStrike">
                <a:solidFill>
                  <a:srgbClr val="d1282e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d1282e"/>
                </a:solidFill>
                <a:latin typeface="Arial Black"/>
              </a:rPr>
              <a:t>ПОВТОРЕНИЕ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492120" y="928800"/>
            <a:ext cx="82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3659"/>
                </a:solidFill>
                <a:latin typeface="Arial"/>
              </a:rPr>
              <a:t>Линейные уравнения:          а</a:t>
            </a:r>
            <a:r>
              <a:rPr b="1" lang="en-US" sz="3200" spc="-1" strike="noStrike">
                <a:solidFill>
                  <a:srgbClr val="283659"/>
                </a:solidFill>
                <a:latin typeface="Arial"/>
              </a:rPr>
              <a:t>x+b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3659"/>
                </a:solidFill>
                <a:latin typeface="Arial"/>
              </a:rPr>
              <a:t>Квадратные уравнения:         </a:t>
            </a:r>
            <a:r>
              <a:rPr b="1" lang="en-US" sz="3200" spc="-1" strike="noStrike">
                <a:solidFill>
                  <a:srgbClr val="283659"/>
                </a:solidFill>
                <a:latin typeface="Arial"/>
              </a:rPr>
              <a:t>ax</a:t>
            </a:r>
            <a:r>
              <a:rPr b="1" lang="en-US" sz="3200" spc="-1" strike="noStrike" baseline="30000">
                <a:solidFill>
                  <a:srgbClr val="28365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283659"/>
                </a:solidFill>
                <a:latin typeface="Arial"/>
              </a:rPr>
              <a:t>+bx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5"/>
          <p:cNvCxnSpPr/>
          <p:nvPr/>
        </p:nvCxnSpPr>
        <p:spPr>
          <a:xfrm flipH="1">
            <a:off x="6714360" y="2428560"/>
            <a:ext cx="2520" cy="500760"/>
          </a:xfrm>
          <a:prstGeom prst="straightConnector1">
            <a:avLst/>
          </a:prstGeom>
          <a:ln w="28440">
            <a:solidFill>
              <a:srgbClr val="b89101"/>
            </a:solidFill>
            <a:miter/>
            <a:tailEnd len="med" type="arrow" w="med"/>
          </a:ln>
        </p:spPr>
      </p:cxnSp>
      <p:sp>
        <p:nvSpPr>
          <p:cNvPr id="133" name="TextBox 6"/>
          <p:cNvSpPr/>
          <p:nvPr/>
        </p:nvSpPr>
        <p:spPr>
          <a:xfrm>
            <a:off x="3538440" y="27860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3659"/>
                </a:solidFill>
                <a:latin typeface="Arial"/>
              </a:rPr>
              <a:t>Неполные квадратные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8"/>
          <p:cNvCxnSpPr/>
          <p:nvPr/>
        </p:nvCxnSpPr>
        <p:spPr>
          <a:xfrm flipH="1">
            <a:off x="4929120" y="3286080"/>
            <a:ext cx="643320" cy="357840"/>
          </a:xfrm>
          <a:prstGeom prst="straightConnector1">
            <a:avLst/>
          </a:prstGeom>
          <a:ln w="28440">
            <a:solidFill>
              <a:srgbClr val="b89101"/>
            </a:solidFill>
            <a:miter/>
            <a:tailEnd len="med" type="arrow" w="med"/>
          </a:ln>
        </p:spPr>
      </p:cxnSp>
      <p:cxnSp>
        <p:nvCxnSpPr>
          <p:cNvPr id="135" name="Прямая со стрелкой 10"/>
          <p:cNvCxnSpPr/>
          <p:nvPr/>
        </p:nvCxnSpPr>
        <p:spPr>
          <a:xfrm>
            <a:off x="6571800" y="3285720"/>
            <a:ext cx="786600" cy="429480"/>
          </a:xfrm>
          <a:prstGeom prst="straightConnector1">
            <a:avLst/>
          </a:prstGeom>
          <a:ln w="28440">
            <a:solidFill>
              <a:srgbClr val="b89101"/>
            </a:solidFill>
            <a:miter/>
            <a:tailEnd len="med" type="arrow" w="med"/>
          </a:ln>
        </p:spPr>
      </p:cxnSp>
      <p:sp>
        <p:nvSpPr>
          <p:cNvPr id="136" name="TextBox 13"/>
          <p:cNvSpPr/>
          <p:nvPr/>
        </p:nvSpPr>
        <p:spPr>
          <a:xfrm>
            <a:off x="4050720" y="364320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4a5a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484a5a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84a5a"/>
                </a:solidFill>
                <a:latin typeface="Arial"/>
              </a:rPr>
              <a:t>+b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747480" y="3643200"/>
            <a:ext cx="15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4a5a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484a5a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84a5a"/>
                </a:solidFill>
                <a:latin typeface="Arial"/>
              </a:rPr>
              <a:t>+c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554040" y="4357800"/>
            <a:ext cx="79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робно – рациональные уравнения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Объект 16"/>
              <p:cNvSpPr txBox="1"/>
              <p:nvPr/>
            </p:nvSpPr>
            <p:spPr>
              <a:xfrm>
                <a:off x="1832040" y="4857840"/>
                <a:ext cx="5715000" cy="18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иводятся</m:t>
                        </m:r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иду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ногочлены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РЕШИТЕ КВАДРАТНЫЕ УРАВНЕНИЯ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Объект 3"/>
              <p:cNvSpPr txBox="1"/>
              <p:nvPr/>
            </p:nvSpPr>
            <p:spPr>
              <a:xfrm>
                <a:off x="717480" y="1504800"/>
                <a:ext cx="7740720" cy="46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560" y="2565000"/>
            <a:ext cx="856908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Алгоритм решения дробно-рационального уравнения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найти общий знаменатель дробей, входящих в уравнение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d1282e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d1282e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 умножить обе части уравнения на общий знаменатель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d1282e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d1282e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 решить получившееся целое уравнение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d1282e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d1282e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 исключить из его корней те, которые обращают в нуль общий знаменатель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523880" y="304920"/>
                <a:ext cx="590580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extBox 3" descr=""/>
          <p:cNvPicPr/>
          <p:nvPr/>
        </p:nvPicPr>
        <p:blipFill>
          <a:blip r:embed="rId1"/>
          <a:stretch/>
        </p:blipFill>
        <p:spPr>
          <a:xfrm>
            <a:off x="60480" y="706320"/>
            <a:ext cx="8742240" cy="86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Объект 5"/>
              <p:cNvSpPr txBox="1"/>
              <p:nvPr/>
            </p:nvSpPr>
            <p:spPr>
              <a:xfrm>
                <a:off x="928800" y="1357200"/>
                <a:ext cx="4197240" cy="521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,3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,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,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,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мин</dc:creator>
  <dc:description/>
  <dc:language>en-US</dc:language>
  <cp:lastModifiedBy>Димин</cp:lastModifiedBy>
  <dcterms:modified xsi:type="dcterms:W3CDTF">2019-09-04T02:48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