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B44-3FAF-4B19-828C-85B79165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25A-D643-45F7-BFE0-C49775B9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1A9-F434-4593-8976-6AAE71E7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CC8-0632-4891-96ED-BE2D7D68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8E9D-5844-49C7-BC2A-DFD95642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AA0E-071B-43F2-8371-B2C407F9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30AF-E4E9-43C3-B1E1-67F7C186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1B28-8477-4AA2-B903-BEECEEC3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0570-4DAD-4FF4-AEA9-2AB0126D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B36C-6EBA-4E9E-94C5-3062069C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EA3C-CB1B-41BF-B4F7-3874839A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46A-3F93-4321-9D64-E8C5B227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6036-F638-458E-B41A-834A38D9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CADD-BD91-4A01-9454-CE75D5BE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E0E3-8316-428C-82AE-8712B877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FC35-4B77-4C52-85C2-E89F25DC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E4D4-0E5E-4E60-8D0B-3DF519F7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038E-4D25-4C8A-97A7-48B83BDD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AED7F-B1A6-49FB-8F9E-218B692E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AC7AD-E29C-4BAA-B59C-F28FDEA4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8A3D5-F46E-4D9A-B618-8262FC9F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36BEB-5D47-4A3A-B8CB-39A2E270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6A8-6836-459E-8216-A3C5827D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27397-5465-4D96-A951-35D6EACC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70A99-C9A1-4EFF-B3E9-858BBDAB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B5BA-9AA0-4F00-863D-EE5C456A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C59B6-C2DF-4F1E-A0BB-ED2C931A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29AB5-5BC2-49B1-9CAB-59EB78F0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7EEC7-50C2-435B-B7F5-FD29879A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E925-8620-4090-852D-00EF0FA0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1B68F-CB16-4A39-8E05-441A09A3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8E283-D044-4F6F-8708-E9BAF653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DA83A-002A-4840-B6AA-1440FBE0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18D-CC96-4D21-BD1E-DE98AADD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68806-8D5D-4338-9FCD-232995CC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96F76-F5D9-4636-8896-B70FE75B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D5BD1-8F0E-49BA-B0B4-73E252B5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9809C-7B2C-4584-8058-3ABD3409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D41DF-D369-4408-BFD8-1E5EFFE7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FFAE4-5184-49F7-8C3F-15E857DE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5F648-0F21-4231-91C3-62885186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6D27E-3216-43FA-87F8-77338D9C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E0678-B273-4AAC-A86C-A27563BC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5E6A9-B4F5-4F82-A525-DC1AEDE2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AAF-F053-4700-834B-4DA4FFA7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B332A-8E9E-4971-B42C-63F63527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C923E-995E-4634-A6D1-683AA4A2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41265-ABB8-4992-BEF8-74712EC2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01338-594E-4FC1-A69B-E9209D65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CFAE4-C904-4B28-B198-970F9E26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6FACD-1877-4892-AA51-75E721A0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8529D-ED7C-476A-9984-4605FCA8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A01BA-EF65-43CB-9B88-C7173F9F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FE240-00F8-4A54-92EF-B313EAFF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41821-0E96-4EF3-AAE9-2D13E81C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301-C2D9-4441-9C54-A3CFE5F6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76A34-23A6-4738-BBC6-275EDE21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D74C8-89DE-4D10-B397-EE9B91EA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565B2-8045-4145-92D7-DD0E2682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144A3-8642-4F17-B378-5C16B17E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3F625-4D01-4171-9AAA-2023D952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61433-4B8E-4EFE-900F-1975128B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AB3C2-F577-49DD-845D-6BA67FE6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2BCF7-38CC-4B82-8E25-D0CC9DC0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67E58-CECF-46B4-8220-5F2ADBD1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99CA6-FB7B-40E7-AEE1-80B24464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F3F-79F7-4404-996D-AD67722E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3A2FA-C9C0-40FD-A362-FCFB7EA4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1F74D-7235-4FFB-BED9-31616EE8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068D0-CDE3-49C2-B1B8-FF41AEE4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5B54F-8748-4202-B0FE-003299B9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7C5B6-0032-41FB-AF0F-6212627C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F4180-7257-4154-8DCE-81B70B22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CEF64-90EF-43E7-8061-C94220C7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696A0-4C89-41AC-A654-AD95ADA8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5A334-5BB3-497E-93A4-20EBEB04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563A7-217F-483E-A4AF-83536D4C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771-4130-48A0-AD9D-09B5C283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30291-BFC5-4B9F-8B7B-ED22C233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78ADB-A29E-4A4E-A1B7-2BB5FA5D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B797F-9EA2-4BD6-87FC-F4F00DA9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7C01D-205B-45DB-A860-99DB0AE5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9FBA2-9494-4947-A1D2-5C5D8865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230C2-8484-4548-AB61-39344EE3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47858-E17F-4C3E-9E61-67C3C4BB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48211-5127-4622-87D3-49C93152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6B5FD-17E6-48EC-8BB2-5E98BE4F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D648E-935E-4D73-96D4-4ECAE518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905-9CAB-47C8-8C54-84B3BDBF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07D68-1674-415E-8423-E999F22E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49A5C-08CA-4EC4-9C62-A1B4C63E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EDDD4-73E9-4A1E-BDFE-0D234B4B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BD280-CAE4-47AD-92EC-485E9C71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E1FE2-0F15-4EA6-9163-D2FB8744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3B058-6357-4D2B-A635-973D514D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95E9F-EBE6-485D-9BA3-BE93954E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FA23-3228-4FB1-90AE-500A2E966637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F159-AE0E-45E0-9194-CDE3F8C980C4}" type="slidenum">
              <a:rPr b="0" lang="ru-RU" sz="900" spc="-1" strike="noStrike">
                <a:solidFill>
                  <a:srgbClr val="90c226"/>
                </a:solidFill>
                <a:latin typeface="Comic Sans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7C2B-B559-4C12-B6CE-E144149E0199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F915-A953-4BE2-98C2-6C61A1500DF9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82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4183-79EB-487D-9A1C-462A54041269}" type="slidenum">
              <a:rPr b="0" lang="ru-RU" sz="900" spc="-1" strike="noStrike">
                <a:solidFill>
                  <a:srgbClr val="90c226"/>
                </a:solidFill>
                <a:latin typeface="Comic Sans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3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369E-5AB7-4221-A65F-58A5652C80D4}" type="slidenum">
              <a:rPr b="0" lang="ru-RU" sz="900" spc="-1" strike="noStrike">
                <a:solidFill>
                  <a:srgbClr val="90c226"/>
                </a:solidFill>
                <a:latin typeface="Comic Sans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8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3B18-B8F5-451B-A92F-9A618816CAC2}" type="slidenum">
              <a:rPr b="0" lang="ru-RU" sz="900" spc="-1" strike="noStrike">
                <a:solidFill>
                  <a:srgbClr val="90c226"/>
                </a:solidFill>
                <a:latin typeface="Comic Sans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4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2ABC-8D90-4EA2-9A54-9B1D750662FD}" type="slidenum">
              <a:rPr b="0" lang="ru-RU" sz="900" spc="-1" strike="noStrike">
                <a:solidFill>
                  <a:srgbClr val="90c226"/>
                </a:solidFill>
                <a:latin typeface="Comic Sans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ПОВТОРЕНИЕ материала по курсу алгебры за 8 класс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b9d181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02020201"/>
          <p:cNvPicPr/>
          <p:nvPr/>
        </p:nvPicPr>
        <p:blipFill>
          <a:blip r:embed="rId1"/>
          <a:srcRect l="2522" t="4354" r="3099" b="7241"/>
          <a:stretch/>
        </p:blipFill>
        <p:spPr>
          <a:xfrm>
            <a:off x="30240" y="1484280"/>
            <a:ext cx="8813880" cy="48006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250920" y="692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горитм поиска корней квадратного урав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Образец решения квадратного уравнения</a:t>
            </a: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3128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12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en-US" sz="28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+ 7x + 1 = 0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а=12,    в=7,    с=1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D =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7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²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 4∙12∙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= 49-48=1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Trebuchet MS"/>
              </a:rPr>
              <a:t>1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=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-7-1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= -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8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=-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1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ru-RU" sz="2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800" spc="-1" strike="noStrike" baseline="-25000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=-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-7+1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= -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1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2∙12     24   3,           2∙12    4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твет:  -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1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, -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 1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.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          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3       4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8151840" cy="67788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09800" y="182880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09800" y="373392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20" name="Рисунок 5" descr=""/>
          <p:cNvPicPr/>
          <p:nvPr/>
        </p:nvPicPr>
        <p:blipFill>
          <a:blip r:embed="rId1"/>
          <a:stretch/>
        </p:blipFill>
        <p:spPr>
          <a:xfrm>
            <a:off x="39600" y="930240"/>
            <a:ext cx="9140760" cy="53024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609800" y="182880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09800" y="373392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25" name="Рисунок 5" descr=""/>
          <p:cNvPicPr/>
          <p:nvPr/>
        </p:nvPicPr>
        <p:blipFill>
          <a:blip r:embed="rId1"/>
          <a:stretch/>
        </p:blipFill>
        <p:spPr>
          <a:xfrm>
            <a:off x="65160" y="216000"/>
            <a:ext cx="9090000" cy="62373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09800" y="182880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09800" y="373392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30" name="Рисунок 5" descr=""/>
          <p:cNvPicPr/>
          <p:nvPr/>
        </p:nvPicPr>
        <p:blipFill>
          <a:blip r:embed="rId1"/>
          <a:stretch/>
        </p:blipFill>
        <p:spPr>
          <a:xfrm>
            <a:off x="230040" y="509760"/>
            <a:ext cx="9021960" cy="464796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09800" y="182880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09800" y="373392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ешите устно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09120" y="1268280"/>
            <a:ext cx="713124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5+8                -5∙(-8)               Упростите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5+(-8)          -4,5:1,5              0-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5+8              -4,2:0,8              в∙в∙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5-(-8)           36:(-0,6)            х:х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(-5)+8           -2,1:(-3)             у+у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5∙8                0:(-5)                х:0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аскройте скобки:</a:t>
            </a:r>
            <a:br>
              <a:rPr sz="3600"/>
            </a:b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2∙(в+с-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)           -3∙(в-с+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)</a:t>
            </a:r>
            <a:br>
              <a:rPr sz="3600"/>
            </a:b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-5(в+с-0,5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)      0,4(0,2а-0,12в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23640" y="299736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ложите на множители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9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en-US" sz="24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-16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;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en-US" sz="24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+6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x+9; a</a:t>
            </a:r>
            <a:r>
              <a:rPr b="0" lang="en-US" sz="24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-10a+25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зовите коэффициенты квадратного уравнения: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                                   x</a:t>
            </a:r>
            <a:r>
              <a:rPr b="0" lang="en-US" sz="24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+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x-6=0; 7+3x-2x</a:t>
            </a:r>
            <a:r>
              <a:rPr b="0" lang="en-US" sz="24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=0; -4x-x</a:t>
            </a:r>
            <a:r>
              <a:rPr b="0" lang="en-US" sz="24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+1=0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ешить уравнение: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                   x</a:t>
            </a:r>
            <a:r>
              <a:rPr b="0" lang="en-US" sz="24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15=0;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en-US" sz="24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+25=0;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en-US" sz="24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+8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x=0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2064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Тема: «Решение линейных и квадратных уравнений»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90c226"/>
                </a:solidFill>
                <a:latin typeface="Trebuchet MS"/>
              </a:rPr>
              <a:t>При чтении уравнений названия букв х,у,</a:t>
            </a:r>
            <a:r>
              <a:rPr b="0" lang="en-US" sz="2200" spc="-1" strike="noStrike">
                <a:solidFill>
                  <a:srgbClr val="90c226"/>
                </a:solidFill>
                <a:latin typeface="Trebuchet MS"/>
              </a:rPr>
              <a:t>z</a:t>
            </a:r>
            <a:r>
              <a:rPr b="0" lang="ru-RU" sz="2200" spc="-1" strike="noStrike">
                <a:solidFill>
                  <a:srgbClr val="90c226"/>
                </a:solidFill>
                <a:latin typeface="Trebuchet MS"/>
              </a:rPr>
              <a:t>- мужского рода, а названия остальных латинских букв- среднего рода(склонять названия букв в математике не принято).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ринято при решении  уравнений переносить слагаемые так, чтобы в левой части уравнения были неизвестные числа, а с правой- известны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ри переносе  слагаемого в другую сторону, знак его меняе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90c226"/>
                </a:solidFill>
                <a:latin typeface="Trebuchet MS"/>
              </a:rPr>
              <a:t>Умножаем обе части уравнения на одно и то же число, чтобы избавиться от дробных чисел.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90c226"/>
                </a:solidFill>
                <a:latin typeface="Trebuchet MS"/>
              </a:rPr>
              <a:t>Чтобы найти неизвестный множитель, надо произведение умножить на известный множитель.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рни уравнения не изменяются, если обе части уравнения умножить или разделить на одно и то же число, не равное нулю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рни уравнения не  изменяются, если какое-либо слагаемое перенести из одной части в другую, не изменив при этом знак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0c226"/>
                </a:solidFill>
                <a:latin typeface="Trebuchet MS"/>
              </a:rPr>
              <a:t>Верно ли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09480" y="1052280"/>
            <a:ext cx="777888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Дано уравнение:3х-0,4=-5х+0,7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Ученик  решил его так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3х+5х=0,7-0,4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8х=0,3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Х=0,3:8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Х=3/8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Устные упражнения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2520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rebuchet MS"/>
              </a:rPr>
              <a:t>Решите уравнения:       Сократите</a:t>
            </a:r>
            <a:r>
              <a:rPr b="1" i="1" lang="en-US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3200" spc="-1" strike="noStrike">
                <a:solidFill>
                  <a:srgbClr val="404040"/>
                </a:solidFill>
                <a:latin typeface="Trebuchet MS"/>
              </a:rPr>
              <a:t>дробь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rebuchet MS"/>
              </a:rPr>
              <a:t>(х-5)(х+7)=0            </a:t>
            </a:r>
            <a:r>
              <a:rPr b="1" i="1" lang="en-US" sz="32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i="1" lang="ru-RU" sz="3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i="1" lang="ru-RU" sz="3200" spc="-1" strike="noStrike" u="sng">
                <a:solidFill>
                  <a:srgbClr val="404040"/>
                </a:solidFill>
                <a:uFillTx/>
                <a:latin typeface="Trebuchet MS"/>
              </a:rPr>
              <a:t>2 </a:t>
            </a:r>
            <a:r>
              <a:rPr b="1" i="1" lang="ru-RU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1" i="1" lang="ru-RU" sz="3200" spc="-1" strike="noStrike" u="sng">
                <a:solidFill>
                  <a:srgbClr val="404040"/>
                </a:solidFill>
                <a:uFillTx/>
                <a:latin typeface="Trebuchet MS"/>
              </a:rPr>
              <a:t>10  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rebuchet MS"/>
              </a:rPr>
              <a:t>(х+1)(х+4)=0             </a:t>
            </a:r>
            <a:r>
              <a:rPr b="1" i="1" lang="en-US" sz="32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i="1" lang="ru-RU" sz="3200" spc="-1" strike="noStrike">
                <a:solidFill>
                  <a:srgbClr val="404040"/>
                </a:solidFill>
                <a:latin typeface="Trebuchet MS"/>
              </a:rPr>
              <a:t> 6      45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rebuchet MS"/>
              </a:rPr>
              <a:t>Х(х-2)(х+6)=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rebuchet MS"/>
              </a:rPr>
              <a:t>-у=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rebuchet MS"/>
              </a:rPr>
              <a:t>-3а =2                    </a:t>
            </a:r>
            <a:r>
              <a:rPr b="1" i="1" lang="en-US" sz="32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1" i="1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3200" spc="-1" strike="noStrike" u="sng">
                <a:solidFill>
                  <a:srgbClr val="404040"/>
                </a:solidFill>
                <a:uFillTx/>
                <a:latin typeface="Trebuchet MS"/>
              </a:rPr>
              <a:t>20 </a:t>
            </a:r>
            <a:r>
              <a:rPr b="1" i="1" lang="ru-RU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1" i="1" lang="ru-RU" sz="3200" spc="-1" strike="noStrike" u="sng">
                <a:solidFill>
                  <a:srgbClr val="404040"/>
                </a:solidFill>
                <a:uFillTx/>
                <a:latin typeface="Trebuchet MS"/>
              </a:rPr>
              <a:t>24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rebuchet MS"/>
              </a:rPr>
              <a:t>3х=7                      </a:t>
            </a:r>
            <a:r>
              <a:rPr b="1" i="1" lang="en-US" sz="32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1" i="1" lang="ru-RU" sz="3200" spc="-1" strike="noStrike">
                <a:solidFill>
                  <a:srgbClr val="404040"/>
                </a:solidFill>
                <a:latin typeface="Trebuchet MS"/>
              </a:rPr>
              <a:t>32      56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Text Box 42"/>
          <p:cNvSpPr/>
          <p:nvPr/>
        </p:nvSpPr>
        <p:spPr>
          <a:xfrm>
            <a:off x="4932360" y="393372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мин</dc:creator>
  <dc:description/>
  <dc:language>en-US</dc:language>
  <cp:lastModifiedBy>МалееваАА</cp:lastModifiedBy>
  <dcterms:modified xsi:type="dcterms:W3CDTF">2019-12-23T00:40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