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854EB-75F2-4245-8720-305C4BAB06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399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7320"/>
            <a:ext cx="6399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F8ED8-E00C-468A-AA99-9FF9F9F2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732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384732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9D0D8-0B54-4E06-9C78-F6BC6C2A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200" y="205704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800" y="205704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732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200" y="384732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800" y="384732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83199-CBBA-4128-BCE5-514FD7C250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570C2-A66C-455B-B472-5E9DD53F16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057040"/>
            <a:ext cx="63993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CFB9E-0EFB-4712-B3CE-0C39817C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39936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FA6C8-A330-4ED0-A498-F747B5AB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A2288-EA49-4707-A827-8DC68FA2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CAA6E-B9C9-4EF6-B134-8AF414FC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39936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2D689-8C02-4A5D-B1AE-EFB86821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732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76BDA-A180-4AE5-99D1-FC8BBC5A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057040"/>
            <a:ext cx="63993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1F209-48DE-4B40-AC13-90E4EAF6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384732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D17AB-491D-42AC-865D-A816F481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7320"/>
            <a:ext cx="6399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E20DA-4022-429D-87A6-E790C37E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399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7320"/>
            <a:ext cx="6399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3DA9B-6A57-46FB-B4E4-0E49BAFC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732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384732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38E93-73EB-47F6-AE20-C4F928A1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200" y="205704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8800" y="205704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732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200" y="384732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8800" y="384732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34191-27A2-4882-B681-CAD961E689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5C63-2662-4A14-9FBE-3FB26CF069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057040"/>
            <a:ext cx="63993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86A2-AB79-4D6B-9D20-9607059B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39936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C6C7-7633-4199-9CAF-0C3C0935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2D89-B889-4F00-8C14-087E9315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AAD6-C2BA-4FC6-BAC4-CCD8C1EA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39936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F9E58-7237-4D7A-A02E-8A93BB9A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39936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3993-2B4A-4670-8031-F589C1B5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732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F4FE-0060-4FCE-80F5-51F5549A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384732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3FE7-2F6E-4E21-A32C-DE4D2831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7320"/>
            <a:ext cx="6399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7641-1D04-4733-8AB0-13A4A00F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399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7320"/>
            <a:ext cx="6399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CB96-92A5-4427-B715-FC2693FC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732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384732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0575-E0F2-42BF-A711-C149B6DF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200" y="205704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8800" y="205704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732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200" y="384732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8800" y="384732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FD14-BBB3-419F-B120-B00B24D27E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2FA687-D219-4F73-B8EB-0310B9566F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057040"/>
            <a:ext cx="63993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C93336-6616-44D9-BD1B-9581FA42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39936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7A2862-8DD7-46D4-A1BD-CECB4AFC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3596E-B197-4E06-A780-565EFA99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05974-BBDB-4385-9494-010D9D10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8658CB-57A5-44FF-B217-F20016D6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39936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1DA9A-F6B0-4696-8CC0-B0B7A2D3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732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364BA-6121-4DA9-B558-34B2BA8A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0840" y="384732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00A77F-7CA9-4DD3-B387-C20155FF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7320"/>
            <a:ext cx="6399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2AD488-F7BD-4C36-A673-032B2530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399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7320"/>
            <a:ext cx="6399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9B5ABA-E0CD-4969-BAC2-8DED81B5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732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0840" y="384732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8D2A1E-A28E-46AE-858D-C0F8AA25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200" y="205704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8800" y="205704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732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200" y="384732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8800" y="384732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CCA3D-6334-4ACA-BFFE-0386A2210A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DE7524-A716-4E0D-B9C4-33DDE083F0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87213-5169-41D6-B056-4D394238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057040"/>
            <a:ext cx="63993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6BF533-7DFE-4445-903F-2B183D3A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39936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6BF346-758A-49B3-96C5-9612E2B3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0C8427-D004-48F6-95C4-7451D1D6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B98F0D-4193-4BEE-9221-9C48B816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39936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45446B-F846-4A15-95CD-5D0B7B8CC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732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ACB1B1-186F-4ABD-B0BC-1FFC76DB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0840" y="384732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9E9F79-397C-4B2B-99B3-7FBD433C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7320"/>
            <a:ext cx="6399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497822-116F-435A-BCB6-01784E26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399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7320"/>
            <a:ext cx="6399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55768F-2891-49BC-A873-39788B62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732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0840" y="384732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55B60F-0CAD-4965-82A9-E5BB1628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39936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CF90A-FBD7-454E-8119-084FDF73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200" y="205704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8800" y="205704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732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200" y="384732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8800" y="384732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E35F39-595F-4032-86AD-4A86FEC869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EEA1A-0F67-4BAA-8BDA-8CEE7F94E7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057040"/>
            <a:ext cx="63993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7F7CC-7053-43A1-A9F1-8B96D542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39936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4295D-94C4-4839-A4FC-B6A2A8FA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E45AE-8167-425B-908F-3FF7C401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D8F9B-0DE7-4C31-979C-B4F6F9CF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39936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CA8C7-E101-4A82-ADA3-8FF010A8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732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411EC-336E-47CE-B42E-CD1DBFE2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0840" y="384732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9562E-F2F9-445F-84D5-091C1E36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7320"/>
            <a:ext cx="6399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0A8D7-4B60-4545-8459-8D8B691F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732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46223-3A6F-4520-8C30-CF5B1CBC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399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7320"/>
            <a:ext cx="6399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AC12D-8EB1-4441-8A24-1AF0C4F4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732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0840" y="384732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B18A8-706D-4D9A-B75B-279A2A47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200" y="205704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8800" y="205704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732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200" y="384732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8800" y="384732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E2B6F-B0AA-4F4E-9742-94C213AEE7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7AA3CE-D5E5-4CDB-99BC-45E28905BF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057040"/>
            <a:ext cx="63993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47F852-05F3-401B-A7C2-D2BC55FA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39936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27280B-6B05-4F84-B61A-34E7DC38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204955-5089-4562-B6D1-C1942816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C1091C-9244-4921-8625-3EEBBAA4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39936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840B98-C656-408E-ACB3-BC5CA2D0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732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AF1231-25EE-42D9-8871-FE4FD28A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384732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6CE8D-55C5-4CFD-99B1-64A0C97A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0840" y="384732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A92AD5-BE47-4DBE-A202-CA8C09E9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7320"/>
            <a:ext cx="6399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C3E8C0-1A23-4153-B342-BAB81809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399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7320"/>
            <a:ext cx="6399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DDF4BE-BF5B-4379-B997-A08124AE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732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0840" y="384732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005AB6-7687-4521-A0A8-46E4ECA4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200" y="205704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8800" y="205704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732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200" y="384732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8800" y="384732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C91C4D-8585-4431-8124-E8BF520D2B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4D7BCD-E311-41D3-8FEF-363290C1F3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057040"/>
            <a:ext cx="63993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FA8BEF-AC95-47BC-91C7-099E7278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39936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56EACF-BD63-408C-8C03-77A60D86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01DA4C-70CC-4B12-B1B7-E3421345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ADA13C-CD59-4435-A886-9F85890E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7320"/>
            <a:ext cx="6399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CF726-4E5F-4E04-ACA9-B9C40B3A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39936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064E8B-A451-47C0-A834-A23F3B28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732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4CDF8F-EA02-4B0C-B605-0F6CA152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0840" y="384732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5B6256-3065-438C-9515-57F4265E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7320"/>
            <a:ext cx="6399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FA5CB3-18B1-4839-AB96-875A14AA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399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7320"/>
            <a:ext cx="6399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697771-0A5A-4389-86ED-D40C1EF4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0840" y="205704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732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0840" y="3847320"/>
            <a:ext cx="312264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721518-5786-4D52-890F-42C70601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200" y="205704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8800" y="205704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732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200" y="384732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8800" y="3847320"/>
            <a:ext cx="206028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B8FADB-0C1A-43E4-B2FC-2DD95E6003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39936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1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2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3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4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5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6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675480" y="636408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A505FE-AE18-45BD-8132-57BB72C17D5A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-6480" y="27986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39936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1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2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3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4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5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6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30492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675480" y="636408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ff070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CB867-0F62-49D2-8042-A0483329CECA}" type="slidenum">
              <a:rPr b="1" lang="ru-RU" sz="1200" spc="-1" strike="noStrike">
                <a:solidFill>
                  <a:srgbClr val="ff070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39936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1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2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3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4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5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6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30492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675480" y="636408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ff070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E22B4-00C0-4D38-A8C2-D686F66FC7E5}" type="slidenum">
              <a:rPr b="1" lang="ru-RU" sz="1200" spc="-1" strike="noStrike">
                <a:solidFill>
                  <a:srgbClr val="ff070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3"/>
          <a:stretch/>
        </p:blipFill>
        <p:spPr>
          <a:xfrm>
            <a:off x="-6480" y="2676600"/>
            <a:ext cx="9156960" cy="94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4"/>
          <a:stretch/>
        </p:blipFill>
        <p:spPr>
          <a:xfrm>
            <a:off x="-6480" y="267660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39936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1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2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3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4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5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6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7"/>
          </p:nvPr>
        </p:nvSpPr>
        <p:spPr>
          <a:xfrm>
            <a:off x="30492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6675480" y="636408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ff070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33E45-C7C1-4FC5-B1CC-E0D6B4DF372F}" type="slidenum">
              <a:rPr b="1" lang="ru-RU" sz="1200" spc="-1" strike="noStrike">
                <a:solidFill>
                  <a:srgbClr val="ff070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39936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1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2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3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4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5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6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9"/>
          </p:nvPr>
        </p:nvSpPr>
        <p:spPr>
          <a:xfrm>
            <a:off x="30492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0"/>
          </p:nvPr>
        </p:nvSpPr>
        <p:spPr>
          <a:xfrm>
            <a:off x="6675480" y="636408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ff070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ABAE4-1E26-423B-9B88-DE690AC29E6B}" type="slidenum">
              <a:rPr b="1" lang="ru-RU" sz="1200" spc="-1" strike="noStrike">
                <a:solidFill>
                  <a:srgbClr val="ff070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39936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1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2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3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4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5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6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1"/>
          </p:nvPr>
        </p:nvSpPr>
        <p:spPr>
          <a:xfrm>
            <a:off x="30492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2"/>
          </p:nvPr>
        </p:nvSpPr>
        <p:spPr>
          <a:xfrm>
            <a:off x="6675480" y="636408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ff070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D2D14-65AC-44FD-AD48-050165FD8CB0}" type="slidenum">
              <a:rPr b="1" lang="ru-RU" sz="1200" spc="-1" strike="noStrike">
                <a:solidFill>
                  <a:srgbClr val="ff070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39936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1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2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3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4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5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6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3"/>
          </p:nvPr>
        </p:nvSpPr>
        <p:spPr>
          <a:xfrm>
            <a:off x="30492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14"/>
          </p:nvPr>
        </p:nvSpPr>
        <p:spPr>
          <a:xfrm>
            <a:off x="6675480" y="636408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ff070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E2DD0-FD88-4C09-BC68-839DA8F904DE}" type="slidenum">
              <a:rPr b="1" lang="ru-RU" sz="1200" spc="-1" strike="noStrike">
                <a:solidFill>
                  <a:srgbClr val="ff070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2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cap="sq" w="9360">
            <a:solidFill>
              <a:srgbClr val="600000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99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39936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1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2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3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4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5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 lvl="6"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5"/>
          </p:nvPr>
        </p:nvSpPr>
        <p:spPr>
          <a:xfrm>
            <a:off x="30492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sldNum" idx="16"/>
          </p:nvPr>
        </p:nvSpPr>
        <p:spPr>
          <a:xfrm>
            <a:off x="6675480" y="636408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ff070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E2DD3-EBF2-4DAB-82C0-B9251101955C}" type="slidenum">
              <a:rPr b="1" lang="ru-RU" sz="1200" spc="-1" strike="noStrike">
                <a:solidFill>
                  <a:srgbClr val="ff070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2"/>
          <p:cNvSpPr/>
          <p:nvPr/>
        </p:nvSpPr>
        <p:spPr>
          <a:xfrm>
            <a:off x="2124000" y="981000"/>
            <a:ext cx="597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6000"/>
            </a:br>
            <a:r>
              <a:rPr b="1" i="1" lang="ru-RU" sz="6000" spc="-1" strike="noStrike">
                <a:solidFill>
                  <a:srgbClr val="600000"/>
                </a:solidFill>
                <a:latin typeface="Constantia"/>
              </a:rPr>
              <a:t>ДЕНЬ ПОЭЗИИ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2"/>
          <a:stretch/>
        </p:blipFill>
        <p:spPr>
          <a:xfrm>
            <a:off x="5580000" y="3141720"/>
            <a:ext cx="356400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2"/>
          <p:cNvSpPr/>
          <p:nvPr/>
        </p:nvSpPr>
        <p:spPr>
          <a:xfrm>
            <a:off x="4140360" y="620640"/>
            <a:ext cx="4824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9393120">
              <a:lnSpc>
                <a:spcPct val="130000"/>
              </a:lnSpc>
              <a:spcBef>
                <a:spcPts val="75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600000"/>
                </a:solidFill>
                <a:latin typeface="Constantia"/>
              </a:rPr>
              <a:t>ККОНКУРС ВЫРАЗИТЕЛЬНОГО ЧТЕНИЯ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600000"/>
                </a:solidFill>
                <a:latin typeface="Constantia"/>
              </a:rPr>
              <a:t>« «МОЕ  ЛЮБИМОЕ СТИХОТВОРЕНИЕ»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>
            <a:off x="5580000" y="836640"/>
            <a:ext cx="1238400" cy="1297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"/>
          <p:cNvPicPr/>
          <p:nvPr/>
        </p:nvPicPr>
        <p:blipFill>
          <a:blip r:embed="rId3"/>
          <a:stretch/>
        </p:blipFill>
        <p:spPr>
          <a:xfrm>
            <a:off x="6948360" y="260280"/>
            <a:ext cx="1865520" cy="18655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"/>
          <p:cNvPicPr/>
          <p:nvPr/>
        </p:nvPicPr>
        <p:blipFill>
          <a:blip r:embed="rId4"/>
          <a:stretch/>
        </p:blipFill>
        <p:spPr>
          <a:xfrm>
            <a:off x="7093080" y="4019400"/>
            <a:ext cx="1865160" cy="2610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"/>
          <p:cNvPicPr/>
          <p:nvPr/>
        </p:nvPicPr>
        <p:blipFill>
          <a:blip r:embed="rId5"/>
          <a:stretch/>
        </p:blipFill>
        <p:spPr>
          <a:xfrm>
            <a:off x="324000" y="189000"/>
            <a:ext cx="1861920" cy="18619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"/>
          <p:cNvPicPr/>
          <p:nvPr/>
        </p:nvPicPr>
        <p:blipFill>
          <a:blip r:embed="rId6"/>
          <a:stretch/>
        </p:blipFill>
        <p:spPr>
          <a:xfrm>
            <a:off x="2268360" y="4941720"/>
            <a:ext cx="1295640" cy="16066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7" descr=""/>
          <p:cNvPicPr/>
          <p:nvPr/>
        </p:nvPicPr>
        <p:blipFill>
          <a:blip r:embed="rId7"/>
          <a:stretch/>
        </p:blipFill>
        <p:spPr>
          <a:xfrm>
            <a:off x="2411280" y="620640"/>
            <a:ext cx="1238400" cy="15130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8" descr=""/>
          <p:cNvPicPr/>
          <p:nvPr/>
        </p:nvPicPr>
        <p:blipFill>
          <a:blip r:embed="rId8"/>
          <a:stretch/>
        </p:blipFill>
        <p:spPr>
          <a:xfrm>
            <a:off x="3708360" y="4149720"/>
            <a:ext cx="1365120" cy="21160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"/>
          <p:cNvPicPr/>
          <p:nvPr/>
        </p:nvPicPr>
        <p:blipFill>
          <a:blip r:embed="rId9"/>
          <a:stretch/>
        </p:blipFill>
        <p:spPr>
          <a:xfrm>
            <a:off x="5219640" y="4221000"/>
            <a:ext cx="1598760" cy="2249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" descr=""/>
          <p:cNvPicPr/>
          <p:nvPr/>
        </p:nvPicPr>
        <p:blipFill>
          <a:blip r:embed="rId10"/>
          <a:stretch/>
        </p:blipFill>
        <p:spPr>
          <a:xfrm>
            <a:off x="3924360" y="260280"/>
            <a:ext cx="1511280" cy="23115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1" descr=""/>
          <p:cNvPicPr/>
          <p:nvPr/>
        </p:nvPicPr>
        <p:blipFill>
          <a:blip r:embed="rId11"/>
          <a:stretch/>
        </p:blipFill>
        <p:spPr>
          <a:xfrm>
            <a:off x="179280" y="4508640"/>
            <a:ext cx="1933560" cy="214920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2"/>
          <p:cNvSpPr/>
          <p:nvPr/>
        </p:nvSpPr>
        <p:spPr>
          <a:xfrm>
            <a:off x="1258920" y="2637000"/>
            <a:ext cx="7058160" cy="1296720"/>
          </a:xfrm>
          <a:prstGeom prst="rect">
            <a:avLst/>
          </a:prstGeom>
          <a:solidFill>
            <a:srgbClr val="ffffff"/>
          </a:solidFill>
          <a:ln cap="sq" w="1080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00000"/>
                </a:solidFill>
                <a:latin typeface="Constantia"/>
              </a:rPr>
              <a:t>Поэзия</a:t>
            </a:r>
            <a:r>
              <a:rPr b="0" lang="en-US" sz="2000" spc="-1" strike="noStrike">
                <a:solidFill>
                  <a:srgbClr val="600000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600000"/>
                </a:solidFill>
                <a:latin typeface="Constantia"/>
              </a:rPr>
              <a:t>может стать ответом на самые острые и глубокие духовные вопросы современного человека. Но для этого необходимо привлечь к ней как можно более широкое общественное внимани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2211120" cy="32194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3"/>
          <a:stretch/>
        </p:blipFill>
        <p:spPr>
          <a:xfrm>
            <a:off x="6443640" y="333360"/>
            <a:ext cx="2376360" cy="3387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4"/>
          <a:stretch/>
        </p:blipFill>
        <p:spPr>
          <a:xfrm>
            <a:off x="2987640" y="3508200"/>
            <a:ext cx="2013120" cy="3149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"/>
          <p:cNvPicPr/>
          <p:nvPr/>
        </p:nvPicPr>
        <p:blipFill>
          <a:blip r:embed="rId5"/>
          <a:stretch/>
        </p:blipFill>
        <p:spPr>
          <a:xfrm>
            <a:off x="5435640" y="4149720"/>
            <a:ext cx="3422520" cy="25732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6"/>
          <p:cNvSpPr/>
          <p:nvPr/>
        </p:nvSpPr>
        <p:spPr>
          <a:xfrm>
            <a:off x="468360" y="404640"/>
            <a:ext cx="5472000" cy="2808360"/>
          </a:xfrm>
          <a:prstGeom prst="rect">
            <a:avLst/>
          </a:prstGeom>
          <a:solidFill>
            <a:srgbClr val="ffffff"/>
          </a:solidFill>
          <a:ln cap="sq" w="1080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00000"/>
                </a:solidFill>
                <a:latin typeface="Constantia"/>
              </a:rPr>
              <a:t>Мы вспомним Пушкина сегодня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00000"/>
                </a:solidFill>
                <a:latin typeface="Constantia"/>
              </a:rPr>
              <a:t>Шекспир, Рождественский, Толстой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00000"/>
                </a:solidFill>
                <a:latin typeface="Constantia"/>
              </a:rPr>
              <a:t>Ну что без них наш мир духовный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00000"/>
                </a:solidFill>
                <a:latin typeface="Constantia"/>
              </a:rPr>
              <a:t>Убогий был бы и больно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00000"/>
                </a:solidFill>
                <a:latin typeface="Constantia"/>
              </a:rPr>
              <a:t>Давайте бег свой остановим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00000"/>
                </a:solidFill>
                <a:latin typeface="Constantia"/>
              </a:rPr>
              <a:t>Пусть не надолго, на чуть-чуть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00000"/>
                </a:solidFill>
                <a:latin typeface="Constantia"/>
              </a:rPr>
              <a:t>И каждый для себя припомни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00000"/>
                </a:solidFill>
                <a:latin typeface="Constantia"/>
              </a:rPr>
              <a:t>Стихи, что могут жизнь вдохнуть!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2"/>
          <p:cNvSpPr/>
          <p:nvPr/>
        </p:nvSpPr>
        <p:spPr>
          <a:xfrm>
            <a:off x="1014480" y="144360"/>
            <a:ext cx="7848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600000"/>
                </a:solidFill>
                <a:latin typeface="Constantia"/>
              </a:rPr>
              <a:t> </a:t>
            </a:r>
            <a:r>
              <a:rPr b="1" lang="ru-RU" sz="4200" spc="-1" strike="noStrike">
                <a:solidFill>
                  <a:srgbClr val="600000"/>
                </a:solidFill>
                <a:latin typeface="Constantia"/>
              </a:rPr>
              <a:t>Читай не так, как пономарь,</a:t>
            </a:r>
            <a:endParaRPr b="0" lang="en-US" sz="4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600000"/>
                </a:solidFill>
                <a:latin typeface="Constantia"/>
              </a:rPr>
              <a:t> </a:t>
            </a:r>
            <a:r>
              <a:rPr b="1" lang="ru-RU" sz="4200" spc="-1" strike="noStrike">
                <a:solidFill>
                  <a:srgbClr val="600000"/>
                </a:solidFill>
                <a:latin typeface="Constantia"/>
              </a:rPr>
              <a:t>А с чувством, с толком, с расстановкой.</a:t>
            </a:r>
            <a:endParaRPr b="0" lang="en-US" sz="4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600000"/>
                </a:solidFill>
                <a:latin typeface="Constantia"/>
              </a:rPr>
              <a:t>А.С. Грибоедов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17:33:35Z</dcterms:created>
  <dc:creator>8ьо8</dc:creator>
  <dc:description/>
  <cp:keywords/>
  <dc:language>en-US</dc:language>
  <cp:lastModifiedBy>vorobyovcn@dnevnik.ru</cp:lastModifiedBy>
  <dcterms:modified xsi:type="dcterms:W3CDTF">2019-12-27T07:35:57Z</dcterms:modified>
  <cp:revision>30</cp:revision>
  <dc:subject/>
  <dc:title>всемирный  день поэзии</dc:title>
</cp:coreProperties>
</file>