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0249-EF7F-4360-B26E-55B7ABE36A5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0033-E95B-4659-A1B9-259F7B206FF9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820-69B2-4B53-ADD5-E9E185F8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4F1-59E2-46C7-938C-9E8D24D0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671-2141-4C08-88CD-94A94BD0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727-3153-487A-8A7C-DCEFE31F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44B99-254C-4574-969B-BA374DE0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9CBDF-223E-478C-BE7B-B1C54290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6A763-A09D-4C25-ADF5-A948D5B0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099A8-497E-466B-B01D-A9FB7966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376E9-5815-4BA5-A83A-FE95DE99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CEE5D-BC8F-4459-AA7B-7DA3860D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A581C-D646-49FA-BF44-8948C68D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DB9-1FA2-41DB-9FAF-704CA4FA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D16EA-61EB-4480-82D8-1587101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2EC91-E493-4B23-8BE7-0BFECD0E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634E3-6BA1-4B2E-A884-405870B9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3F97E-0805-4448-8A93-7622CE52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C2EA2-77D0-4C8A-A0E0-310D79A3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4A5-D6CE-4524-A06B-7946C284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4E4-9482-4806-9AFD-92C9E198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3B7-A082-41DE-B351-C8147DEE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62A-D3DB-4002-A57C-B2E4EACA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C69-CF63-4333-85F8-DB084E6C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079-306A-41EF-9DAE-A46CFC44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63C-F9D4-4176-B987-AAC6C78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5E9E-20BF-42EC-9A10-3CFAE60FA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7B94-02BD-4026-B631-10749A7B2E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578800" cy="15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КОУ «Барановская СОШ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6720" y="3933360"/>
            <a:ext cx="39672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ыполнил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ученица 3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Злобина Дар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Руководитель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Е. А. Злоб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755640" y="907920"/>
            <a:ext cx="784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Тайны мыльных пузыр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pic>
        <p:nvPicPr>
          <p:cNvPr id="93" name="Рисунок 5" descr="E:\DCIM\100_FUJI\DSCF0545.JPG"/>
          <p:cNvPicPr/>
          <p:nvPr/>
        </p:nvPicPr>
        <p:blipFill>
          <a:blip r:embed="rId1"/>
          <a:srcRect l="9511" t="25126" r="0" b="0"/>
          <a:stretch/>
        </p:blipFill>
        <p:spPr>
          <a:xfrm>
            <a:off x="345960" y="2349360"/>
            <a:ext cx="3649680" cy="431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2. Где вы берёте раство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Объект 5" descr=""/>
          <p:cNvPicPr/>
          <p:nvPr/>
        </p:nvPicPr>
        <p:blipFill>
          <a:blip r:embed="rId1"/>
          <a:stretch/>
        </p:blipFill>
        <p:spPr>
          <a:xfrm>
            <a:off x="2217600" y="1793880"/>
            <a:ext cx="52848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3. Какой наибольший диаметр мыльного пузыря вам удалось получ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Объект 4" descr=""/>
          <p:cNvPicPr/>
          <p:nvPr/>
        </p:nvPicPr>
        <p:blipFill>
          <a:blip r:embed="rId1"/>
          <a:stretch/>
        </p:blipFill>
        <p:spPr>
          <a:xfrm>
            <a:off x="1857240" y="1865160"/>
            <a:ext cx="478152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4. Можно ли сохранить мыльный пузырь долгое врем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Объект 5" descr=""/>
          <p:cNvPicPr/>
          <p:nvPr/>
        </p:nvPicPr>
        <p:blipFill>
          <a:blip r:embed="rId1"/>
          <a:stretch/>
        </p:blipFill>
        <p:spPr>
          <a:xfrm>
            <a:off x="2217600" y="1793880"/>
            <a:ext cx="41403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5. Вы пробовали пускать мыльные пузыри зимой при температуре  – 6 – 17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Объект 5" descr=""/>
          <p:cNvPicPr/>
          <p:nvPr/>
        </p:nvPicPr>
        <p:blipFill>
          <a:blip r:embed="rId1"/>
          <a:stretch/>
        </p:blipFill>
        <p:spPr>
          <a:xfrm>
            <a:off x="2217600" y="1793880"/>
            <a:ext cx="41403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ецеп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-   Рецепт 1.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(200 мл детского шампуня, 400мл.кипяченной воды, 6 чайных ложек сахара. Смесь настаивается одни сутк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-  Рецепт 2.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600 мл. ГОРЯЧЕЙ воды,20 капель нашатырного спирта, 50 гр. любого порошкообразного моющего средства.      Все  перемешиваем и оставляем настояться на 2-3 дня. После этого раствор  ставим в холодильник на 12 ча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-  Рецепт 3.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  200 гр. любого средства для мытья посуды  600 мл. воды и 100 мл. глицер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Условия выдувания мыльных пузыр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1. Нет пыл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2. Нет вет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3. Влажный    возду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383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Инструменты для выду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Объект 4" descr="E:\DCIM\101_FUJI\DSCF129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Опыты ( пузырь в пузыре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Рисунок 4" descr="C:\Users\Ольга\Desktop\исследование\пузыри\фото пузыри\DSC_0000046.jpg"/>
          <p:cNvPicPr/>
          <p:nvPr/>
        </p:nvPicPr>
        <p:blipFill>
          <a:blip r:embed="rId1"/>
          <a:stretch/>
        </p:blipFill>
        <p:spPr>
          <a:xfrm>
            <a:off x="4716360" y="1773360"/>
            <a:ext cx="3959280" cy="424800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3" descr="C:\Users\Ольга\Desktop\исследование\пузыри\DSC_0000058.jpg"/>
          <p:cNvPicPr/>
          <p:nvPr/>
        </p:nvPicPr>
        <p:blipFill>
          <a:blip r:embed="rId2"/>
          <a:stretch/>
        </p:blipFill>
        <p:spPr>
          <a:xfrm>
            <a:off x="468360" y="1773360"/>
            <a:ext cx="40384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Мыльный пузырь на мороз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Объект 4" descr="C:\Users\User\Downloads\пузырь 2.jpg"/>
          <p:cNvPicPr/>
          <p:nvPr/>
        </p:nvPicPr>
        <p:blipFill>
          <a:blip r:embed="rId1"/>
          <a:srcRect l="37625" t="47257" r="9270" b="33532"/>
          <a:stretch/>
        </p:blipFill>
        <p:spPr>
          <a:xfrm>
            <a:off x="250920" y="1989000"/>
            <a:ext cx="8569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узырь вокруг проб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Содержимое 3" descr="C:\Users\Ольга\Desktop\исследование\пузыри\DSC_0000044.jpg"/>
          <p:cNvPicPr/>
          <p:nvPr/>
        </p:nvPicPr>
        <p:blipFill>
          <a:blip r:embed="rId1"/>
          <a:stretch/>
        </p:blipFill>
        <p:spPr>
          <a:xfrm>
            <a:off x="468360" y="1916280"/>
            <a:ext cx="4038480" cy="410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C:\Users\Ольга\Desktop\исследование\пузыри\DSC_0000056.jpg"/>
          <p:cNvPicPr/>
          <p:nvPr/>
        </p:nvPicPr>
        <p:blipFill>
          <a:blip r:embed="rId2"/>
          <a:stretch/>
        </p:blipFill>
        <p:spPr>
          <a:xfrm>
            <a:off x="4643280" y="1916280"/>
            <a:ext cx="4032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«Мыльный пузырь, пожалуй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амое восхитительное и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самое изысканное явление природы»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арк Тве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859280" y="2225520"/>
            <a:ext cx="3816360" cy="36514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009fa1eadecd.jpg"/>
          <p:cNvPicPr/>
          <p:nvPr/>
        </p:nvPicPr>
        <p:blipFill>
          <a:blip r:embed="rId2"/>
          <a:stretch/>
        </p:blipFill>
        <p:spPr>
          <a:xfrm>
            <a:off x="250920" y="2205000"/>
            <a:ext cx="4176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Рекордный мыльный пузыр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Рисунок 2" descr="E:\DCIM\101_FUJI\DSCF1289.JPG"/>
          <p:cNvPicPr/>
          <p:nvPr/>
        </p:nvPicPr>
        <p:blipFill>
          <a:blip r:embed="rId1"/>
          <a:srcRect l="-4696" t="-819" r="9423" b="20866"/>
          <a:stretch/>
        </p:blipFill>
        <p:spPr>
          <a:xfrm>
            <a:off x="108000" y="1244520"/>
            <a:ext cx="4032360" cy="4824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E:\DCIM\101_FUJI\DSCF1291.JPG"/>
          <p:cNvPicPr/>
          <p:nvPr/>
        </p:nvPicPr>
        <p:blipFill>
          <a:blip r:embed="rId2"/>
          <a:srcRect l="0" t="14889" r="12769" b="0"/>
          <a:stretch/>
        </p:blipFill>
        <p:spPr>
          <a:xfrm>
            <a:off x="4932360" y="1268280"/>
            <a:ext cx="3960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Вывод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Узнала историю происхождения мы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ыявила эффективный состав раств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Узнала тайну, когда пузыри получаются крупными и долго не лопаю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 еще это просто чудесное зрелищ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ahoma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Актуальность проекта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азработка своего состава мыльных пузырей позволит мне сэкономить семейный бюджет и доставлять минуты радости себе и своим друзь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Содержимое 5" descr="2842451_6.jpeg"/>
          <p:cNvPicPr/>
          <p:nvPr/>
        </p:nvPicPr>
        <p:blipFill>
          <a:blip r:embed="rId1"/>
          <a:stretch/>
        </p:blipFill>
        <p:spPr>
          <a:xfrm>
            <a:off x="90360" y="1844640"/>
            <a:ext cx="4611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узнать, из чего и как образуются крупные, крепкие мыльные пузыри, приготовить свой раствор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284720" y="1533600"/>
            <a:ext cx="4402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100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я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предполагаю, что зная состав, можно приготовить раствор для мыльных пузырей в домашних условиях, чтобы они были большими и крепк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Рисунок 7" descr="E:\DCIM\101_FUJI\DSCF1302.JPG"/>
          <p:cNvPicPr/>
          <p:nvPr/>
        </p:nvPicPr>
        <p:blipFill>
          <a:blip r:embed="rId1"/>
          <a:srcRect l="33840" t="5090" r="17874" b="13692"/>
          <a:stretch/>
        </p:blipFill>
        <p:spPr>
          <a:xfrm>
            <a:off x="4467240" y="1628640"/>
            <a:ext cx="4643280" cy="4969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441680" y="1628280"/>
            <a:ext cx="4594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Что такое мыльный пузыр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610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ыльный пузырь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это шарик, который образован тонкой многослойной плёнкой мыльной воды и наполнен воздух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 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0CAVGWHL0CADHKWFBCASGCWECCAJD7Y5ICAIP2HAFCA3K73KVCAAS7J7GCAI3KNIWCAI2FD1YCAVA1FC7CA4RW0XQCACICUBXCARBXDOYCA2UJFLBCAKYJBHKCA7L3FBQCAIWZ2HWCA5KYMW6CAZSCJDJCAFHVTKX"/>
          <p:cNvPicPr/>
          <p:nvPr/>
        </p:nvPicPr>
        <p:blipFill>
          <a:blip r:embed="rId1"/>
          <a:stretch/>
        </p:blipFill>
        <p:spPr>
          <a:xfrm>
            <a:off x="74520" y="1989000"/>
            <a:ext cx="4657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оисхождение мыльного пузыр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02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ень рождения мыльного пузыря и по сей день остаётся загадкой. Но доподлинно известно, что при раскопках древней Помпеи археологи обнаружили необычные фрески с изображением юных помпейцев выдувающих мыльные пузыри. Видимо, у них были свои секреты производства мы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Средних веках изображение ангела, пускающего пузыри, помещали на надгробья и добавляли надпись: «От этого никто не уйдёт». Этим, по-видимому, хотели сказать, что жизнь хрупка, как мыльный пузыр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08360" y="907560"/>
            <a:ext cx="53481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 знаете ли вы, что имя самого удачливого «надувателя» мыльных пузырей из Новой Зеландии вошло в книгу рекордов Гиннеса: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9 августа 1996 года, Алан Маккей пустил мыльный пузырь длиной 32 ме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5546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.Нравится ли вам выдувать мыльные пузыр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Объект 5" descr=""/>
          <p:cNvPicPr/>
          <p:nvPr/>
        </p:nvPicPr>
        <p:blipFill>
          <a:blip r:embed="rId1"/>
          <a:stretch/>
        </p:blipFill>
        <p:spPr>
          <a:xfrm>
            <a:off x="2217600" y="1793880"/>
            <a:ext cx="41403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03:56Z</dcterms:created>
  <dc:creator>DIN_VIN</dc:creator>
  <dc:description/>
  <dc:language>en-US</dc:language>
  <cp:lastModifiedBy>User</cp:lastModifiedBy>
  <dcterms:modified xsi:type="dcterms:W3CDTF">2019-04-25T06:42:14Z</dcterms:modified>
  <cp:revision>106</cp:revision>
  <dc:subject/>
  <dc:title>Гипотеза</dc:title>
</cp:coreProperties>
</file>