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45F-F237-4A21-9680-F8ACC488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98A-3AB5-4B9E-BD55-85E542D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A93-F894-419B-A389-6B0C792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EC8-9B05-4856-8509-C6FA1B07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858-34AE-40BA-A33A-DB297DFB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BB0-631E-4DB4-B943-1DDDC419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6EB-F83E-4416-9769-AAE845A0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2AD-7015-43AD-A029-930818B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299-183E-450E-BA1A-0F03E54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E17-D432-45A4-9FBD-0F1CC4C1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A6-B00E-4BDD-A784-3B04C2C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B10-F39E-465E-BC9D-346D601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EFA-072C-4967-9C12-DF59B2CF5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7720"/>
            <a:ext cx="7772400" cy="2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ил учитель начальных класс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АОУ СОШ №17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и  Эдуарда Есая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тищева Нина Александровн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00080" y="14256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808080"/>
                </a:solidFill>
                <a:latin typeface="Monotype Corsiva"/>
              </a:rPr>
              <a:t>Повторяя движения </a:t>
            </a:r>
            <a:r>
              <a:rPr b="0" i="1" lang="ru-RU" sz="3200" spc="-1" strike="noStrike">
                <a:solidFill>
                  <a:srgbClr val="808080"/>
                </a:solidFill>
                <a:latin typeface="Monotype Corsiva"/>
              </a:rPr>
              <a:t>губ </a:t>
            </a:r>
            <a:r>
              <a:rPr b="0" lang="ru-RU" sz="3200" spc="-1" strike="noStrike">
                <a:solidFill>
                  <a:srgbClr val="808080"/>
                </a:solidFill>
                <a:latin typeface="Monotype Corsiva"/>
              </a:rPr>
              <a:t>матери, мы произносим свое первое в жизни слово: мама. Пройдет 10 лет, 12, 50... Забудутся в нашей памяти многие события, люди и встречи. Но, что бы ни пережили мы, воспоминания всегда будут возвращать нас в светлый мир детства, к образу матери, научившей нас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925720" y="2925720"/>
            <a:ext cx="3932280" cy="3932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2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5878"/>
                </a:solidFill>
                <a:latin typeface="Monotype Corsiva"/>
              </a:rPr>
              <a:t>Мы любим сестру, и жену, и отца,</a:t>
            </a:r>
            <a:br>
              <a:rPr sz="2700"/>
            </a:br>
            <a:r>
              <a:rPr b="1" lang="ru-RU" sz="2700" spc="-1" strike="noStrike">
                <a:solidFill>
                  <a:srgbClr val="005878"/>
                </a:solidFill>
                <a:latin typeface="Monotype Corsiva"/>
              </a:rPr>
              <a:t>  Но в муках мы мать вспоминаем, - </a:t>
            </a:r>
            <a:br>
              <a:rPr sz="2700"/>
            </a:br>
            <a:r>
              <a:rPr b="1" lang="ru-RU" sz="2700" spc="-1" strike="noStrike">
                <a:solidFill>
                  <a:srgbClr val="005878"/>
                </a:solidFill>
                <a:latin typeface="Monotype Corsiva"/>
              </a:rPr>
              <a:t>                                                сказал Некрасо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4002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5878"/>
                </a:solidFill>
                <a:latin typeface="Monotype Corsiva"/>
              </a:rPr>
              <a:t>В муках, в страданиях человек шепчет «мама», и в этом слове сосредотачивается для него все, оно становится равнозначным слову «жизнь». Человек зовет мать и верит, что, где бы она ни была, она слышит его, сострадает, спешит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649760" y="2068560"/>
            <a:ext cx="4032360" cy="38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:\школьный компьютер\Мои рисунки\482448-a70005c936467903.gif"/>
          <p:cNvPicPr/>
          <p:nvPr/>
        </p:nvPicPr>
        <p:blipFill>
          <a:blip r:embed="rId2"/>
          <a:stretch/>
        </p:blipFill>
        <p:spPr>
          <a:xfrm>
            <a:off x="3929040" y="5757840"/>
            <a:ext cx="8571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80"/>
                            </p:stCondLst>
                            <p:childTnLst>
                              <p:par>
                                <p:cTn id="3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572080" y="4929120"/>
            <a:ext cx="1738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27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339933"/>
                </a:solidFill>
                <a:latin typeface="Monotype Corsiva"/>
              </a:rPr>
              <a:t>День матери в Росси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af"/>
                </a:solidFill>
                <a:latin typeface="Monotype Corsiva"/>
              </a:rPr>
              <a:t>В России День матери стали отмечать сравнительно недавно. 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:\день матери\1_mo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:\день матер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M:\день матери\6.jpg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7:58:10Z</dcterms:created>
  <dc:creator>1</dc:creator>
  <dc:description/>
  <dc:language>en-US</dc:language>
  <cp:lastModifiedBy>Школа</cp:lastModifiedBy>
  <dcterms:modified xsi:type="dcterms:W3CDTF">2019-12-27T12:46:09Z</dcterms:modified>
  <cp:revision>8</cp:revision>
  <dc:subject/>
  <dc:title>День матери в России</dc:title>
</cp:coreProperties>
</file>