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3ED-E4F7-473E-9FA4-A15F7BA2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6D2-3A29-4248-8CA7-72EA587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B3-8F5A-44D9-B6E7-63656B43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1E6-FE3E-44A9-AE0E-57F5071E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8093-0534-4984-9925-668671F9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7E3B-9EA7-44B4-A232-E92169B3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B032-74F9-42D3-9080-AF96740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00A-E8A2-4185-8447-5068C256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7461-F62C-403E-A65F-ED47CB41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74C8-2F9B-4B6F-B511-9D5B66AF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47A2-A4D6-4350-B868-6059A5F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0F8-0D24-4442-948A-51470029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89C8-5050-4491-80BE-3CDE830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176-D3F3-4ACE-8EE9-54330B2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C274-2C90-44AB-8FB3-1695618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4F9-0747-4F2C-9EA6-B28ACB84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01A-0319-4590-8280-AD6B9889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559-D598-4CC7-BF59-87BFD55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9FE-92F3-485D-ACDB-2C7523B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AE1-EDCB-4177-9DB7-1BF02930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3CA-F53D-40C1-87CC-37B0BF63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37C-CBDA-4D74-B57E-6B77524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9E9-DD90-439A-A0C8-D59507C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765-4910-4A50-AA01-CA6AF8E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1f497d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1f497d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5B0-9DEB-4297-8FBE-67AD4D59F9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1f497d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1f497d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187A-59D2-455F-9CBB-AAACC369D2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53316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Внедрение стандарта профессиональной деятельности педагога- новый шаг к качеству образования»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24280" y="4495320"/>
            <a:ext cx="3957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Подготовил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старший воспитатель МБДОУ д/с «Журавлик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Зерноградского райо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оманченко Л.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екомендации по внедрению профессионального стандарта в ДОУ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69800" y="1827360"/>
            <a:ext cx="73134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ознакомления педагогических работников учреждения с содержанием профессионального стандарта «Педагог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обсуждения на педагогических, методических советах, методических объединениях, стажерских практиках ресурсных центров и др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мещение информации на стендах в учреждении, сайте учрежд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работка, согласование и утверждение локальных правовых актов детского сада в области формирования кадровой политики, трудовых отношений с  воспитателями, нормирования, оценки качества труда воспита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и проведение процедуры самооценки педагогами своей квалификации в соответствии с уровнями профессионального стандарта педагога в учрежден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тавление дифференцированной программы профессионального развития педагогов детского сада на основе самоанализа (самооценки)  уровня соответствия компетенций педагога содержанию трудовых функций профессионального стандарта «Педагог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тоды оценки выполнения требований профессионального стандарта педагога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8270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фессиональная деятельность воспитателя оценивается только комплекс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сокая оценка включа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четание показателей динамики развития интегративных качеств ребен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отношение к детскому сад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сокой степени активности и вовлеченности родителей  в жизнь детского са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Меняйтесь раньше, чем Вас заставят это делать!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чество системы образования не может быть выше качества работающих в ней педагог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фстандарт способствует повышению профессиональной подготовки педагога и необходимости постоянного профессионального рост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фессиональный стандарт  повышает ответственность педагога за результаты своего труда, а соответственно повышает качество образ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3137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4800240"/>
            <a:ext cx="731340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Источни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www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офстандартпедагога.р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рофессиональный стандарт педагога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69800" y="1827360"/>
            <a:ext cx="73134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ьный стандарт «Педагог (педагогическ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ь в сфере дошкольного, начального общег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го общего, среднего общего образова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питатель, учитель)»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 приказом Министерства труда и соцзащиты Российской Федерации от 18 октября 2013 г. N 544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06. 12. 2013 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ся в массовое применение с 1 января 2017 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 2016 г.– режим апроба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600200" y="-36360"/>
            <a:ext cx="121921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19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фессиональный стандарт </a:t>
            </a: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дагога</a:t>
            </a:r>
            <a:r>
              <a:rPr b="0" lang="ru-RU" sz="2400" spc="-1" strike="noStrike">
                <a:solidFill>
                  <a:srgbClr val="215968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, включающий перечень профессиональных и личностных требований к учителю (воспитателю), действующий на всей территории Российской Федерации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ласть применения Профессионального стандарта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РАКТЕРИСТИКА СТАНДАРТА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нем определяются основные требования к квалификации педаг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дополнятся региональными требова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быть дополнен внутренним стандартом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ражает структуру профессиональной деятельности педаг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двигает требования к личностным качествам педаг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Calibri"/>
              </a:rPr>
              <a:t>Требования к образованию и обучению</a:t>
            </a:r>
            <a:br>
              <a:rPr sz="3200"/>
            </a:b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предъявляютс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91520" cy="4535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560" y="304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собые условия допуска к работе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ФЕССИОНАЛЬНЫЕ КОМПЕТЕНЦИИ ВОСПИТАТЕЛЯ, ОТРАЖАЮЩИЕ СПЕЦИФИКУ РАБОТЫ НА ДОШКОЛЬНОМ УРОВНЕ ОБРАЗОВАНИЯ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Times New Roman"/>
              </a:rPr>
              <a:t>долже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ать специфику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ать общие закономерности развития де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меть организовывать ведущие виды дея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ть теорией и методиками развития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меть планировать, реализовывать и анализировать образовательную работу с деть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ть методами и средствами психолого-педагогического просвещения род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ть ИКТ-компетенц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Екатерина</cp:lastModifiedBy>
  <dcterms:modified xsi:type="dcterms:W3CDTF">2019-12-26T13:03:5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