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6ED-EB6E-4E92-9AF3-1F6E47D8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6CF-8BE1-4260-BD35-1C53B1CF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AA0-8E4F-4362-BA22-53254151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315-3922-4F33-9BAF-A9C411F8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2E7C-2233-481F-8F29-80FFC5DF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A592-8EE8-4A28-BC80-33FDA792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9605-5DAB-4F8F-A4C0-AD557DC3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AF0D-16E9-4542-8F79-D7E027AA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9105-86A7-44E4-A825-DE2DC37F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F6D8-57E5-47DB-9B4B-9ED4F451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62C9-3CDC-4615-8B24-50C83825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43D-F986-4B57-A017-F81758B5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D320-3799-42B6-BCF0-C62832B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1C5E-73B5-47D5-897E-9246E9F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6AC4-A0A8-4E34-9F65-51C6A9ED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1C23-AA0F-4C8F-BBC0-09A5A30D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F8D8-0E26-4F1C-AD3C-1F7C1D97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2B70F-4CBF-4B91-AE4E-C3994B8C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3050D-FAF6-4531-8318-37E27F3E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13F29-2536-4790-BC2B-D77E4E98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930F1-D0F8-4710-98DD-6DAE3241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64BB7-C796-4734-A709-D173B2D5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1BE-64EF-41D2-9715-95832C1C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EB162-F83E-443E-9732-CF1942A4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EF2CE-A867-4D6F-B281-D51CC250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69F16-8193-4F75-B2EC-5A4A4F2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629E9-C491-4753-927F-3D40F4BA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7F203-777E-467F-AD4B-25B88449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A332B-4CDD-41ED-93A5-54402D92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E4A54-3DA7-4D38-9384-6FFC2D83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78114-F83A-48CD-AA92-FA6C5558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66C67-6F40-4029-BFFE-BEED2B99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E85F4-DC44-4422-B285-9599A44A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ABF-68E1-4819-8CA5-444A2D77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E69C3-6073-4E7F-9FD3-7CDA82C9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B4329-A2D7-49B4-9891-1A0171C1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62E3A-E8D2-4629-AA93-D8E3D3A3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CE6C-E722-464E-8A24-2F65FB05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CB93-23FD-4CBA-B799-BD23112E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82B4B-AD0D-43E6-B2EF-0094E4D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2B76-8509-46E5-9AB8-DAF716B4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3A087-C317-4C0E-8197-EAF0FC86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C3AA-6B34-45B8-B8F6-532F9282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144-0719-4EA3-8F18-2A2B6885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6BF-0AB1-47EC-9AF1-7223C142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1A2-EA04-4170-ABF1-2E2B78EB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CBE-209B-491D-9A9B-485401E4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137-1A1C-415D-B578-8A9BAF5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4613-7846-438B-8E7A-511F77D97B0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C8DD-90E5-40E6-B48C-128EE50DCCF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2A76-68EA-47BF-AF94-B7E42F12B8D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3652-7259-46B3-9C3E-07DA58F9E29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f6f6f"/>
                </a:solidFill>
                <a:latin typeface="Trebuchet MS"/>
              </a:rPr>
              <a:t>Родительское собр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9280" y="1557360"/>
            <a:ext cx="78296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29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129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8462e"/>
                </a:solidFill>
                <a:latin typeface="Georgia"/>
              </a:rPr>
              <a:t>« Здоровье и безопасность детей в Интернете»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11280" y="4437000"/>
            <a:ext cx="2928960" cy="2197080"/>
          </a:xfrm>
          <a:prstGeom prst="rect">
            <a:avLst/>
          </a:prstGeom>
          <a:ln w="0">
            <a:noFill/>
          </a:ln>
        </p:spPr>
      </p:pic>
      <p:sp>
        <p:nvSpPr>
          <p:cNvPr id="217" name="Текст 3"/>
          <p:cNvSpPr/>
          <p:nvPr/>
        </p:nvSpPr>
        <p:spPr>
          <a:xfrm>
            <a:off x="4979880" y="5800680"/>
            <a:ext cx="39848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и: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306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знакомить родителей с угрозами, с которыми дети могут столкнуться в Интерне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06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местно найти пути решения данной пробл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06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будить родителей к полноценному общению со своими деть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306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ширить объем знаний родителей о нормах и методах решения возникающих проблем с деть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940000" y="2492280"/>
            <a:ext cx="2808360" cy="19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Georgia"/>
              </a:rPr>
              <a:t>Первая проблема -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 зависимость от сети Интерн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6" descr="shutterstock_95778295"/>
          <p:cNvPicPr/>
          <p:nvPr/>
        </p:nvPicPr>
        <p:blipFill>
          <a:blip r:embed="rId1"/>
          <a:stretch/>
        </p:blipFill>
        <p:spPr>
          <a:xfrm>
            <a:off x="324000" y="1628640"/>
            <a:ext cx="5545080" cy="408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760720" y="2060280"/>
            <a:ext cx="33829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Georgia"/>
              </a:rPr>
              <a:t>Вторая проблема -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современные дети часто посещают нежелательные сайты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6" descr="internet"/>
          <p:cNvPicPr/>
          <p:nvPr/>
        </p:nvPicPr>
        <p:blipFill>
          <a:blip r:embed="rId1"/>
          <a:stretch/>
        </p:blipFill>
        <p:spPr>
          <a:xfrm>
            <a:off x="250920" y="1700280"/>
            <a:ext cx="5279760" cy="396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52840" y="110124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00720" y="2276640"/>
            <a:ext cx="252720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Georgia"/>
              </a:rPr>
              <a:t>Третья проблема -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электронная почта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560088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39640" y="765000"/>
            <a:ext cx="8229600" cy="52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306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Georgia"/>
              </a:rPr>
              <a:t>Обсудите это с детьми, чтобы они понимали необходимость подобных запретов, тогда вместе вы обязательно сможете сделать прогулки ребенка в Сети наиболее безопасными</a:t>
            </a:r>
            <a:r>
              <a:rPr b="0" i="1" lang="ru-RU" sz="4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128592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ru-RU" sz="2900" spc="-1" strike="noStrike">
                <a:solidFill>
                  <a:srgbClr val="224043"/>
                </a:solidFill>
                <a:latin typeface="Trebuchet MS"/>
              </a:rPr>
              <a:t>Памятка для родителей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785520"/>
            <a:ext cx="889308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4043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4b8c93"/>
                </a:solidFill>
                <a:latin typeface="Georgia"/>
              </a:rPr>
              <a:t>Как сделать прогулки ребенка в Интернете более безопасными</a:t>
            </a: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 algn="just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Составьте список правил работы детей в Интернете и помните, что лучше твердое «нет», чем неуверенное «да». Пусть ограничения будут минимальны, но зато действовать всегда и без ограничени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 algn="just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Расскажите детям о необходимости сохранения конфиденциальных данных в тайне и о том, как лучше это сделать. Вот несколько простых правил, которых следует придерживаться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 algn="just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- при общении использовать только имя или псевдоним (ник)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 algn="just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- номер телефона, свой адрес, место учебы нельзя никому сообщать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 algn="just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- не пересылать свои фотографи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 algn="just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- без контроля взрослых не встречаться с людьми, знакомство с которыми завязалось в Сет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128592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ru-RU" sz="2900" spc="-1" strike="noStrike">
                <a:solidFill>
                  <a:srgbClr val="224043"/>
                </a:solidFill>
                <a:latin typeface="Trebuchet MS"/>
              </a:rPr>
              <a:t>Памятка для родителей: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836280"/>
            <a:ext cx="896472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just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Поясните, что в сети, несмотря на кажущуюся безнаказанность за какие-то проступки, там действуют те же правила, что и в реальной жизни: хорошо - плохо, правильно - не правильно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just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Научите детей развивать и доверять интуиции. При малейших признаках беспокойства, путь рассказывают об этом ва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just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Объясните, что далеко не все, что можно увидеть в Интернете – правда. При сомнениях, пусть лучше уточнит у вас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just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Используйте современные программы, которые предоставляют возможность фильтрации содержимого сайтов, контролировать места посещения и деятельность та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just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4043"/>
                </a:solidFill>
                <a:latin typeface="Georgia"/>
              </a:rPr>
              <a:t>Создайте доверительные отношения между вами и вашим ребенком. Посещайте его любимые сайты иногда вместе, если ребенок ведет дневник, время от времени прочитывайте его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Внимательно относитесь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к вашим детям!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Содержимое 5" descr="sl16.gif"/>
          <p:cNvPicPr/>
          <p:nvPr/>
        </p:nvPicPr>
        <p:blipFill>
          <a:blip r:embed="rId1"/>
          <a:srcRect l="14004" t="0" r="0" b="0"/>
          <a:stretch/>
        </p:blipFill>
        <p:spPr>
          <a:xfrm>
            <a:off x="1332000" y="2276640"/>
            <a:ext cx="6448320" cy="432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5:03:45Z</dcterms:created>
  <dc:creator>Admin</dc:creator>
  <dc:description/>
  <dc:language>en-US</dc:language>
  <cp:lastModifiedBy>User</cp:lastModifiedBy>
  <dcterms:modified xsi:type="dcterms:W3CDTF">2019-12-08T10:41:20Z</dcterms:modified>
  <cp:revision>18</cp:revision>
  <dc:subject/>
  <dc:title>Родительское собрание</dc:title>
</cp:coreProperties>
</file>