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gif" ContentType="image/gif"/>
  <Override PartName="/ppt/media/image6.wmf" ContentType="image/x-wmf"/>
  <Override PartName="/ppt/media/image7.gif" ContentType="image/gif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C2AF-49F2-4072-9665-6CB4F11F2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C9A6-E2C1-48EC-B8EB-0B5CF37B5E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430-29A7-4C32-8A64-811D65B4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C7E-1A4E-4877-8771-A30FD38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129-3B22-4667-976A-35B75BDB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DF1-BE49-4A8C-9C90-567788F1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C486-7B66-4981-806B-C4BC1410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1CF-CD50-4188-8CA0-90FDB6B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6A2-FC04-4313-BFC9-4D2DB7AA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3C9F-7BF0-46FB-BE99-258B743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DC58-B13A-4F1B-843E-AF55CA7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A56-BD3A-4E2E-A830-9E107281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5344-6618-4E31-9E36-BEEEB1E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E5A-D8F0-4582-ACF1-D639C55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1221-B2F4-46BA-9FA2-E406B4BE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D41-EA06-43BF-8BA5-A3F39D2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B90-310F-469E-9738-A2D33FD0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DEA1-C803-4EC9-B9E1-CC6BA9C4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49AC-0DE7-40DF-B710-9A86AE87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331-D184-40B8-BDA7-1B1500A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019-8CE6-4042-B9AE-4C7A69F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39A-B662-4FAD-8972-DCD4FDBF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38A-96EF-44ED-A435-EC32C4C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C8E-32C9-4BE3-ABFE-256153D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C87-056E-4C3A-A87D-8502BA7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CA5-D172-4DAD-A6C3-FA4BB894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D748-3142-4C30-8CC3-769F1FFD7B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B0A1-5EFD-4482-BA17-1C20BBB6D5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Calibri"/>
              </a:rPr>
              <a:t>«Активные методы обучения на уроках истории и обществознания»</a:t>
            </a:r>
            <a:endParaRPr b="1" lang="en-US" sz="4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подаватель ГБПОУ  «БРИТ»: Долматова Т.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dbdee13c60c9204fee7ec8d256b5f9fa"/>
          <p:cNvPicPr/>
          <p:nvPr/>
        </p:nvPicPr>
        <p:blipFill>
          <a:blip r:embed="rId1"/>
          <a:stretch/>
        </p:blipFill>
        <p:spPr>
          <a:xfrm>
            <a:off x="457200" y="4724280"/>
            <a:ext cx="16336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0279"/>
          <p:cNvPicPr/>
          <p:nvPr/>
        </p:nvPicPr>
        <p:blipFill>
          <a:blip r:embed="rId2"/>
          <a:stretch/>
        </p:blipFill>
        <p:spPr>
          <a:xfrm>
            <a:off x="5867280" y="152280"/>
            <a:ext cx="215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533520" y="1600200"/>
            <a:ext cx="80010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ю 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3908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Хороших методов</a:t>
            </a: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ru-RU" sz="4600" spc="-1" strike="noStrike">
                <a:solidFill>
                  <a:srgbClr val="ffff00"/>
                </a:solidFill>
                <a:latin typeface="Monotype Corsiva"/>
              </a:rPr>
              <a:t>существует столько, 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Monotype Corsiva"/>
              </a:rPr>
              <a:t>               сколько существует 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Monotype Corsiva"/>
              </a:rPr>
              <a:t>                        хороших учителей.</a:t>
            </a:r>
            <a:endParaRPr b="1" lang="en-US" sz="4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52400" y="4652640"/>
            <a:ext cx="74912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Monotype Corsiva"/>
              </a:rPr>
              <a:t>                                            </a:t>
            </a:r>
            <a:r>
              <a:rPr b="0" lang="ru-RU" sz="3200" spc="-1" strike="noStrike">
                <a:solidFill>
                  <a:srgbClr val="ccecff"/>
                </a:solidFill>
                <a:latin typeface="Monotype Corsiva"/>
              </a:rPr>
              <a:t>Д.Пой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icture 4"/>
          <p:cNvSpPr/>
          <p:nvPr/>
        </p:nvSpPr>
        <p:spPr>
          <a:xfrm>
            <a:off x="685800" y="1752480"/>
            <a:ext cx="1655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«Активные методы обучения на уроках истории и обществознания»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ые методы обучения (АМО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истема метод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ющих активность и разнообраз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ительной и практической деятель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хся в процессе освое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838080" y="539640"/>
            <a:ext cx="746784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тивные методы обучения на уроках истории и обществозн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ятся на практической направле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вом действе и творческом характере обуче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активности, разнообразных коммуникациях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алоге и полилоге, использовании знаний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ыта обучающихс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упповой форме организации их работы, вовлечен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оцесс всех органов чув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ятельностном подходе к обучению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ижении и рефлек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Проблемный метод обучения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Проблемная ситуац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 - создание обстановки, в которой у обучаемых возникает интеллектуально-психологическое затруднение, преодоление которого требует поиска новых знаний, новых подходов, направленных на выявление личной оценки противоречиям, заложенным в проблемной задаче (вопросе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Garamond"/>
              </a:rPr>
              <a:t>Метод проектирования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609480" y="2344680"/>
            <a:ext cx="731520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ект — это «пять «П»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бле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 (постановка проблемы, компоненты которой требуют решения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ектирование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(планирование деятельност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ис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нформации (сбор, систематизация, структурирование информаци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ду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 (изготовление, оформление продукт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 (выбор формы, подготовка и презентация, а также самооценка и самоанализ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Garamond"/>
              </a:rPr>
              <a:t>Лекция с запланированными ошибкам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Garamond"/>
              </a:rPr>
              <a:t>(лекция-провокация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подаватель сообщает, что в лекции будет сделано определенное количество ошибок различного типа (5-7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подаватель должен иметь перечень этих ошибок на бумаге, который он по просьбе слушателей обязан предъявить в конце лек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ушатели в конце лекции должны назвать ошибки, вместе с преподавателем или самостоятельно дать правильные версии решения пробле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cd10f1c1012cd06af88462100cbce55a"/>
          <p:cNvPicPr/>
          <p:nvPr/>
        </p:nvPicPr>
        <p:blipFill>
          <a:blip r:embed="rId1"/>
          <a:stretch/>
        </p:blipFill>
        <p:spPr>
          <a:xfrm>
            <a:off x="7467480" y="5486400"/>
            <a:ext cx="1447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«Исторический футбол»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а делится на команды (обычно по рядам), каждая из которых получает задание составить вопросы по определённому материалу: два простых (со слов кто, что, когда) и один сложный (со слов почему, зачем, в чём различие; что, если; объясните и т.д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ычно работа выполняется индивидуально в тетрадях, а групповая принадлежность необходима лишь при определении очереди вопроса: 1 ряд задаёт вопрос 2, 2-3-му, 3-1-му. Если никто из команды не смог ответить на вопрос – «гол», то весь ряд лишается права задавать вопрос в течение 1 тура, а значит- рискует рейтинг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J0183198"/>
          <p:cNvPicPr/>
          <p:nvPr/>
        </p:nvPicPr>
        <p:blipFill>
          <a:blip r:embed="rId1"/>
          <a:stretch/>
        </p:blipFill>
        <p:spPr>
          <a:xfrm>
            <a:off x="7162920" y="5481720"/>
            <a:ext cx="1600200" cy="13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PE00998_"/>
          <p:cNvPicPr/>
          <p:nvPr/>
        </p:nvPicPr>
        <p:blipFill>
          <a:blip r:embed="rId2"/>
          <a:stretch/>
        </p:blipFill>
        <p:spPr>
          <a:xfrm>
            <a:off x="304920" y="228600"/>
            <a:ext cx="1117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Задания креативного характера: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ложение учащимся по-своему выполнить то, что учителю уже известно, например, самостоятельно дать определение изучаемому поняти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ставление кроссворда, игры, викторины, родословной, сценария спектакля, своего задания для других ученик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здание образа (рисуночного, двигательного, словесного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5" descr="1b6"/>
          <p:cNvPicPr/>
          <p:nvPr/>
        </p:nvPicPr>
        <p:blipFill>
          <a:blip r:embed="rId1"/>
          <a:stretch/>
        </p:blipFill>
        <p:spPr>
          <a:xfrm>
            <a:off x="6248520" y="4495680"/>
            <a:ext cx="2670120" cy="207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Человечек-1"/>
          <p:cNvPicPr/>
          <p:nvPr/>
        </p:nvPicPr>
        <p:blipFill>
          <a:blip r:embed="rId2"/>
          <a:stretch/>
        </p:blipFill>
        <p:spPr>
          <a:xfrm>
            <a:off x="7315200" y="380880"/>
            <a:ext cx="1305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26T08:16:3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