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36.jpeg" ContentType="image/jpeg"/>
  <Override PartName="/ppt/media/image40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38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9E30-834C-4BDC-8ACD-CCBAE2D38E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C66D-55C3-4F25-B5B8-C2483E9A5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F9CC-9147-448C-8F6F-EF2E77EE0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AD1-CDA6-4F71-BC30-03A6DEBE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0B8-8CF9-4D88-BE8F-B778EF5D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7B2FE-0308-422A-8AA5-9C717505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FBBF6-424C-40EB-B3B6-4C4589C1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8412D-7C4B-4ACA-BD0E-8240E34B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57F59-C82D-4900-880F-823D1E1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CF4CD-E2F1-40A9-BB6B-C7E7260D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5F640-F2EF-4332-A609-569BEF56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2B6E3-9BA5-478E-ABE0-115D1C7B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AA1BD-D1DC-4A1B-B939-D58B71A1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26E42-6ACD-458D-BAE8-D6224E8F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7A187-D0E5-4A3E-ADAC-6A68F115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4DB-8B77-4F22-AFA4-D4AE514C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1F4B8-4527-43D9-AD8D-3BF48848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12559-DA0F-4087-A3C2-36397755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8A923-C697-4D37-B838-3FAEC070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18051-E882-44C5-964C-5625F5A8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8167D-50CA-4677-B201-4CC17FEC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EFB0B-BB91-4B2A-B855-C5D8C2F6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F40A2-8570-4D4C-A0BA-7225A642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AE75E-F1A4-4EAA-9258-0D7B362A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4ACD5-B6F4-41D2-AAB5-DD19870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217A2-5C30-4223-9638-9EDE11D6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1AF-4CB4-4476-8672-2CF43829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5D421-8814-486B-A550-CC06CF25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F7889-EFCC-4057-AB72-F39A97D5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11692-7BAA-4809-B3D8-5CDDFE1A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85912-29AD-45DA-96C2-5A810C61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FC814-E534-459D-A38C-B3ADB8B2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0CD8C-664E-452C-A74C-C63F5580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AC26C-E295-47B4-9EC0-1B04F506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F37E5-6A88-43AE-BEAE-ED0B4C9A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251F8-3354-4E9F-8D0C-C6504FE0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E3DB7-FA4A-420D-8C8F-7599564B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8272-D1A8-4490-9B76-493AA544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9B957-FEAF-4CD7-BD53-D28736E5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A381B-915E-4082-B349-6DE7CFC8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CBE4D-E988-4E6F-A081-9E229DC1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AD740-2E6D-4B2E-9D86-C026C9EC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BB717-83F1-4C02-9654-ECA1992D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7180D-A2A7-4826-8B15-02A7CD47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BBF36-3997-4A0B-B25A-050FD7F9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23C40-392E-4B70-B495-5BBCE3AF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E0249-CAD8-40EC-B172-738B598C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BED3A-B528-454B-A8EB-A532946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2056-7A01-4AB3-ADF8-774EDE43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1BCA7-F894-4277-A604-F13350E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D61C6-2D46-40E8-B27C-C8741162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3C33A-3661-457E-A869-45EC1418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EC7F3-C60D-425D-9424-53C8C3B5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7D309-848F-41FE-AE8E-135F2E19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F5C7-B50A-4939-AB2A-210AFE7E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B832-CF98-4FCB-A82E-CF2060D6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FA00-49C0-497C-BA5D-ABAACD0A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2A16-C928-4781-A3FF-405323DA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A657-1B9F-456B-BB6F-FEDE8E19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0E9-6DCB-43BD-AA53-FD240DAD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26ED-9B47-4009-8464-968DFBC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887E-0524-4FB2-8846-873E4440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2412-5062-4F95-8D48-C10E1FDB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D949-CB25-42C7-96D1-130D8969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424E-E9F6-4EEE-885A-C815BBE9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A84F-883B-4AEB-AEF8-2279157E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EFA1-B951-4329-B46E-BFE3B57A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AD64-10A8-4D92-BE7F-5F9B2986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6959-BF99-47B6-93E2-C68C2B65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C078-624D-40E2-B47A-25E63177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088-1B1E-4D50-A615-CF159DC5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2DB1-38FB-4AA3-ACAA-ED965048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46767-4FB5-4FF3-A4A6-6ECD43AD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61AB-3C8A-4007-8C9A-6D4CC470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9FA6-65B0-4E44-ADFD-3EA194E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2D08-E20C-4C30-87FA-12A9A27C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5E87-147D-48D4-97AC-EE763BED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AE2FC-BDB5-47BD-9610-4620FC58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203D8-A719-4037-BB63-636C3C6C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581D-DA21-4053-965A-0541B47F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6E84-9B43-4B9F-BFB8-B3175083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456-E88D-4951-AC3A-52DDE76A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3911-1911-4EDF-8E85-2CF40B70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4BA5D-1201-4506-9C3C-26836095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4EB45-2A87-46D0-B22F-D0262D54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34E59-634F-40CD-9405-C6AB0523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0BFDD-BA40-40DE-AAE3-C599AF55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E8F1-810A-4F82-971E-58F31275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A3FB-3658-404C-A611-80ED574C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C6F7-41EA-4A20-8405-6BBDA189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684A-960B-41F5-B727-6EE75850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CD6F3-30BC-4BD3-820D-E66D3FE5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032-A3F8-4545-9CFC-199C6CB1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7788A-82CA-4A18-A865-597E15C1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4EE53-707C-400E-963F-FE61C302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25ADB-C5A9-431B-BE07-3921F99E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9F54B-06D7-4D94-9591-0BB709A1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51F88-90C0-496C-9113-56A5747E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E81BD-6A67-4A0A-841D-86A4A48F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40A45-0BAF-404B-AE95-B6F3F89B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7A2E-D237-4035-886A-491D3F7A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5CF21-3049-4F7B-BB30-63F77D97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64068-CCC4-4098-AD61-0A09C073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757-18FF-4207-925F-8CA02E7B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B4331-3C90-4EE2-A406-18438E5D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9BC05-8EB0-4659-8014-AD941A8C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EEC64-2A1B-40B6-B87D-2C3CA881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CA6EA-C636-4C19-B295-4A9CB9AE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55158-4C6D-477F-86C9-2688E5AC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527EA-B8A2-46DD-A43D-F1AC2129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5EC6F-460A-4AAD-94EC-70E201CD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F14CD-8972-4865-8D59-0A6D3311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49EF6-A94F-4DE9-ADBE-8EFEA04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9F60C-8830-4639-A737-3D346C7C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954-CE8B-48FA-BDF4-45C105B2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C8080-9FFF-4CF3-B8FF-5F60A982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CC7C8-DD2B-412C-ABF8-0F2633F3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ED07C-A318-4912-8D4F-71E178D5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A95DE-F36D-4DAE-8698-18FB91B7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81944-6C89-48C5-A819-75E40A32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262C7-FB88-43B7-B1F0-B145E235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951B-7792-4690-9447-3C7E7B52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67503-63BA-45C6-B291-C0FE3EF8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AD539-7D93-49F1-9F13-F31D123B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290BF-FFD8-429E-B336-1764ECFA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9A7-B915-43AA-A25A-CDB9D7D8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8F172-07ED-4C64-992D-143C1F58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4EB2-27A1-4655-BF19-836DA72D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171DD-610F-47DB-8140-3E68BAB1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20E96-09F7-4532-BED0-3814B9E2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17034-8E4C-4426-9ED3-1AB6798C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BC628-10D4-4312-88D1-D528DFDB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7C75D-93BE-4C41-A299-1DB858F5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88CC9-3CAA-403A-BE36-D1CB329A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866A0-16A8-43FF-9184-D7A91288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60212-77A5-4C51-A9E5-41AFD727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3F0-1AB1-4587-9EB9-E4BB8465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C232B-8F39-42BD-B110-29385774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BB177-6A2D-43B9-9968-23920E8E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3847C-A375-4248-AD7E-FE7C7D69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73CF1-DE77-403A-8367-ABA8061E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49364-9D0C-4C2A-8F2C-9DAB6205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4BF17-69BF-462C-80A3-16F8470C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FBDB1-A231-457F-B3B5-92186B27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43220-5E77-49B2-B512-74F9B8CF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ED714-6091-4C3C-9E8A-A2622463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BD06B-1F0C-4102-B1BD-E44AF5A8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179280" y="293760"/>
            <a:ext cx="8785440" cy="6159600"/>
          </a:xfrm>
          <a:prstGeom prst="roundRect">
            <a:avLst>
              <a:gd name="adj" fmla="val 4741"/>
            </a:avLst>
          </a:prstGeom>
          <a:solidFill>
            <a:srgbClr val="3f6c19">
              <a:alpha val="80000"/>
            </a:srgbClr>
          </a:solidFill>
          <a:ln w="57240">
            <a:solidFill>
              <a:srgbClr val="66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7CC0-E49F-46A1-A068-21F0A0DBF8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B429-F628-4CC6-A2A1-5B18D52D2D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14FC-EB43-4AE1-8BD7-401E2E53B9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A24F-AB47-4C70-85BA-C9885EF0DB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"/>
          <p:cNvSpPr/>
          <p:nvPr/>
        </p:nvSpPr>
        <p:spPr>
          <a:xfrm>
            <a:off x="2735280" y="51498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33"/>
                </a:solidFill>
                <a:latin typeface="Arial"/>
              </a:rPr>
              <a:t>Просмо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>
            <a:hlinkClick r:id="" action="ppaction://hlinkshowjump?jump=nextslide"/>
          </p:cNvPr>
          <p:cNvSpPr/>
          <p:nvPr/>
        </p:nvSpPr>
        <p:spPr>
          <a:xfrm>
            <a:off x="2843280" y="4797360"/>
            <a:ext cx="345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5D5B-9BC1-4FE5-B887-44ED522C5C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DAC6-0806-4E95-860E-C4B4EF8F59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95B1-8377-4BBF-A8C7-A6DF7759C6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BD45-BE80-4DCD-A191-5DCC4DB565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CFB3-0DBB-43A5-B630-3B9122A005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086-A348-4F51-8A02-437D7D689A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755E-E50D-4C24-895D-44DFEC3A5C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88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b880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0D35-CCEF-4213-BC90-63A7660A8A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85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14" descr="подс1.jpg"/>
          <p:cNvPicPr/>
          <p:nvPr/>
        </p:nvPicPr>
        <p:blipFill>
          <a:blip r:embed="rId1"/>
          <a:stretch/>
        </p:blipFill>
        <p:spPr>
          <a:xfrm>
            <a:off x="6012000" y="6093000"/>
            <a:ext cx="928440" cy="114912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" descr="тр4.jpg"/>
          <p:cNvPicPr/>
          <p:nvPr/>
        </p:nvPicPr>
        <p:blipFill>
          <a:blip r:embed="rId2"/>
          <a:stretch/>
        </p:blipFill>
        <p:spPr>
          <a:xfrm>
            <a:off x="18572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3" descr="тр4.jpg"/>
          <p:cNvPicPr/>
          <p:nvPr/>
        </p:nvPicPr>
        <p:blipFill>
          <a:blip r:embed="rId3"/>
          <a:stretch/>
        </p:blipFill>
        <p:spPr>
          <a:xfrm>
            <a:off x="371484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4" descr="тр4.jpg"/>
          <p:cNvPicPr/>
          <p:nvPr/>
        </p:nvPicPr>
        <p:blipFill>
          <a:blip r:embed="rId4"/>
          <a:stretch/>
        </p:blipFill>
        <p:spPr>
          <a:xfrm>
            <a:off x="5580000" y="6143760"/>
            <a:ext cx="188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506" name="Группа 29"/>
          <p:cNvGrpSpPr/>
          <p:nvPr/>
        </p:nvGrpSpPr>
        <p:grpSpPr>
          <a:xfrm>
            <a:off x="-571680" y="-360"/>
            <a:ext cx="10144440" cy="7036200"/>
            <a:chOff x="-571680" y="-360"/>
            <a:chExt cx="10144440" cy="7036200"/>
          </a:xfrm>
        </p:grpSpPr>
        <p:sp>
          <p:nvSpPr>
            <p:cNvPr id="507" name="Дуга 9"/>
            <p:cNvSpPr/>
            <p:nvPr/>
          </p:nvSpPr>
          <p:spPr>
            <a:xfrm rot="16200000">
              <a:off x="1024200" y="-1272240"/>
              <a:ext cx="6883560" cy="973188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880"/>
                <a:gd name="textAreaBottom" fmla="*/ 9709560 h 973188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9"/>
                  </a:lnTo>
                  <a:arcTo wR="3441599" hR="4317456" stAng="-5096356" swAng="10232017"/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9"/>
                  </a:lnTo>
                  <a:arcTo wR="3441599" hR="4317456" stAng="-5096356" swAng="10232017"/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Группа 18"/>
            <p:cNvGrpSpPr/>
            <p:nvPr/>
          </p:nvGrpSpPr>
          <p:grpSpPr>
            <a:xfrm>
              <a:off x="-571680" y="-360"/>
              <a:ext cx="10144440" cy="7036200"/>
              <a:chOff x="-571680" y="-360"/>
              <a:chExt cx="10144440" cy="7036200"/>
            </a:xfrm>
          </p:grpSpPr>
          <p:sp>
            <p:nvSpPr>
              <p:cNvPr id="509" name="Дуга 10"/>
              <p:cNvSpPr/>
              <p:nvPr/>
            </p:nvSpPr>
            <p:spPr>
              <a:xfrm rot="16200000">
                <a:off x="1049400" y="-1165680"/>
                <a:ext cx="6821640" cy="958104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1040"/>
                  <a:gd name="textAreaBottom" fmla="*/ 9535680 h 9581040"/>
                </a:gdLst>
                <a:ahLst/>
                <a:rect l="textAreaLeft" t="textAreaTop" r="textAreaRight" b="textAreaBottom"/>
                <a:pathLst>
                  <a:path stroke="0" w="6821285" h="8501091">
                    <a:moveTo>
                      <a:pt x="3784786" y="25653"/>
                    </a:moveTo>
                    <a:lnTo>
                      <a:pt x="3784786" y="25653"/>
                    </a:lnTo>
                    <a:arcTo wR="3410643" hR="4250546" stAng="-5096356" swAng="10114478"/>
                    <a:lnTo>
                      <a:pt x="3410643" y="4250546"/>
                    </a:lnTo>
                    <a:close/>
                  </a:path>
                  <a:path fill="none" w="6821285" h="8501091">
                    <a:moveTo>
                      <a:pt x="3784786" y="25653"/>
                    </a:moveTo>
                    <a:lnTo>
                      <a:pt x="3784786" y="25653"/>
                    </a:lnTo>
                    <a:arcTo wR="3410643" hR="4250546" stAng="-5096356" swAng="10114478"/>
                  </a:path>
                </a:pathLst>
              </a:custGeom>
              <a:noFill/>
              <a:ln w="7632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" name="Группа 17"/>
              <p:cNvGrpSpPr/>
              <p:nvPr/>
            </p:nvGrpSpPr>
            <p:grpSpPr>
              <a:xfrm>
                <a:off x="-571680" y="-360"/>
                <a:ext cx="10144440" cy="7036200"/>
                <a:chOff x="-571680" y="-360"/>
                <a:chExt cx="10144440" cy="7036200"/>
              </a:xfrm>
            </p:grpSpPr>
            <p:grpSp>
              <p:nvGrpSpPr>
                <p:cNvPr id="511" name="Группа 16"/>
                <p:cNvGrpSpPr/>
                <p:nvPr/>
              </p:nvGrpSpPr>
              <p:grpSpPr>
                <a:xfrm>
                  <a:off x="-571680" y="-360"/>
                  <a:ext cx="10144440" cy="7035840"/>
                  <a:chOff x="-571680" y="-360"/>
                  <a:chExt cx="10144440" cy="7035840"/>
                </a:xfrm>
              </p:grpSpPr>
              <p:sp>
                <p:nvSpPr>
                  <p:cNvPr id="512" name="Дуга 6"/>
                  <p:cNvSpPr/>
                  <p:nvPr/>
                </p:nvSpPr>
                <p:spPr>
                  <a:xfrm rot="16200000">
                    <a:off x="1058760" y="-1630800"/>
                    <a:ext cx="6883560" cy="1014444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440"/>
                      <a:gd name="textAreaBottom" fmla="*/ 10119240 h 1014444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10" y="29878"/>
                        </a:lnTo>
                        <a:arcTo wR="3441599" hR="4500578" stAng="-5096356" swAng="10232018"/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10" y="29878"/>
                        </a:lnTo>
                        <a:arcTo wR="3441599" hR="4500578" stAng="-5096356" swAng="10232018"/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Дуга 7"/>
                  <p:cNvSpPr/>
                  <p:nvPr/>
                </p:nvSpPr>
                <p:spPr>
                  <a:xfrm rot="16200000">
                    <a:off x="1058760" y="-1478520"/>
                    <a:ext cx="6883560" cy="998280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800"/>
                      <a:gd name="textAreaBottom" fmla="*/ 9958680 h 9982800"/>
                    </a:gdLst>
                    <a:ahLst/>
                    <a:rect l="textAreaLeft" t="textAreaTop" r="textAreaRight" b="textAreaBottom"/>
                    <a:pathLst>
                      <a:path stroke="0" w="6883197" h="8857475">
                        <a:moveTo>
                          <a:pt x="3825188" y="27594"/>
                        </a:moveTo>
                        <a:lnTo>
                          <a:pt x="3825188" y="27594"/>
                        </a:lnTo>
                        <a:arcTo wR="3441599" hR="4428738" stAng="-5101132" swAng="10236794"/>
                        <a:lnTo>
                          <a:pt x="3441599" y="4428738"/>
                        </a:lnTo>
                        <a:close/>
                      </a:path>
                      <a:path fill="none" w="6883197" h="8857475">
                        <a:moveTo>
                          <a:pt x="3825188" y="27594"/>
                        </a:moveTo>
                        <a:lnTo>
                          <a:pt x="3825188" y="27594"/>
                        </a:lnTo>
                        <a:arcTo wR="3441599" hR="4428738" stAng="-5101132" swAng="10236794"/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Дуга 8"/>
                  <p:cNvSpPr/>
                  <p:nvPr/>
                </p:nvSpPr>
                <p:spPr>
                  <a:xfrm rot="16200000">
                    <a:off x="1054080" y="-1392840"/>
                    <a:ext cx="6883560" cy="997308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3080"/>
                      <a:gd name="textAreaBottom" fmla="*/ 9932040 h 9973080"/>
                    </a:gdLst>
                    <a:ahLst/>
                    <a:rect l="textAreaLeft" t="textAreaTop" r="textAreaRight" b="textAreaBottom"/>
                    <a:pathLst>
                      <a:path stroke="0" w="6883197" h="8849024">
                        <a:moveTo>
                          <a:pt x="3830905" y="28398"/>
                        </a:moveTo>
                        <a:lnTo>
                          <a:pt x="3830905" y="28398"/>
                        </a:lnTo>
                        <a:arcTo wR="3441599" hR="4424512" stAng="-5096356" swAng="10152202"/>
                        <a:lnTo>
                          <a:pt x="3441599" y="4424512"/>
                        </a:lnTo>
                        <a:close/>
                      </a:path>
                      <a:path fill="none" w="6883197" h="8849024">
                        <a:moveTo>
                          <a:pt x="3830905" y="28398"/>
                        </a:moveTo>
                        <a:lnTo>
                          <a:pt x="3830905" y="28398"/>
                        </a:lnTo>
                        <a:arcTo wR="3441599" hR="4424512" stAng="-5096356" swAng="10152202"/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Дуга 11"/>
                  <p:cNvSpPr/>
                  <p:nvPr/>
                </p:nvSpPr>
                <p:spPr>
                  <a:xfrm rot="16200000">
                    <a:off x="1085040" y="-1049040"/>
                    <a:ext cx="6750360" cy="941904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9040"/>
                      <a:gd name="textAreaBottom" fmla="*/ 9397800 h 9419040"/>
                    </a:gdLst>
                    <a:ahLst/>
                    <a:rect l="textAreaLeft" t="textAreaTop" r="textAreaRight" b="textAreaBottom"/>
                    <a:pathLst>
                      <a:path stroke="0" w="6749850" h="8357411">
                        <a:moveTo>
                          <a:pt x="3742773" y="24895"/>
                        </a:moveTo>
                        <a:lnTo>
                          <a:pt x="3742773" y="24895"/>
                        </a:lnTo>
                        <a:arcTo wR="3374925" hR="4178706" stAng="-5096356" swAng="10232019"/>
                        <a:lnTo>
                          <a:pt x="3374925" y="4178706"/>
                        </a:lnTo>
                        <a:close/>
                      </a:path>
                      <a:path fill="none" w="6749850" h="8357411">
                        <a:moveTo>
                          <a:pt x="3742773" y="24895"/>
                        </a:moveTo>
                        <a:lnTo>
                          <a:pt x="3742773" y="24895"/>
                        </a:lnTo>
                        <a:arcTo wR="3374925" hR="4178706" stAng="-5096356" swAng="10232019"/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Дуга 12"/>
                <p:cNvSpPr/>
                <p:nvPr/>
              </p:nvSpPr>
              <p:spPr>
                <a:xfrm rot="16200000">
                  <a:off x="1121760" y="-932760"/>
                  <a:ext cx="6678720" cy="925884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840"/>
                    <a:gd name="textAreaBottom" fmla="*/ 9238320 h 925884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7"/>
                      </a:lnTo>
                      <a:arcTo wR="3339208" hR="4107570" stAng="-5096356" swAng="10232019"/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7"/>
                      </a:lnTo>
                      <a:arcTo wR="3339208" hR="4107570" stAng="-5096356" swAng="10232019"/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17" name="Рисунок 1" descr="тр4.jpg"/>
          <p:cNvPicPr/>
          <p:nvPr/>
        </p:nvPicPr>
        <p:blipFill>
          <a:blip r:embed="rId5"/>
          <a:stretch/>
        </p:blipFill>
        <p:spPr>
          <a:xfrm>
            <a:off x="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5" descr="тр4.jpg"/>
          <p:cNvPicPr/>
          <p:nvPr/>
        </p:nvPicPr>
        <p:blipFill>
          <a:blip r:embed="rId6"/>
          <a:stretch/>
        </p:blipFill>
        <p:spPr>
          <a:xfrm>
            <a:off x="7261200" y="6143760"/>
            <a:ext cx="1882800" cy="71424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3" descr="подс1.jpg"/>
          <p:cNvPicPr/>
          <p:nvPr/>
        </p:nvPicPr>
        <p:blipFill>
          <a:blip r:embed="rId7"/>
          <a:stretch/>
        </p:blipFill>
        <p:spPr>
          <a:xfrm>
            <a:off x="8215200" y="5516640"/>
            <a:ext cx="928800" cy="11491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30" descr="ромашка5.jpg"/>
          <p:cNvPicPr/>
          <p:nvPr/>
        </p:nvPicPr>
        <p:blipFill>
          <a:blip r:embed="rId8"/>
          <a:stretch/>
        </p:blipFill>
        <p:spPr>
          <a:xfrm rot="1176000">
            <a:off x="3728880" y="5764320"/>
            <a:ext cx="731880" cy="67788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31" descr="бк2.png"/>
          <p:cNvPicPr/>
          <p:nvPr/>
        </p:nvPicPr>
        <p:blipFill>
          <a:blip r:embed="rId9"/>
          <a:stretch/>
        </p:blipFill>
        <p:spPr>
          <a:xfrm>
            <a:off x="5219640" y="6551640"/>
            <a:ext cx="381240" cy="306360"/>
          </a:xfrm>
          <a:prstGeom prst="rect">
            <a:avLst/>
          </a:prstGeom>
          <a:ln w="0">
            <a:noFill/>
          </a:ln>
        </p:spPr>
      </p:pic>
      <p:sp>
        <p:nvSpPr>
          <p:cNvPr id="522" name="TextBox 58"/>
          <p:cNvSpPr/>
          <p:nvPr/>
        </p:nvSpPr>
        <p:spPr>
          <a:xfrm>
            <a:off x="928800" y="21430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6" descr="C:\Users\1\Desktop\sport011.jpg"/>
          <p:cNvPicPr/>
          <p:nvPr/>
        </p:nvPicPr>
        <p:blipFill>
          <a:blip r:embed="rId10"/>
          <a:stretch/>
        </p:blipFill>
        <p:spPr>
          <a:xfrm>
            <a:off x="324000" y="3573360"/>
            <a:ext cx="3419280" cy="270828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оугольник 26"/>
          <p:cNvSpPr/>
          <p:nvPr/>
        </p:nvSpPr>
        <p:spPr>
          <a:xfrm>
            <a:off x="357120" y="428760"/>
            <a:ext cx="8001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 по тем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Физкультурно-оздоровительная работа в детском саду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iz_kinofilma_moy_laskovyy_i_nezhnyy_zver_-_vals_(zaycev.net) (1).mp3" descr=""/>
          <p:cNvPicPr/>
          <p:nvPr/>
        </p:nvPicPr>
        <p:blipFill>
          <a:blip r:embed="rId11"/>
          <a:stretch/>
        </p:blipFill>
        <p:spPr>
          <a:xfrm>
            <a:off x="3851280" y="7174080"/>
            <a:ext cx="304920" cy="711000"/>
          </a:xfrm>
          <a:prstGeom prst="rect">
            <a:avLst/>
          </a:prstGeom>
          <a:ln w="0">
            <a:noFill/>
          </a:ln>
        </p:spPr>
      </p:pic>
      <p:pic>
        <p:nvPicPr>
          <p:cNvPr id="527" name="iz_kinofilma_moy_laskovyy_i_nezhnyy_zver_-_vals_(zaycev.net).mp3" descr=""/>
          <p:cNvPicPr/>
          <p:nvPr/>
        </p:nvPicPr>
        <p:blipFill>
          <a:blip r:embed="rId12"/>
          <a:stretch/>
        </p:blipFill>
        <p:spPr>
          <a:xfrm>
            <a:off x="428616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8" name="TextBox 30"/>
          <p:cNvSpPr/>
          <p:nvPr/>
        </p:nvSpPr>
        <p:spPr>
          <a:xfrm>
            <a:off x="4356000" y="4076640"/>
            <a:ext cx="37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фон для презентации.mp3" descr=""/>
          <p:cNvPicPr/>
          <p:nvPr/>
        </p:nvPicPr>
        <p:blipFill>
          <a:blip r:embed="rId13"/>
          <a:stretch/>
        </p:blipFill>
        <p:spPr>
          <a:xfrm>
            <a:off x="4357800" y="7215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D:\с камеры\DSC00914.JPG"/>
          <p:cNvPicPr/>
          <p:nvPr/>
        </p:nvPicPr>
        <p:blipFill>
          <a:blip r:embed="rId1"/>
          <a:stretch/>
        </p:blipFill>
        <p:spPr>
          <a:xfrm>
            <a:off x="4710240" y="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D:\с камеры\DSC00919.JPG"/>
          <p:cNvPicPr/>
          <p:nvPr/>
        </p:nvPicPr>
        <p:blipFill>
          <a:blip r:embed="rId2"/>
          <a:stretch/>
        </p:blipFill>
        <p:spPr>
          <a:xfrm>
            <a:off x="142920" y="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D:\с камеры\DSC00938.JPG"/>
          <p:cNvPicPr/>
          <p:nvPr/>
        </p:nvPicPr>
        <p:blipFill>
          <a:blip r:embed="rId3"/>
          <a:stretch/>
        </p:blipFill>
        <p:spPr>
          <a:xfrm>
            <a:off x="4572000" y="3500280"/>
            <a:ext cx="4359240" cy="32702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D:\с камеры\DSC00964.JPG"/>
          <p:cNvPicPr/>
          <p:nvPr/>
        </p:nvPicPr>
        <p:blipFill>
          <a:blip r:embed="rId4"/>
          <a:stretch/>
        </p:blipFill>
        <p:spPr>
          <a:xfrm>
            <a:off x="142920" y="3500280"/>
            <a:ext cx="4381560" cy="3214800"/>
          </a:xfrm>
          <a:prstGeom prst="rect">
            <a:avLst/>
          </a:prstGeom>
          <a:ln w="0">
            <a:noFill/>
          </a:ln>
        </p:spPr>
      </p:pic>
      <p:sp>
        <p:nvSpPr>
          <p:cNvPr id="574" name="TextBox 5"/>
          <p:cNvSpPr/>
          <p:nvPr/>
        </p:nvSpPr>
        <p:spPr>
          <a:xfrm>
            <a:off x="214200" y="2714760"/>
            <a:ext cx="814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Летом, на участке нас ждут герои сказок, а помимо игр, надо еще успеть полюбоваться на лебединое озеро, спросить  как  дела у черепахи, посмотреть где выросли грибы после дожд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"/>
          <p:cNvSpPr/>
          <p:nvPr/>
        </p:nvSpPr>
        <p:spPr>
          <a:xfrm>
            <a:off x="285840" y="252360"/>
            <a:ext cx="8143920" cy="68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В системе физкультурно-оздоровительной рабо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ДОУ прочное место занимают физкультурные празд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спортивный досуг, дни здоров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Интересное содержание, юмор, музыкальное оформление, игры, соревнования, радостная атмосфера способствуют активизации двигательной деятельности. Совместная деятельность детей, преодоление в команде различных трудностей, достижение общего командного результата – все это сплачивает детский коллектив. Дети сопереживают успехам и неудачам своих товарищей, радуются достижениям, поддерживают хорошие отношения между собой, проявляют заботу к более младшим, застенчивым и неловким детям, учатся стремиться не только к индивидуальным, но и к командным победам. Организация совместных мероприятий доставляет детям и родителям огромную радость, помогает вовлекать родителей в учебно-воспитательный процесс ДО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Наибольшую пользу для оздоровления и закаливания детей приносят физкультурные праздники, организованные на открытом воздухе. Наряду с физкультурными праздниками в ДОУ широко используются физкультурные досуги, которые  не требует специальной подготовки, строятся на хорошо знакомом детям материале и проводятся несколькими группами, близкими по возрастному составу (старшие и подготовительные группы). При организации активного отдыха красочно оформляются места проведения (физкультурный зал, групповая комната, спортивная площадка) в соответствии с намеченным содержанием мероприятий, а также используется музыкальное сопровождение. Полезно соблюдение определенных ритуалов (например, приветствия команд, зрителей, показательных выступлений участников, торжественных церемоний открытия и закрытия праздника и д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Рустам\Desktop\Фото на конкурс\DSC01043.JPG"/>
          <p:cNvPicPr/>
          <p:nvPr/>
        </p:nvPicPr>
        <p:blipFill>
          <a:blip r:embed="rId1"/>
          <a:stretch/>
        </p:blipFill>
        <p:spPr>
          <a:xfrm>
            <a:off x="0" y="3857760"/>
            <a:ext cx="4363920" cy="3000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C:\Users\Рустам\Desktop\Фото на конкурс\DSC01060.JPG"/>
          <p:cNvPicPr/>
          <p:nvPr/>
        </p:nvPicPr>
        <p:blipFill>
          <a:blip r:embed="rId2"/>
          <a:stretch/>
        </p:blipFill>
        <p:spPr>
          <a:xfrm>
            <a:off x="0" y="571680"/>
            <a:ext cx="4064040" cy="24764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C:\Users\Рустам\Desktop\Фото на конкурс\DSC01066.JPG"/>
          <p:cNvPicPr/>
          <p:nvPr/>
        </p:nvPicPr>
        <p:blipFill>
          <a:blip r:embed="rId3"/>
          <a:stretch/>
        </p:blipFill>
        <p:spPr>
          <a:xfrm>
            <a:off x="5060880" y="428760"/>
            <a:ext cx="4083120" cy="3062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C:\Users\Рустам\Desktop\Фото на конкурс\DSC01073.JPG"/>
          <p:cNvPicPr/>
          <p:nvPr/>
        </p:nvPicPr>
        <p:blipFill>
          <a:blip r:embed="rId4"/>
          <a:stretch/>
        </p:blipFill>
        <p:spPr>
          <a:xfrm>
            <a:off x="4643280" y="3714840"/>
            <a:ext cx="4500720" cy="3143160"/>
          </a:xfrm>
          <a:prstGeom prst="rect">
            <a:avLst/>
          </a:prstGeom>
          <a:ln w="0">
            <a:noFill/>
          </a:ln>
        </p:spPr>
      </p:pic>
      <p:sp>
        <p:nvSpPr>
          <p:cNvPr id="580" name="TextBox 7"/>
          <p:cNvSpPr/>
          <p:nvPr/>
        </p:nvSpPr>
        <p:spPr>
          <a:xfrm>
            <a:off x="214200" y="0"/>
            <a:ext cx="721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Наибольшую пользу для оздоровления и закаливания детей приносят физкультурные праздники, организованные на открытом воздухе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Рисунок 28" descr="DSC01033.JPG"/>
          <p:cNvPicPr/>
          <p:nvPr/>
        </p:nvPicPr>
        <p:blipFill>
          <a:blip r:embed="rId5"/>
          <a:stretch/>
        </p:blipFill>
        <p:spPr>
          <a:xfrm>
            <a:off x="2571840" y="264312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2"/>
          <p:cNvSpPr/>
          <p:nvPr/>
        </p:nvSpPr>
        <p:spPr>
          <a:xfrm>
            <a:off x="642960" y="0"/>
            <a:ext cx="2786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Прямоугольник 1"/>
          <p:cNvSpPr/>
          <p:nvPr/>
        </p:nvSpPr>
        <p:spPr>
          <a:xfrm>
            <a:off x="285840" y="0"/>
            <a:ext cx="85723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Самомассаж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 – помогает повысить защитные функции организма ребёнка. Во время утренних процедур проводим игровой самомассаж ушных раковин, пальцев. Выполняя упражнения самомассажа в игровой форме, дети получают радость и хорошее настроение. Такие упражнения способствуют формированию у ребенка сознательного стремления к здоровью, развитие навыков собственного оздоро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Использование музыки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на занятиях по физической культуре содействует формированию у детей правильных представлений о характере движений, вырабатывает у них точность и выразительность при выполнении упражнений, положительно сказывается на эстетическом, нравственном и физическом развитии, способствует формированию правильной осанки и спортивной походке, движения становятся красивыми, ловкими, экономичны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Пальчиковая гимнастика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 - служит для развития у детей ручной умелости мелкой моторики и координации движений рук. Упражнения, превращают учебный процесс в увлекательную игру, не только обогащают внутренний мир ребенка, но и оказывают положительное воздействие на улучшение памяти, мышления, развивает фантаз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Упражнения на  фитболе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 -  с большим гимнастическим мячом. Упражнения с этими мячами способствуют созданию сильного мышечного корсета вокруг позвоночника, развитию выносливости, ловкости, координации движений, улучшению работы внутренних орга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Занятия на мячах улучшают общее самочувствие, повышают эмоциональный тонус, создают оптимальные условия для правильного положения туловища, способствуя улучшению осанки и профилактики ее наруш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"/>
          <p:cNvSpPr/>
          <p:nvPr/>
        </p:nvSpPr>
        <p:spPr>
          <a:xfrm>
            <a:off x="357120" y="257040"/>
            <a:ext cx="7858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В поисках новых методов мое внимание привлек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методика игрового стретчин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Методика игрового стретчинга направлена на активизацию защитных сил организма детей, овладение навыками совершенного управления своим телом, на развитие и высвобождение творческих и оздоровительных возможностей под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Игровой стретчинг – это творческая деятельность, при которой дети живут в мире образов. Близкие и понятные детям образы сказочного мира позволяют легко выполнять физические упраж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Этими упражнениями можно начинать заниматься уже с детьми  от трех-четырех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Начиная рассказывать сказку нужно  одновременно разыгрывать  ее.  Игра состоит из нескольких фрагментов, в которое вплетены упражнения на статическую растяжку мышц, прыжки, расслабление для восстановления дыхания, и длится до 20 мину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После занятий игровым стретчингом у детей улучшается настроение, взаимопонимание. Разучив упражнения, дети самостоятельно разыгрывают сказку и придумывают свои сказки с движениями, тем самым развивая свои творческие способ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Помимо общего оздоровительного эффекта, умения  управлять своим телом, запас целенаправленных двигательных навыков позволяет детям чувствовать себя сильными, уверенными в себе, красивыми, избавляет их от различных комплексов, создает чувство внутренней своб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D:\с камеры\DSC00309.JPG"/>
          <p:cNvPicPr/>
          <p:nvPr/>
        </p:nvPicPr>
        <p:blipFill>
          <a:blip r:embed="rId1"/>
          <a:stretch/>
        </p:blipFill>
        <p:spPr>
          <a:xfrm>
            <a:off x="6643800" y="500076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ransition advTm="71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6" descr="C:\Users\Рустам\Desktop\Фото на конкурс\SANY0519.JPG"/>
          <p:cNvPicPr/>
          <p:nvPr/>
        </p:nvPicPr>
        <p:blipFill>
          <a:blip r:embed="rId1"/>
          <a:stretch/>
        </p:blipFill>
        <p:spPr>
          <a:xfrm>
            <a:off x="357120" y="78588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C:\Users\Рустам\Desktop\Фото на конкурс\SANY0528.JPG"/>
          <p:cNvPicPr/>
          <p:nvPr/>
        </p:nvPicPr>
        <p:blipFill>
          <a:blip r:embed="rId2"/>
          <a:stretch/>
        </p:blipFill>
        <p:spPr>
          <a:xfrm>
            <a:off x="285840" y="3786120"/>
            <a:ext cx="4348080" cy="3071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8" descr="C:\Users\Рустам\Desktop\Фото на конкурс\SANY0532.JPG"/>
          <p:cNvPicPr/>
          <p:nvPr/>
        </p:nvPicPr>
        <p:blipFill>
          <a:blip r:embed="rId3"/>
          <a:stretch/>
        </p:blipFill>
        <p:spPr>
          <a:xfrm>
            <a:off x="4857840" y="285840"/>
            <a:ext cx="3706560" cy="27795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9" descr="C:\Users\Рустам\Desktop\Фото на конкурс\SANY0525.JPG"/>
          <p:cNvPicPr/>
          <p:nvPr/>
        </p:nvPicPr>
        <p:blipFill>
          <a:blip r:embed="rId4"/>
          <a:stretch/>
        </p:blipFill>
        <p:spPr>
          <a:xfrm>
            <a:off x="4707000" y="3143160"/>
            <a:ext cx="4437000" cy="37148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9"/>
          <p:cNvSpPr/>
          <p:nvPr/>
        </p:nvSpPr>
        <p:spPr>
          <a:xfrm>
            <a:off x="357120" y="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Физкультурный уголок нашей группы наполнен интересными пособ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Диаграмма 1" descr=""/>
          <p:cNvPicPr/>
          <p:nvPr/>
        </p:nvPicPr>
        <p:blipFill>
          <a:blip r:embed="rId1"/>
          <a:stretch/>
        </p:blipFill>
        <p:spPr>
          <a:xfrm>
            <a:off x="-291960" y="-6480"/>
            <a:ext cx="4370400" cy="2756160"/>
          </a:xfrm>
          <a:prstGeom prst="rect">
            <a:avLst/>
          </a:prstGeom>
          <a:ln w="0">
            <a:noFill/>
          </a:ln>
        </p:spPr>
      </p:pic>
      <p:pic>
        <p:nvPicPr>
          <p:cNvPr id="592" name="Диаграмма 2" descr=""/>
          <p:cNvPicPr/>
          <p:nvPr/>
        </p:nvPicPr>
        <p:blipFill>
          <a:blip r:embed="rId2"/>
          <a:stretch/>
        </p:blipFill>
        <p:spPr>
          <a:xfrm>
            <a:off x="1865160" y="1706400"/>
            <a:ext cx="4711680" cy="3011760"/>
          </a:xfrm>
          <a:prstGeom prst="rect">
            <a:avLst/>
          </a:prstGeom>
          <a:ln w="0">
            <a:noFill/>
          </a:ln>
        </p:spPr>
      </p:pic>
      <p:pic>
        <p:nvPicPr>
          <p:cNvPr id="593" name="Диаграмма 3" descr=""/>
          <p:cNvPicPr/>
          <p:nvPr/>
        </p:nvPicPr>
        <p:blipFill>
          <a:blip r:embed="rId3"/>
          <a:stretch/>
        </p:blipFill>
        <p:spPr>
          <a:xfrm>
            <a:off x="3925800" y="3852720"/>
            <a:ext cx="5224680" cy="32972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5"/>
          <p:cNvSpPr/>
          <p:nvPr/>
        </p:nvSpPr>
        <p:spPr>
          <a:xfrm>
            <a:off x="4929120" y="100008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Высокий уров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6"/>
          <p:cNvSpPr/>
          <p:nvPr/>
        </p:nvSpPr>
        <p:spPr>
          <a:xfrm>
            <a:off x="7000920" y="928800"/>
            <a:ext cx="271440" cy="485640"/>
          </a:xfrm>
          <a:prstGeom prst="ellipse">
            <a:avLst/>
          </a:prstGeom>
          <a:solidFill>
            <a:srgbClr val="3f6c19"/>
          </a:solidFill>
          <a:ln w="25560">
            <a:solidFill>
              <a:srgbClr val="2c4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7"/>
          <p:cNvSpPr/>
          <p:nvPr/>
        </p:nvSpPr>
        <p:spPr>
          <a:xfrm>
            <a:off x="5715000" y="1857240"/>
            <a:ext cx="31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Средний уровень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8"/>
          <p:cNvSpPr/>
          <p:nvPr/>
        </p:nvSpPr>
        <p:spPr>
          <a:xfrm>
            <a:off x="7858080" y="1714680"/>
            <a:ext cx="271440" cy="485640"/>
          </a:xfrm>
          <a:prstGeom prst="ellipse">
            <a:avLst/>
          </a:prstGeom>
          <a:solidFill>
            <a:srgbClr val="af0f5b"/>
          </a:solidFill>
          <a:ln w="25560">
            <a:solidFill>
              <a:srgbClr val="2c4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9"/>
          <p:cNvSpPr/>
          <p:nvPr/>
        </p:nvSpPr>
        <p:spPr>
          <a:xfrm>
            <a:off x="6286680" y="278604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Низкий уровень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10"/>
          <p:cNvSpPr/>
          <p:nvPr/>
        </p:nvSpPr>
        <p:spPr>
          <a:xfrm>
            <a:off x="8572680" y="2643120"/>
            <a:ext cx="271440" cy="48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2c4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1"/>
          <p:cNvSpPr/>
          <p:nvPr/>
        </p:nvSpPr>
        <p:spPr>
          <a:xfrm>
            <a:off x="4071960" y="214200"/>
            <a:ext cx="414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Диагностика физического развития детей, группа «Фантазеры» 2010-201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1"/>
          <p:cNvSpPr/>
          <p:nvPr/>
        </p:nvSpPr>
        <p:spPr>
          <a:xfrm>
            <a:off x="642960" y="264312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2"/>
          <p:cNvSpPr/>
          <p:nvPr/>
        </p:nvSpPr>
        <p:spPr>
          <a:xfrm>
            <a:off x="2428920" y="435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3"/>
          <p:cNvSpPr/>
          <p:nvPr/>
        </p:nvSpPr>
        <p:spPr>
          <a:xfrm>
            <a:off x="3643200" y="6000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3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Группа 29"/>
          <p:cNvGrpSpPr/>
          <p:nvPr/>
        </p:nvGrpSpPr>
        <p:grpSpPr>
          <a:xfrm>
            <a:off x="-468360" y="-360"/>
            <a:ext cx="10144080" cy="7036200"/>
            <a:chOff x="-468360" y="-360"/>
            <a:chExt cx="10144080" cy="7036200"/>
          </a:xfrm>
        </p:grpSpPr>
        <p:sp>
          <p:nvSpPr>
            <p:cNvPr id="605" name="Дуга 2"/>
            <p:cNvSpPr/>
            <p:nvPr/>
          </p:nvSpPr>
          <p:spPr>
            <a:xfrm rot="16200000">
              <a:off x="1127160" y="-1271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9"/>
                  </a:lnTo>
                  <a:arcTo wR="3441599" hR="4317456" stAng="-5096356" swAng="10232017"/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9"/>
                  </a:lnTo>
                  <a:arcTo wR="3441599" hR="4317456" stAng="-5096356" swAng="10232017"/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Группа 18"/>
            <p:cNvGrpSpPr/>
            <p:nvPr/>
          </p:nvGrpSpPr>
          <p:grpSpPr>
            <a:xfrm>
              <a:off x="-468360" y="-360"/>
              <a:ext cx="10144080" cy="7036200"/>
              <a:chOff x="-468360" y="-360"/>
              <a:chExt cx="10144080" cy="7036200"/>
            </a:xfrm>
          </p:grpSpPr>
          <p:sp>
            <p:nvSpPr>
              <p:cNvPr id="607" name="Дуга 4"/>
              <p:cNvSpPr/>
              <p:nvPr/>
            </p:nvSpPr>
            <p:spPr>
              <a:xfrm rot="16200000">
                <a:off x="1152720" y="-1165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0">
                    <a:moveTo>
                      <a:pt x="3784786" y="25653"/>
                    </a:moveTo>
                    <a:lnTo>
                      <a:pt x="3784786" y="25653"/>
                    </a:lnTo>
                    <a:arcTo wR="3410643" hR="4250545" stAng="-5096356" swAng="10114478"/>
                    <a:lnTo>
                      <a:pt x="3410643" y="4250545"/>
                    </a:lnTo>
                    <a:close/>
                  </a:path>
                  <a:path fill="none" w="6821285" h="8501090">
                    <a:moveTo>
                      <a:pt x="3784786" y="25653"/>
                    </a:moveTo>
                    <a:lnTo>
                      <a:pt x="3784786" y="25653"/>
                    </a:lnTo>
                    <a:arcTo wR="3410643" hR="4250545" stAng="-5096356" swAng="10114478"/>
                  </a:path>
                </a:pathLst>
              </a:custGeom>
              <a:noFill/>
              <a:ln w="7632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Группа 17"/>
              <p:cNvGrpSpPr/>
              <p:nvPr/>
            </p:nvGrpSpPr>
            <p:grpSpPr>
              <a:xfrm>
                <a:off x="-468360" y="-360"/>
                <a:ext cx="10144080" cy="7036200"/>
                <a:chOff x="-468360" y="-360"/>
                <a:chExt cx="10144080" cy="7036200"/>
              </a:xfrm>
            </p:grpSpPr>
            <p:grpSp>
              <p:nvGrpSpPr>
                <p:cNvPr id="609" name="Группа 16"/>
                <p:cNvGrpSpPr/>
                <p:nvPr/>
              </p:nvGrpSpPr>
              <p:grpSpPr>
                <a:xfrm>
                  <a:off x="-468360" y="-360"/>
                  <a:ext cx="10144080" cy="7035840"/>
                  <a:chOff x="-468360" y="-360"/>
                  <a:chExt cx="10144080" cy="7035840"/>
                </a:xfrm>
              </p:grpSpPr>
              <p:sp>
                <p:nvSpPr>
                  <p:cNvPr id="610" name="Дуга 6"/>
                  <p:cNvSpPr/>
                  <p:nvPr/>
                </p:nvSpPr>
                <p:spPr>
                  <a:xfrm rot="16200000">
                    <a:off x="1161720" y="-1630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10" y="29878"/>
                        </a:lnTo>
                        <a:arcTo wR="3441599" hR="4500578" stAng="-5096356" swAng="10232018"/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10" y="29878"/>
                        </a:lnTo>
                        <a:arcTo wR="3441599" hR="4500578" stAng="-5096356" swAng="10232018"/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Дуга 9"/>
                  <p:cNvSpPr/>
                  <p:nvPr/>
                </p:nvSpPr>
                <p:spPr>
                  <a:xfrm rot="16200000">
                    <a:off x="1162080" y="-1478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4">
                        <a:moveTo>
                          <a:pt x="3825188" y="27594"/>
                        </a:moveTo>
                        <a:lnTo>
                          <a:pt x="3825188" y="27594"/>
                        </a:lnTo>
                        <a:arcTo wR="3441599" hR="4428737" stAng="-5101132" swAng="10236794"/>
                        <a:lnTo>
                          <a:pt x="3441599" y="4428737"/>
                        </a:lnTo>
                        <a:close/>
                      </a:path>
                      <a:path fill="none" w="6883197" h="8857474">
                        <a:moveTo>
                          <a:pt x="3825188" y="27594"/>
                        </a:moveTo>
                        <a:lnTo>
                          <a:pt x="3825188" y="27594"/>
                        </a:lnTo>
                        <a:arcTo wR="3441599" hR="4428737" stAng="-5101132" swAng="10236794"/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Дуга 10"/>
                  <p:cNvSpPr/>
                  <p:nvPr/>
                </p:nvSpPr>
                <p:spPr>
                  <a:xfrm rot="16200000">
                    <a:off x="1157040" y="-1392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2">
                        <a:moveTo>
                          <a:pt x="3830904" y="28398"/>
                        </a:moveTo>
                        <a:lnTo>
                          <a:pt x="3830904" y="28398"/>
                        </a:lnTo>
                        <a:arcTo wR="3441599" hR="4424511" stAng="-5096356" swAng="10152202"/>
                        <a:lnTo>
                          <a:pt x="3441599" y="4424511"/>
                        </a:lnTo>
                        <a:close/>
                      </a:path>
                      <a:path fill="none" w="6883197" h="8849022">
                        <a:moveTo>
                          <a:pt x="3830904" y="28398"/>
                        </a:moveTo>
                        <a:lnTo>
                          <a:pt x="3830904" y="28398"/>
                        </a:lnTo>
                        <a:arcTo wR="3441599" hR="4424511" stAng="-5096356" swAng="10152202"/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Дуга 11"/>
                  <p:cNvSpPr/>
                  <p:nvPr/>
                </p:nvSpPr>
                <p:spPr>
                  <a:xfrm rot="16200000">
                    <a:off x="1188360" y="-1049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0">
                        <a:moveTo>
                          <a:pt x="3742773" y="24895"/>
                        </a:moveTo>
                        <a:lnTo>
                          <a:pt x="3742773" y="24895"/>
                        </a:lnTo>
                        <a:arcTo wR="3374925" hR="4178705" stAng="-5096356" swAng="10232018"/>
                        <a:lnTo>
                          <a:pt x="3374925" y="4178705"/>
                        </a:lnTo>
                        <a:close/>
                      </a:path>
                      <a:path fill="none" w="6749850" h="8357410">
                        <a:moveTo>
                          <a:pt x="3742773" y="24895"/>
                        </a:moveTo>
                        <a:lnTo>
                          <a:pt x="3742773" y="24895"/>
                        </a:lnTo>
                        <a:arcTo wR="3374925" hR="4178705" stAng="-5096356" swAng="10232018"/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4" name="Дуга 7"/>
                <p:cNvSpPr/>
                <p:nvPr/>
              </p:nvSpPr>
              <p:spPr>
                <a:xfrm rot="16200000">
                  <a:off x="1225080" y="-932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7"/>
                      </a:lnTo>
                      <a:arcTo wR="3339208" hR="4107570" stAng="-5096356" swAng="10232019"/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7"/>
                      </a:lnTo>
                      <a:arcTo wR="3339208" hR="4107570" stAng="-5096356" swAng="10232019"/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5" name="Прямоугольник 12"/>
          <p:cNvSpPr/>
          <p:nvPr/>
        </p:nvSpPr>
        <p:spPr>
          <a:xfrm>
            <a:off x="1332000" y="404640"/>
            <a:ext cx="655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Ожидаемые итог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результаты</a:t>
            </a:r>
            <a:r>
              <a:rPr b="1" lang="ru-RU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13"/>
          <p:cNvSpPr/>
          <p:nvPr/>
        </p:nvSpPr>
        <p:spPr>
          <a:xfrm>
            <a:off x="539640" y="221472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азовьется более осознанное отношение детей и их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к состоянию здоровья как к основному фактору успеха на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оследующих этапах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низится количество дней, пропущенных по болезни одн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ебен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величится количество детей, имеющих гармони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сихофизическ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ормализуются статические и динамические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организма, общей и мелкой мото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И, как следствие, повысится  способность детей к усво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14"/>
          <p:cNvSpPr/>
          <p:nvPr/>
        </p:nvSpPr>
        <p:spPr>
          <a:xfrm>
            <a:off x="1428840" y="1214280"/>
            <a:ext cx="6286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Я предполагаю , что при реализации представленного механизма  и системы запланированных мероприятий , повысится  уровень физического, психического и социального здоровь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3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Группа 29"/>
          <p:cNvGrpSpPr/>
          <p:nvPr/>
        </p:nvGrpSpPr>
        <p:grpSpPr>
          <a:xfrm>
            <a:off x="-468360" y="-360"/>
            <a:ext cx="10144080" cy="7036200"/>
            <a:chOff x="-468360" y="-360"/>
            <a:chExt cx="10144080" cy="7036200"/>
          </a:xfrm>
        </p:grpSpPr>
        <p:sp>
          <p:nvSpPr>
            <p:cNvPr id="619" name="Дуга 2"/>
            <p:cNvSpPr/>
            <p:nvPr/>
          </p:nvSpPr>
          <p:spPr>
            <a:xfrm rot="16200000">
              <a:off x="1127160" y="-1271880"/>
              <a:ext cx="6883560" cy="9731520"/>
            </a:xfrm>
            <a:custGeom>
              <a:avLst/>
              <a:gdLst>
                <a:gd name="textAreaLeft" fmla="*/ 3772800 w 6883560"/>
                <a:gd name="textAreaRight" fmla="*/ 6883920 w 6883560"/>
                <a:gd name="textAreaTop" fmla="*/ 29520 h 9731520"/>
                <a:gd name="textAreaBottom" fmla="*/ 9709200 h 9731520"/>
              </a:gdLst>
              <a:ahLst/>
              <a:rect l="textAreaLeft" t="textAreaTop" r="textAreaRight" b="textAreaBottom"/>
              <a:pathLst>
                <a:path stroke="0" w="6883197" h="8634911">
                  <a:moveTo>
                    <a:pt x="3821601" y="26399"/>
                  </a:moveTo>
                  <a:lnTo>
                    <a:pt x="3821601" y="26399"/>
                  </a:lnTo>
                  <a:arcTo wR="3441599" hR="4317456" stAng="-5096356" swAng="10232017"/>
                  <a:lnTo>
                    <a:pt x="3441599" y="4317456"/>
                  </a:lnTo>
                  <a:close/>
                </a:path>
                <a:path fill="none" w="6883197" h="8634911">
                  <a:moveTo>
                    <a:pt x="3821601" y="26399"/>
                  </a:moveTo>
                  <a:lnTo>
                    <a:pt x="3821601" y="26399"/>
                  </a:lnTo>
                  <a:arcTo wR="3441599" hR="4317456" stAng="-5096356" swAng="10232017"/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Группа 18"/>
            <p:cNvGrpSpPr/>
            <p:nvPr/>
          </p:nvGrpSpPr>
          <p:grpSpPr>
            <a:xfrm>
              <a:off x="-468360" y="-360"/>
              <a:ext cx="10144080" cy="7036200"/>
              <a:chOff x="-468360" y="-360"/>
              <a:chExt cx="10144080" cy="7036200"/>
            </a:xfrm>
          </p:grpSpPr>
          <p:sp>
            <p:nvSpPr>
              <p:cNvPr id="621" name="Дуга 4"/>
              <p:cNvSpPr/>
              <p:nvPr/>
            </p:nvSpPr>
            <p:spPr>
              <a:xfrm rot="16200000">
                <a:off x="1152720" y="-1165680"/>
                <a:ext cx="6821640" cy="9580680"/>
              </a:xfrm>
              <a:custGeom>
                <a:avLst/>
                <a:gdLst>
                  <a:gd name="textAreaLeft" fmla="*/ 3785040 w 6821640"/>
                  <a:gd name="textAreaRight" fmla="*/ 6822000 w 6821640"/>
                  <a:gd name="textAreaTop" fmla="*/ 28800 h 9580680"/>
                  <a:gd name="textAreaBottom" fmla="*/ 9535320 h 9580680"/>
                </a:gdLst>
                <a:ahLst/>
                <a:rect l="textAreaLeft" t="textAreaTop" r="textAreaRight" b="textAreaBottom"/>
                <a:pathLst>
                  <a:path stroke="0" w="6821285" h="8501090">
                    <a:moveTo>
                      <a:pt x="3784786" y="25653"/>
                    </a:moveTo>
                    <a:lnTo>
                      <a:pt x="3784786" y="25653"/>
                    </a:lnTo>
                    <a:arcTo wR="3410643" hR="4250545" stAng="-5096356" swAng="10114478"/>
                    <a:lnTo>
                      <a:pt x="3410643" y="4250545"/>
                    </a:lnTo>
                    <a:close/>
                  </a:path>
                  <a:path fill="none" w="6821285" h="8501090">
                    <a:moveTo>
                      <a:pt x="3784786" y="25653"/>
                    </a:moveTo>
                    <a:lnTo>
                      <a:pt x="3784786" y="25653"/>
                    </a:lnTo>
                    <a:arcTo wR="3410643" hR="4250545" stAng="-5096356" swAng="10114478"/>
                  </a:path>
                </a:pathLst>
              </a:custGeom>
              <a:noFill/>
              <a:ln w="7632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2" name="Группа 17"/>
              <p:cNvGrpSpPr/>
              <p:nvPr/>
            </p:nvGrpSpPr>
            <p:grpSpPr>
              <a:xfrm>
                <a:off x="-468360" y="-360"/>
                <a:ext cx="10144080" cy="7036200"/>
                <a:chOff x="-468360" y="-360"/>
                <a:chExt cx="10144080" cy="7036200"/>
              </a:xfrm>
            </p:grpSpPr>
            <p:grpSp>
              <p:nvGrpSpPr>
                <p:cNvPr id="623" name="Группа 16"/>
                <p:cNvGrpSpPr/>
                <p:nvPr/>
              </p:nvGrpSpPr>
              <p:grpSpPr>
                <a:xfrm>
                  <a:off x="-468360" y="-360"/>
                  <a:ext cx="10144080" cy="7035840"/>
                  <a:chOff x="-468360" y="-360"/>
                  <a:chExt cx="10144080" cy="7035840"/>
                </a:xfrm>
              </p:grpSpPr>
              <p:sp>
                <p:nvSpPr>
                  <p:cNvPr id="624" name="Дуга 6"/>
                  <p:cNvSpPr/>
                  <p:nvPr/>
                </p:nvSpPr>
                <p:spPr>
                  <a:xfrm rot="16200000">
                    <a:off x="1161720" y="-1630440"/>
                    <a:ext cx="6883560" cy="10144080"/>
                  </a:xfrm>
                  <a:custGeom>
                    <a:avLst/>
                    <a:gdLst>
                      <a:gd name="textAreaLeft" fmla="*/ 3786840 w 6883560"/>
                      <a:gd name="textAreaRight" fmla="*/ 6883920 w 6883560"/>
                      <a:gd name="textAreaTop" fmla="*/ 33480 h 10144080"/>
                      <a:gd name="textAreaBottom" fmla="*/ 10118880 h 10144080"/>
                    </a:gdLst>
                    <a:ahLst/>
                    <a:rect l="textAreaLeft" t="textAreaTop" r="textAreaRight" b="textAreaBottom"/>
                    <a:pathLst>
                      <a:path stroke="0" w="6883197" h="9001155">
                        <a:moveTo>
                          <a:pt x="3837510" y="29878"/>
                        </a:moveTo>
                        <a:lnTo>
                          <a:pt x="3837510" y="29878"/>
                        </a:lnTo>
                        <a:arcTo wR="3441599" hR="4500578" stAng="-5096356" swAng="10232018"/>
                        <a:lnTo>
                          <a:pt x="3441599" y="4500578"/>
                        </a:lnTo>
                        <a:close/>
                      </a:path>
                      <a:path fill="none" w="6883197" h="9001155">
                        <a:moveTo>
                          <a:pt x="3837510" y="29878"/>
                        </a:moveTo>
                        <a:lnTo>
                          <a:pt x="3837510" y="29878"/>
                        </a:lnTo>
                        <a:arcTo wR="3441599" hR="4500578" stAng="-5096356" swAng="10232018"/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Дуга 9"/>
                  <p:cNvSpPr/>
                  <p:nvPr/>
                </p:nvSpPr>
                <p:spPr>
                  <a:xfrm rot="16200000">
                    <a:off x="1162080" y="-1478520"/>
                    <a:ext cx="6883560" cy="9982440"/>
                  </a:xfrm>
                  <a:custGeom>
                    <a:avLst/>
                    <a:gdLst>
                      <a:gd name="textAreaLeft" fmla="*/ 3781440 w 6883560"/>
                      <a:gd name="textAreaRight" fmla="*/ 6883920 w 6883560"/>
                      <a:gd name="textAreaTop" fmla="*/ 30960 h 9982440"/>
                      <a:gd name="textAreaBottom" fmla="*/ 9958320 h 9982440"/>
                    </a:gdLst>
                    <a:ahLst/>
                    <a:rect l="textAreaLeft" t="textAreaTop" r="textAreaRight" b="textAreaBottom"/>
                    <a:pathLst>
                      <a:path stroke="0" w="6883197" h="8857474">
                        <a:moveTo>
                          <a:pt x="3825188" y="27594"/>
                        </a:moveTo>
                        <a:lnTo>
                          <a:pt x="3825188" y="27594"/>
                        </a:lnTo>
                        <a:arcTo wR="3441599" hR="4428737" stAng="-5101132" swAng="10236794"/>
                        <a:lnTo>
                          <a:pt x="3441599" y="4428737"/>
                        </a:lnTo>
                        <a:close/>
                      </a:path>
                      <a:path fill="none" w="6883197" h="8857474">
                        <a:moveTo>
                          <a:pt x="3825188" y="27594"/>
                        </a:moveTo>
                        <a:lnTo>
                          <a:pt x="3825188" y="27594"/>
                        </a:lnTo>
                        <a:arcTo wR="3441599" hR="4428737" stAng="-5101132" swAng="10236794"/>
                      </a:path>
                    </a:pathLst>
                  </a:custGeom>
                  <a:noFill/>
                  <a:ln w="76320">
                    <a:solidFill>
                      <a:srgbClr val="ffc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Дуга 10"/>
                  <p:cNvSpPr/>
                  <p:nvPr/>
                </p:nvSpPr>
                <p:spPr>
                  <a:xfrm rot="16200000">
                    <a:off x="1157040" y="-1392480"/>
                    <a:ext cx="6883560" cy="9972720"/>
                  </a:xfrm>
                  <a:custGeom>
                    <a:avLst/>
                    <a:gdLst>
                      <a:gd name="textAreaLeft" fmla="*/ 3831120 w 6883560"/>
                      <a:gd name="textAreaRight" fmla="*/ 6883920 w 6883560"/>
                      <a:gd name="textAreaTop" fmla="*/ 31680 h 9972720"/>
                      <a:gd name="textAreaBottom" fmla="*/ 9931680 h 9972720"/>
                    </a:gdLst>
                    <a:ahLst/>
                    <a:rect l="textAreaLeft" t="textAreaTop" r="textAreaRight" b="textAreaBottom"/>
                    <a:pathLst>
                      <a:path stroke="0" w="6883197" h="8849022">
                        <a:moveTo>
                          <a:pt x="3830904" y="28398"/>
                        </a:moveTo>
                        <a:lnTo>
                          <a:pt x="3830904" y="28398"/>
                        </a:lnTo>
                        <a:arcTo wR="3441599" hR="4424511" stAng="-5096356" swAng="10152202"/>
                        <a:lnTo>
                          <a:pt x="3441599" y="4424511"/>
                        </a:lnTo>
                        <a:close/>
                      </a:path>
                      <a:path fill="none" w="6883197" h="8849022">
                        <a:moveTo>
                          <a:pt x="3830904" y="28398"/>
                        </a:moveTo>
                        <a:lnTo>
                          <a:pt x="3830904" y="28398"/>
                        </a:lnTo>
                        <a:arcTo wR="3441599" hR="4424511" stAng="-5096356" swAng="10152202"/>
                      </a:path>
                    </a:pathLst>
                  </a:custGeom>
                  <a:noFill/>
                  <a:ln w="7632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Дуга 11"/>
                  <p:cNvSpPr/>
                  <p:nvPr/>
                </p:nvSpPr>
                <p:spPr>
                  <a:xfrm rot="16200000">
                    <a:off x="1188360" y="-1049040"/>
                    <a:ext cx="6750360" cy="9418680"/>
                  </a:xfrm>
                  <a:custGeom>
                    <a:avLst/>
                    <a:gdLst>
                      <a:gd name="textAreaLeft" fmla="*/ 3695760 w 6750360"/>
                      <a:gd name="textAreaRight" fmla="*/ 6750720 w 6750360"/>
                      <a:gd name="textAreaTop" fmla="*/ 27720 h 9418680"/>
                      <a:gd name="textAreaBottom" fmla="*/ 9397440 h 9418680"/>
                    </a:gdLst>
                    <a:ahLst/>
                    <a:rect l="textAreaLeft" t="textAreaTop" r="textAreaRight" b="textAreaBottom"/>
                    <a:pathLst>
                      <a:path stroke="0" w="6749850" h="8357410">
                        <a:moveTo>
                          <a:pt x="3742773" y="24895"/>
                        </a:moveTo>
                        <a:lnTo>
                          <a:pt x="3742773" y="24895"/>
                        </a:lnTo>
                        <a:arcTo wR="3374925" hR="4178705" stAng="-5096356" swAng="10232018"/>
                        <a:lnTo>
                          <a:pt x="3374925" y="4178705"/>
                        </a:lnTo>
                        <a:close/>
                      </a:path>
                      <a:path fill="none" w="6749850" h="8357410">
                        <a:moveTo>
                          <a:pt x="3742773" y="24895"/>
                        </a:moveTo>
                        <a:lnTo>
                          <a:pt x="3742773" y="24895"/>
                        </a:lnTo>
                        <a:arcTo wR="3374925" hR="4178705" stAng="-5096356" swAng="10232018"/>
                      </a:path>
                    </a:pathLst>
                  </a:custGeom>
                  <a:noFill/>
                  <a:ln w="76320">
                    <a:solidFill>
                      <a:srgbClr val="007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8" name="Дуга 7"/>
                <p:cNvSpPr/>
                <p:nvPr/>
              </p:nvSpPr>
              <p:spPr>
                <a:xfrm rot="16200000">
                  <a:off x="1225080" y="-932760"/>
                  <a:ext cx="6678720" cy="9258480"/>
                </a:xfrm>
                <a:custGeom>
                  <a:avLst/>
                  <a:gdLst>
                    <a:gd name="textAreaLeft" fmla="*/ 3654360 w 6678720"/>
                    <a:gd name="textAreaRight" fmla="*/ 6679080 w 6678720"/>
                    <a:gd name="textAreaTop" fmla="*/ 27000 h 9258480"/>
                    <a:gd name="textAreaBottom" fmla="*/ 9237960 h 9258480"/>
                  </a:gdLst>
                  <a:ahLst/>
                  <a:rect l="textAreaLeft" t="textAreaTop" r="textAreaRight" b="textAreaBottom"/>
                  <a:pathLst>
                    <a:path stroke="0" w="6678415" h="8215139">
                      <a:moveTo>
                        <a:pt x="3700822" y="24157"/>
                      </a:moveTo>
                      <a:lnTo>
                        <a:pt x="3700822" y="24157"/>
                      </a:lnTo>
                      <a:arcTo wR="3339208" hR="4107570" stAng="-5096356" swAng="10232019"/>
                      <a:lnTo>
                        <a:pt x="3339208" y="4107570"/>
                      </a:lnTo>
                      <a:close/>
                    </a:path>
                    <a:path fill="none" w="6678415" h="8215139">
                      <a:moveTo>
                        <a:pt x="3700822" y="24157"/>
                      </a:moveTo>
                      <a:lnTo>
                        <a:pt x="3700822" y="24157"/>
                      </a:lnTo>
                      <a:arcTo wR="3339208" hR="4107570" stAng="-5096356" swAng="10232019"/>
                    </a:path>
                  </a:pathLst>
                </a:custGeom>
                <a:noFill/>
                <a:ln w="76320">
                  <a:solidFill>
                    <a:srgbClr val="703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9" name="TextBox 12"/>
          <p:cNvSpPr/>
          <p:nvPr/>
        </p:nvSpPr>
        <p:spPr>
          <a:xfrm>
            <a:off x="714240" y="1285920"/>
            <a:ext cx="7358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Спасибо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за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Рисунок 14" descr="подс1.jpg"/>
          <p:cNvPicPr/>
          <p:nvPr/>
        </p:nvPicPr>
        <p:blipFill>
          <a:blip r:embed="rId1"/>
          <a:stretch/>
        </p:blipFill>
        <p:spPr>
          <a:xfrm>
            <a:off x="214200" y="557208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15" descr="подс1.jpg"/>
          <p:cNvPicPr/>
          <p:nvPr/>
        </p:nvPicPr>
        <p:blipFill>
          <a:blip r:embed="rId2"/>
          <a:stretch/>
        </p:blipFill>
        <p:spPr>
          <a:xfrm>
            <a:off x="7286760" y="5572080"/>
            <a:ext cx="928440" cy="114948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30" descr="ромашка5.jpg"/>
          <p:cNvPicPr/>
          <p:nvPr/>
        </p:nvPicPr>
        <p:blipFill>
          <a:blip r:embed="rId3"/>
          <a:stretch/>
        </p:blipFill>
        <p:spPr>
          <a:xfrm rot="1176000">
            <a:off x="7950240" y="6175440"/>
            <a:ext cx="731880" cy="6778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32" descr="бк3.jpg"/>
          <p:cNvPicPr/>
          <p:nvPr/>
        </p:nvPicPr>
        <p:blipFill>
          <a:blip r:embed="rId4"/>
          <a:stretch/>
        </p:blipFill>
        <p:spPr>
          <a:xfrm rot="1855200">
            <a:off x="8518320" y="6287760"/>
            <a:ext cx="544320" cy="463680"/>
          </a:xfrm>
          <a:prstGeom prst="rect">
            <a:avLst/>
          </a:prstGeom>
          <a:ln w="0">
            <a:noFill/>
          </a:ln>
        </p:spPr>
      </p:pic>
      <p:sp>
        <p:nvSpPr>
          <p:cNvPr id="534" name="Прямоугольник 22"/>
          <p:cNvSpPr/>
          <p:nvPr/>
        </p:nvSpPr>
        <p:spPr>
          <a:xfrm>
            <a:off x="285840" y="357120"/>
            <a:ext cx="85690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Учитывая природные, социальные условия ми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в котором мы живем, физкультурно-оздоровительная 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должна стать неотъемлемой частью дошкольного учре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Перед дошкольным образованием в настоящее время остро стоит вопрос о путях совершенствования работы по укреплению здоровья, развитию движений и физическому развитию детей.   Федеральные государственные требования к структуре основной образовательной программы дошкольного образования определяют как одну из важнейших задач: </a:t>
            </a:r>
            <a:r>
              <a:rPr b="1" i="1" lang="ru-RU" sz="1600" spc="-1" strike="noStrike" u="sng">
                <a:solidFill>
                  <a:srgbClr val="002060"/>
                </a:solidFill>
                <a:uFillTx/>
                <a:latin typeface="Arial"/>
              </a:rPr>
              <a:t>охрану и укрепление здоровья воспитанников через интеграцию образовательных областей, создание условий безопасной образовательной среды, осуществление комплекса психолого – педагогической, профилактической и оздоровительной работы.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В соответствии с этим особую актуальность приобретает поиск новых  средств  и методов повышения эффективности физкультурно-оздоровительной работы в дошкольных учреждениях, создание оптимальных условий для всестороннего гармоничного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личности ребёнка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24"/>
          <p:cNvSpPr/>
          <p:nvPr/>
        </p:nvSpPr>
        <p:spPr>
          <a:xfrm>
            <a:off x="1547640" y="3571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Краткая  аннотация</a:t>
            </a:r>
            <a:r>
              <a:rPr b="0" lang="ru-RU" sz="2400" spc="-1" strike="noStrike">
                <a:solidFill>
                  <a:srgbClr val="138677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14" descr="подс1.jpg"/>
          <p:cNvPicPr/>
          <p:nvPr/>
        </p:nvPicPr>
        <p:blipFill>
          <a:blip r:embed="rId1"/>
          <a:stretch/>
        </p:blipFill>
        <p:spPr>
          <a:xfrm>
            <a:off x="7786800" y="5708520"/>
            <a:ext cx="928440" cy="114948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13" descr="подс1.jpg"/>
          <p:cNvPicPr/>
          <p:nvPr/>
        </p:nvPicPr>
        <p:blipFill>
          <a:blip r:embed="rId2"/>
          <a:stretch/>
        </p:blipFill>
        <p:spPr>
          <a:xfrm>
            <a:off x="8215200" y="542916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15" descr="подс1.jpg"/>
          <p:cNvPicPr/>
          <p:nvPr/>
        </p:nvPicPr>
        <p:blipFill>
          <a:blip r:embed="rId3"/>
          <a:stretch/>
        </p:blipFill>
        <p:spPr>
          <a:xfrm>
            <a:off x="7286760" y="5572080"/>
            <a:ext cx="928440" cy="114948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32" descr="бк3.jpg"/>
          <p:cNvPicPr/>
          <p:nvPr/>
        </p:nvPicPr>
        <p:blipFill>
          <a:blip r:embed="rId4"/>
          <a:stretch/>
        </p:blipFill>
        <p:spPr>
          <a:xfrm rot="1855200">
            <a:off x="7795800" y="5321160"/>
            <a:ext cx="544680" cy="46368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24"/>
          <p:cNvSpPr/>
          <p:nvPr/>
        </p:nvSpPr>
        <p:spPr>
          <a:xfrm>
            <a:off x="1547640" y="14292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Описание     проблемы</a:t>
            </a:r>
            <a:r>
              <a:rPr b="1" lang="ru-RU" sz="2400" spc="-1" strike="noStrike">
                <a:solidFill>
                  <a:srgbClr val="138677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23"/>
          <p:cNvSpPr/>
          <p:nvPr/>
        </p:nvSpPr>
        <p:spPr>
          <a:xfrm>
            <a:off x="357120" y="571680"/>
            <a:ext cx="8429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Основная проблема, которая вст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перед коллективом детского сада в настоящее врем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это слабое физическое развитие детей при поступлении в детский с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Общая картина тако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дети испытывают "двигательный дефицит", задерживается возрастное развитие быстроты, ловкости, координации движений, выносливости, гибкости и силы. При ходьбе волочат за собой ноги, чувствуется скованность, неуверенность, голова опущена, нет гордости в осанке. Анкетирование родителей детей, которые посещают детский сад, выявило следующую проблему, оказалось,  что родители имеют недостаточные знания о том, как укрепить здоровье ребёнка с помощью физических упражнений, закаливания, подвижных игр. Они зачастую оберегают своих малышей от физических усилий ("не бегай, не прыгай, не лазай, а то упадёшь, посиди"), даже от здорового соперничества в подвижных игр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Данная проблема определила цели и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в работе с детьми по осуществлению физкультурно-оздоровительн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9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Прямоугольник 1"/>
          <p:cNvSpPr/>
          <p:nvPr/>
        </p:nvSpPr>
        <p:spPr>
          <a:xfrm>
            <a:off x="971640" y="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Цель 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8"/>
          <p:cNvSpPr/>
          <p:nvPr/>
        </p:nvSpPr>
        <p:spPr>
          <a:xfrm>
            <a:off x="500040" y="428760"/>
            <a:ext cx="7888320" cy="65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Поиск  новых форм и мет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использования  здоровьесберегающих технологий в воспитательно-образовательном процессе  ДОУ, приобщение детей к физической культуре и здоровому образу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Оздоровительные задачи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Охрана и укрепление физического и психического здоровья д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совершенствование функций организма, повышение его защитных свойств и устойчивости к заболеваниям средствами движения, дыхательной гимнастики, закаливания, гигиенических навы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Образовательные задачи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Формирование жизненно необходимых двигательных умений и навыков ребенка в соответствии с его индивидуальными особенност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создание условий для реализации потребности детей в двигательной актив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выявление интересов, склонностей и способностей детей в двигательной деятельности и реализация их через спортивно – оздоровительную актив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Воспитательные задачи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Воспитание потребности в здоровом образе жизн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потребность в физических упражнениях и игр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расширение кругозора, уточнение представлений об окружающем мир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воспитание  физических качеств,  необходимых для полноценного  развития лич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7"/>
          <p:cNvSpPr/>
          <p:nvPr/>
        </p:nvSpPr>
        <p:spPr>
          <a:xfrm>
            <a:off x="3635280" y="549360"/>
            <a:ext cx="22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15" descr="подс1.jpg"/>
          <p:cNvPicPr/>
          <p:nvPr/>
        </p:nvPicPr>
        <p:blipFill>
          <a:blip r:embed="rId1"/>
          <a:stretch/>
        </p:blipFill>
        <p:spPr>
          <a:xfrm>
            <a:off x="7500960" y="5708520"/>
            <a:ext cx="928800" cy="114948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32" descr="бк3.jpg"/>
          <p:cNvPicPr/>
          <p:nvPr/>
        </p:nvPicPr>
        <p:blipFill>
          <a:blip r:embed="rId2"/>
          <a:stretch/>
        </p:blipFill>
        <p:spPr>
          <a:xfrm rot="1855200">
            <a:off x="2366640" y="6287760"/>
            <a:ext cx="544320" cy="46368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15" descr="подс1.jpg"/>
          <p:cNvPicPr/>
          <p:nvPr/>
        </p:nvPicPr>
        <p:blipFill>
          <a:blip r:embed="rId3"/>
          <a:stretch/>
        </p:blipFill>
        <p:spPr>
          <a:xfrm>
            <a:off x="8001000" y="5572080"/>
            <a:ext cx="785880" cy="114948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15" descr="подс1.jpg"/>
          <p:cNvPicPr/>
          <p:nvPr/>
        </p:nvPicPr>
        <p:blipFill>
          <a:blip r:embed="rId4"/>
          <a:stretch/>
        </p:blipFill>
        <p:spPr>
          <a:xfrm>
            <a:off x="8215200" y="5708520"/>
            <a:ext cx="928800" cy="1149480"/>
          </a:xfrm>
          <a:prstGeom prst="rect">
            <a:avLst/>
          </a:prstGeom>
          <a:ln w="0">
            <a:noFill/>
          </a:ln>
        </p:spPr>
      </p:pic>
    </p:spTree>
  </p:cSld>
  <p:transition advTm="2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13"/>
          <p:cNvSpPr/>
          <p:nvPr/>
        </p:nvSpPr>
        <p:spPr>
          <a:xfrm>
            <a:off x="2857680" y="57168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Механизм 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4"/>
          <p:cNvSpPr/>
          <p:nvPr/>
        </p:nvSpPr>
        <p:spPr>
          <a:xfrm>
            <a:off x="0" y="1143000"/>
            <a:ext cx="896472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25520" indent="-4572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Изучение литературы  по вопросам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5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физкультурно-оздоровительной работы  в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5520" indent="-4572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Изучение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5520" indent="-4572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Составление планов и сценариев мероприятий  с использованием нетрадиционных подх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5520" indent="-4572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Диагностическое обследование  физического развития 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5520" indent="-4572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Составление  плана  работы по физическому  воспитанию и оздоровлению с учетом  индивидуальных особенностей состояния здоровь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5520" indent="-4572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Привлечение родителей к физкультурно-оздоровительной работе ДОУ (участие в спортивных мероприятиях, анке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5520" indent="-4572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Преобразование  развивающей предметной среды – пополнение физкультурных уголков, соответствующих основным принципам здоровьесберегающей политике детского са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5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25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25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C:\Users\1\Desktop\i.jpg"/>
          <p:cNvPicPr/>
          <p:nvPr/>
        </p:nvPicPr>
        <p:blipFill>
          <a:blip r:embed="rId1"/>
          <a:stretch/>
        </p:blipFill>
        <p:spPr>
          <a:xfrm>
            <a:off x="6572160" y="1143000"/>
            <a:ext cx="1643040" cy="77616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642960" y="425520"/>
            <a:ext cx="807228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Необходимость использования здоровьесберегающих технолог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подчёркивают исследования Л.Г.Татарниковой и В.П.Петленко, подтверждающих, что здоровье человека более чем на 60% зависи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от его образа жиз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Использование здоровьесберегающих технологий в нашем ДО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1) Технологии сохранения и стимулирования здоровья: подвижные и спортивные игры, гимнастика пальчиковая, гимнастика для глаз, гимнастика дыхательная, гимнастика бодрящ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2) Технологии обучения здоровому образу жизни: физкультура, коммуникативные игры, самомассаж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В дошкольном учреждении имеется музыкально - физкультурный зал, оснащенный необходимым традиционным и нестандартным оборудованием, спортивные уголки в группах, которые созданы с учётом возрастных особенностей детей. На участке детского сада оборудована спортивная и игровые площадки, где дети имеют возможность развития двигательных навыков в любое время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Эффективность работы по укреплению здоровья детей зависит от четкой слаженной работы с род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Родители - активные участники оснащения предметно - развивающей среды, спортивных праздников, консультаций, проводимых в нашем детском са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Результатом  работы коллектива МДОУ по реализации физкультурно-оздоровительной работы можно считать: повышение активности участия родителей в жизни ДОУ, созданные личные сайты педагогов, что позволяет делиться опытом работы с коллегами ДОУ  на муниципальном, региональном и федеральном уровнях.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8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Прямоугольник 1"/>
          <p:cNvSpPr/>
          <p:nvPr/>
        </p:nvSpPr>
        <p:spPr>
          <a:xfrm>
            <a:off x="214200" y="285840"/>
            <a:ext cx="8643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Организация системы закаливания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 – важнейшая часть физического воспитания детей дошкольного возраста. Лучшими средствами закаливания являются естественные силы природы: воздух, солнце и в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Цель закаливания – выработать способность организма быстро приводить работу органов и систем в соответствие с меняющейся внешней сред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Закаливание воздухом – наиболее доступное средство закаливания в любое время года. Систематическое пребывание детей на воздухе способствует более быстрой адаптации организма к смене температурных условий. Положительное воздействие воздушных ванн повышается, если сочетается с физическими упражн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9" descr="D:\с камеры\DSC00328.JPG"/>
          <p:cNvPicPr/>
          <p:nvPr/>
        </p:nvPicPr>
        <p:blipFill>
          <a:blip r:embed="rId1"/>
          <a:stretch/>
        </p:blipFill>
        <p:spPr>
          <a:xfrm>
            <a:off x="214200" y="2786040"/>
            <a:ext cx="4643640" cy="38037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D:\с камеры\DSC00322.JPG"/>
          <p:cNvPicPr/>
          <p:nvPr/>
        </p:nvPicPr>
        <p:blipFill>
          <a:blip r:embed="rId2"/>
          <a:stretch/>
        </p:blipFill>
        <p:spPr>
          <a:xfrm>
            <a:off x="4929120" y="2786040"/>
            <a:ext cx="3976920" cy="37861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4"/>
          <p:cNvSpPr/>
          <p:nvPr/>
        </p:nvSpPr>
        <p:spPr>
          <a:xfrm>
            <a:off x="642960" y="2214720"/>
            <a:ext cx="32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Построим крепость и поиграем «Кто быстрее оббежит вокруг креп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5429160" y="214308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Сделаем разноцветные дорожки и побежим наперего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L:\Фото на конкурс\света\IMG_1586.jpg"/>
          <p:cNvPicPr/>
          <p:nvPr/>
        </p:nvPicPr>
        <p:blipFill>
          <a:blip r:embed="rId1"/>
          <a:stretch/>
        </p:blipFill>
        <p:spPr>
          <a:xfrm>
            <a:off x="4929120" y="357120"/>
            <a:ext cx="3581640" cy="26845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D:\с камеры\DSC00313.JPG"/>
          <p:cNvPicPr/>
          <p:nvPr/>
        </p:nvPicPr>
        <p:blipFill>
          <a:blip r:embed="rId2"/>
          <a:stretch/>
        </p:blipFill>
        <p:spPr>
          <a:xfrm>
            <a:off x="4857840" y="357192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D:\с камеры\DSC00318.JPG"/>
          <p:cNvPicPr/>
          <p:nvPr/>
        </p:nvPicPr>
        <p:blipFill>
          <a:blip r:embed="rId3"/>
          <a:stretch/>
        </p:blipFill>
        <p:spPr>
          <a:xfrm>
            <a:off x="0" y="26431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563" name="TextBox 6"/>
          <p:cNvSpPr/>
          <p:nvPr/>
        </p:nvSpPr>
        <p:spPr>
          <a:xfrm>
            <a:off x="571680" y="642960"/>
            <a:ext cx="36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Поиграем в веселые игры и смастерим медведя, который  с удовольствием будет играть с нами в игру «Поймай мяч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1"/>
          <p:cNvSpPr/>
          <p:nvPr/>
        </p:nvSpPr>
        <p:spPr>
          <a:xfrm>
            <a:off x="5357880" y="3429000"/>
            <a:ext cx="357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Зимой на участке мы кормим птиц, а в группе вырастим лук, чтобы не бол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D:\с камеры\DSC00327.JPG"/>
          <p:cNvPicPr/>
          <p:nvPr/>
        </p:nvPicPr>
        <p:blipFill>
          <a:blip r:embed="rId1"/>
          <a:stretch/>
        </p:blipFill>
        <p:spPr>
          <a:xfrm>
            <a:off x="428760" y="1411200"/>
            <a:ext cx="4071960" cy="28386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D:\с камеры\DSC00311.JPG"/>
          <p:cNvPicPr/>
          <p:nvPr/>
        </p:nvPicPr>
        <p:blipFill>
          <a:blip r:embed="rId2"/>
          <a:stretch/>
        </p:blipFill>
        <p:spPr>
          <a:xfrm>
            <a:off x="4643280" y="214200"/>
            <a:ext cx="3524400" cy="2643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D:\с камеры\DSC00255.JPG"/>
          <p:cNvPicPr/>
          <p:nvPr/>
        </p:nvPicPr>
        <p:blipFill>
          <a:blip r:embed="rId3"/>
          <a:stretch/>
        </p:blipFill>
        <p:spPr>
          <a:xfrm>
            <a:off x="5286240" y="3929040"/>
            <a:ext cx="3675240" cy="27558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D:\с камеры\DSC00258.JPG"/>
          <p:cNvPicPr/>
          <p:nvPr/>
        </p:nvPicPr>
        <p:blipFill>
          <a:blip r:embed="rId4"/>
          <a:stretch/>
        </p:blipFill>
        <p:spPr>
          <a:xfrm>
            <a:off x="357120" y="4500720"/>
            <a:ext cx="4800600" cy="2203200"/>
          </a:xfrm>
          <a:prstGeom prst="rect">
            <a:avLst/>
          </a:prstGeom>
          <a:ln w="0">
            <a:noFill/>
          </a:ln>
        </p:spPr>
      </p:pic>
      <p:sp>
        <p:nvSpPr>
          <p:cNvPr id="569" name="TextBox 7"/>
          <p:cNvSpPr/>
          <p:nvPr/>
        </p:nvSpPr>
        <p:spPr>
          <a:xfrm>
            <a:off x="428760" y="428760"/>
            <a:ext cx="39290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чтобы нам совсем было весело зимой на улице мы из большой кучи снега сделаем еще такого симпатичного ежика, который с нетерпением будет ждать детей на прогу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3:49:13Z</dcterms:created>
  <dc:creator>www.PHILka.RU</dc:creator>
  <dc:description/>
  <dc:language>en-US</dc:language>
  <cp:lastModifiedBy>user</cp:lastModifiedBy>
  <dcterms:modified xsi:type="dcterms:W3CDTF">2013-10-10T08:26:33Z</dcterms:modified>
  <cp:revision>294</cp:revision>
  <dc:subject/>
  <dc:title>Слайд 1</dc:title>
</cp:coreProperties>
</file>