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A56-D0AB-495C-ADAB-35D97210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F7E-D03F-4546-AE56-B6D087BC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323-DEC6-4F12-A2B2-A4F56FC2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02F-30C0-4C78-B515-477A00BC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BD4-0331-423B-AC16-051E3F82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345-1467-426A-BCB3-BF726D56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100-8DA0-45E9-AEDB-F0510D4E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F4E-D4B2-47A4-B63A-300606A2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BEA-39B6-431F-9692-FADD4E19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79F-E055-4D89-A814-F05B19DC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DF7-EEDD-4DB1-B296-6FF6FF51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35B-CC53-48FA-9A3D-0680B5A8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E778-AC46-4EFA-BD54-B4D7BE84A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jlipeiton - альбом &quot;ОТРИСОВКИ НЕЗНАЙКА (АВТОР ЕЛКА)&quot; на Яндекс.Фотках"/>
          <p:cNvPicPr/>
          <p:nvPr/>
        </p:nvPicPr>
        <p:blipFill>
          <a:blip r:embed="rId1"/>
          <a:stretch/>
        </p:blipFill>
        <p:spPr>
          <a:xfrm>
            <a:off x="2771640" y="0"/>
            <a:ext cx="3319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0"/>
            <a:ext cx="1440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26920" y="3933720"/>
            <a:ext cx="2376360" cy="1008000"/>
            <a:chOff x="826920" y="3933720"/>
            <a:chExt cx="2376360" cy="1008000"/>
          </a:xfrm>
        </p:grpSpPr>
        <p:sp>
          <p:nvSpPr>
            <p:cNvPr id="44" name=""/>
            <p:cNvSpPr/>
            <p:nvPr/>
          </p:nvSpPr>
          <p:spPr>
            <a:xfrm>
              <a:off x="826920" y="3933720"/>
              <a:ext cx="2376360" cy="1008000"/>
            </a:xfrm>
            <a:prstGeom prst="rect">
              <a:avLst/>
            </a:prstGeom>
            <a:solidFill>
              <a:srgbClr val="fcc4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6920" y="3933720"/>
              <a:ext cx="115236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979280" y="3933720"/>
              <a:ext cx="122400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79280" y="4292640"/>
              <a:ext cx="7164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50920" y="4797360"/>
            <a:ext cx="2376360" cy="1008000"/>
            <a:chOff x="250920" y="4797360"/>
            <a:chExt cx="2376360" cy="1008000"/>
          </a:xfrm>
        </p:grpSpPr>
        <p:sp>
          <p:nvSpPr>
            <p:cNvPr id="49" name=""/>
            <p:cNvSpPr/>
            <p:nvPr/>
          </p:nvSpPr>
          <p:spPr>
            <a:xfrm>
              <a:off x="250920" y="4797360"/>
              <a:ext cx="2376360" cy="1008000"/>
            </a:xfrm>
            <a:prstGeom prst="rect">
              <a:avLst/>
            </a:prstGeom>
            <a:solidFill>
              <a:srgbClr val="fcc4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4797360"/>
              <a:ext cx="115236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403280" y="4797360"/>
              <a:ext cx="122400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03280" y="5156280"/>
              <a:ext cx="7164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227640" y="2565360"/>
            <a:ext cx="2376360" cy="1008000"/>
            <a:chOff x="6227640" y="2565360"/>
            <a:chExt cx="2376360" cy="1008000"/>
          </a:xfrm>
        </p:grpSpPr>
        <p:sp>
          <p:nvSpPr>
            <p:cNvPr id="54" name=""/>
            <p:cNvSpPr/>
            <p:nvPr/>
          </p:nvSpPr>
          <p:spPr>
            <a:xfrm>
              <a:off x="6227640" y="2565360"/>
              <a:ext cx="2376360" cy="1008000"/>
            </a:xfrm>
            <a:prstGeom prst="rect">
              <a:avLst/>
            </a:prstGeom>
            <a:solidFill>
              <a:srgbClr val="fcc4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27640" y="2565360"/>
              <a:ext cx="115236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7380000" y="2565360"/>
              <a:ext cx="122400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80000" y="2924280"/>
              <a:ext cx="7164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3429000"/>
            <a:ext cx="2376360" cy="1008000"/>
            <a:chOff x="6012000" y="3429000"/>
            <a:chExt cx="2376360" cy="1008000"/>
          </a:xfrm>
        </p:grpSpPr>
        <p:sp>
          <p:nvSpPr>
            <p:cNvPr id="59" name=""/>
            <p:cNvSpPr/>
            <p:nvPr/>
          </p:nvSpPr>
          <p:spPr>
            <a:xfrm>
              <a:off x="6012000" y="3429000"/>
              <a:ext cx="2376360" cy="1008000"/>
            </a:xfrm>
            <a:prstGeom prst="rect">
              <a:avLst/>
            </a:prstGeom>
            <a:solidFill>
              <a:srgbClr val="fcc4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2000" y="3429000"/>
              <a:ext cx="115236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7164360" y="3429000"/>
              <a:ext cx="122400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64360" y="3787920"/>
              <a:ext cx="7164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55640" y="5516640"/>
            <a:ext cx="2376360" cy="1008000"/>
            <a:chOff x="755640" y="5516640"/>
            <a:chExt cx="2376360" cy="1008000"/>
          </a:xfrm>
        </p:grpSpPr>
        <p:sp>
          <p:nvSpPr>
            <p:cNvPr id="64" name=""/>
            <p:cNvSpPr/>
            <p:nvPr/>
          </p:nvSpPr>
          <p:spPr>
            <a:xfrm>
              <a:off x="755640" y="5516640"/>
              <a:ext cx="2376360" cy="1008000"/>
            </a:xfrm>
            <a:prstGeom prst="rect">
              <a:avLst/>
            </a:prstGeom>
            <a:solidFill>
              <a:srgbClr val="fcc4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5640" y="5516640"/>
              <a:ext cx="115236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908000" y="5516640"/>
              <a:ext cx="122400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8000" y="5875560"/>
              <a:ext cx="7164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372360" y="4292640"/>
            <a:ext cx="2376360" cy="1008000"/>
            <a:chOff x="6372360" y="4292640"/>
            <a:chExt cx="2376360" cy="1008000"/>
          </a:xfrm>
        </p:grpSpPr>
        <p:sp>
          <p:nvSpPr>
            <p:cNvPr id="69" name=""/>
            <p:cNvSpPr/>
            <p:nvPr/>
          </p:nvSpPr>
          <p:spPr>
            <a:xfrm>
              <a:off x="6372360" y="4292640"/>
              <a:ext cx="2376360" cy="1008000"/>
            </a:xfrm>
            <a:prstGeom prst="rect">
              <a:avLst/>
            </a:prstGeom>
            <a:solidFill>
              <a:srgbClr val="fcc4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72360" y="4292640"/>
              <a:ext cx="115236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524720" y="4292640"/>
              <a:ext cx="122400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24720" y="4651560"/>
              <a:ext cx="7164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9640" y="549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щение с книг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125360"/>
            <a:ext cx="741672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е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ку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рнуть в облож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ьзоваться заклад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перегибать облож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ать чистыми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вращать в библиот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Best Photography Book Free Download"/>
          <p:cNvPicPr/>
          <p:nvPr/>
        </p:nvPicPr>
        <p:blipFill>
          <a:blip r:embed="rId1"/>
          <a:stretch/>
        </p:blipFill>
        <p:spPr>
          <a:xfrm>
            <a:off x="4572000" y="1125360"/>
            <a:ext cx="4403880" cy="2573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227640" y="4005360"/>
            <a:ext cx="1584360" cy="172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443700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убы острые, что иг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отки ещё ост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походка как у тиг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он не царь зве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же вовсе не тигрё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пушистеньк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Котенок MikaNewton.IN.UA"/>
          <p:cNvPicPr/>
          <p:nvPr/>
        </p:nvPicPr>
        <p:blipFill>
          <a:blip r:embed="rId1"/>
          <a:stretch/>
        </p:blipFill>
        <p:spPr>
          <a:xfrm>
            <a:off x="4643280" y="2357280"/>
            <a:ext cx="4500720" cy="450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84720" y="476280"/>
            <a:ext cx="144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04640"/>
            <a:ext cx="1513080" cy="151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76500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ой питом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268280"/>
            <a:ext cx="8497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и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й вид (цвет, размер, шерсть, глазки, лапки, хвос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лю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игр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ё 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Фотографирование домашних животных Уроки фотографии Мир в фотографиях"/>
          <p:cNvPicPr/>
          <p:nvPr/>
        </p:nvPicPr>
        <p:blipFill>
          <a:blip r:embed="rId1"/>
          <a:stretch/>
        </p:blipFill>
        <p:spPr>
          <a:xfrm>
            <a:off x="3851280" y="3573360"/>
            <a:ext cx="47624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76360" y="1773360"/>
            <a:ext cx="691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333399"/>
                </a:solidFill>
                <a:latin typeface="Arial"/>
              </a:rPr>
              <a:t>Котята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549360"/>
            <a:ext cx="1871640" cy="158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907920"/>
            <a:ext cx="647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788000" y="1197000"/>
            <a:ext cx="3816360" cy="1620000"/>
          </a:xfrm>
          <a:prstGeom prst="rect">
            <a:avLst/>
          </a:prstGeom>
          <a:solidFill>
            <a:srgbClr val="fc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и у нас котят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, ДВА, ТРИ, ЧЕТЫРЕ, ПЯ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ходите к нам,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мотреть и по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924280"/>
            <a:ext cx="3600360" cy="1620000"/>
          </a:xfrm>
          <a:prstGeom prst="rect">
            <a:avLst/>
          </a:prstGeom>
          <a:solidFill>
            <a:srgbClr val="fc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 послушайте,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хочу вам рассказ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лись у нас котят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 по счету ровно п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60280"/>
            <a:ext cx="3816360" cy="1620000"/>
          </a:xfrm>
          <a:prstGeom prst="rect">
            <a:avLst/>
          </a:prstGeom>
          <a:solidFill>
            <a:srgbClr val="fc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решали, мы гад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же нам котят назв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конец мы их назв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, ДВА, ТРИ, ЧЕТЫРЕ, П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3429000"/>
            <a:ext cx="4752720" cy="3288960"/>
          </a:xfrm>
          <a:prstGeom prst="rect">
            <a:avLst/>
          </a:prstGeom>
          <a:solidFill>
            <a:srgbClr val="fc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 - котенок самый бе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- котенок самый сме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- котенок самый ум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ЧЕТЫРЕ - самый шум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ЯТЬ - похож на ТРИ и ДВ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т же хвост и гол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же пятнышко на спин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же спит весь день в корзи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35280" y="620640"/>
            <a:ext cx="1008000" cy="1008000"/>
            <a:chOff x="3635280" y="620640"/>
            <a:chExt cx="1008000" cy="1008000"/>
          </a:xfrm>
        </p:grpSpPr>
        <p:sp>
          <p:nvSpPr>
            <p:cNvPr id="159" name=""/>
            <p:cNvSpPr/>
            <p:nvPr/>
          </p:nvSpPr>
          <p:spPr>
            <a:xfrm>
              <a:off x="3635280" y="620640"/>
              <a:ext cx="1008000" cy="10080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24360" y="76500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812000" y="3068640"/>
            <a:ext cx="1008000" cy="1008000"/>
            <a:chOff x="7812000" y="3068640"/>
            <a:chExt cx="1008000" cy="1008000"/>
          </a:xfrm>
        </p:grpSpPr>
        <p:sp>
          <p:nvSpPr>
            <p:cNvPr id="162" name=""/>
            <p:cNvSpPr/>
            <p:nvPr/>
          </p:nvSpPr>
          <p:spPr>
            <a:xfrm>
              <a:off x="7812000" y="3068640"/>
              <a:ext cx="1008000" cy="10080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01080" y="328464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740720" y="476280"/>
            <a:ext cx="1008000" cy="1008000"/>
            <a:chOff x="7740720" y="476280"/>
            <a:chExt cx="1008000" cy="1008000"/>
          </a:xfrm>
        </p:grpSpPr>
        <p:sp>
          <p:nvSpPr>
            <p:cNvPr id="165" name=""/>
            <p:cNvSpPr/>
            <p:nvPr/>
          </p:nvSpPr>
          <p:spPr>
            <a:xfrm>
              <a:off x="7740720" y="476280"/>
              <a:ext cx="1008000" cy="10080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28000" y="6922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132000" y="2565360"/>
            <a:ext cx="1008360" cy="1008000"/>
            <a:chOff x="3132000" y="2565360"/>
            <a:chExt cx="1008360" cy="1008000"/>
          </a:xfrm>
        </p:grpSpPr>
        <p:sp>
          <p:nvSpPr>
            <p:cNvPr id="168" name=""/>
            <p:cNvSpPr/>
            <p:nvPr/>
          </p:nvSpPr>
          <p:spPr>
            <a:xfrm>
              <a:off x="3132000" y="2565360"/>
              <a:ext cx="1008360" cy="10080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19640" y="27100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380360" y="333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Иллюстрация 1 из 1 для Ладушки: Котята - Сергей Михалков Лаб…"/>
          <p:cNvPicPr/>
          <p:nvPr/>
        </p:nvPicPr>
        <p:blipFill>
          <a:blip r:embed="rId1"/>
          <a:stretch/>
        </p:blipFill>
        <p:spPr>
          <a:xfrm>
            <a:off x="250920" y="380880"/>
            <a:ext cx="8893080" cy="647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5076720" y="476280"/>
            <a:ext cx="374328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4221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4653000"/>
            <a:ext cx="136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333360"/>
            <a:ext cx="1873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4437000"/>
            <a:ext cx="144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4292640"/>
            <a:ext cx="216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ЕТЫ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93080" y="3933720"/>
            <a:ext cx="1834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97000"/>
            <a:ext cx="30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76500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ЗНА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213372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1916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2997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ВОЛЕН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1989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ПОМН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4292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ОЧУ УЗНАТЬ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411280" y="1341360"/>
            <a:ext cx="1152720" cy="100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340000" y="1413000"/>
            <a:ext cx="115236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565360"/>
            <a:ext cx="93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340000" y="2349000"/>
            <a:ext cx="12240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2421000"/>
            <a:ext cx="12970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2421000"/>
            <a:ext cx="115236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5805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КОМПЛЕКТЫ, МУЗЫКА, СЦЕНАРИИ для руководителей ДК, СДК, клубов (Страница 1153) MP3SORT.BIZ"/>
          <p:cNvPicPr/>
          <p:nvPr/>
        </p:nvPicPr>
        <p:blipFill>
          <a:blip r:embed="rId1"/>
          <a:stretch/>
        </p:blipFill>
        <p:spPr>
          <a:xfrm>
            <a:off x="0" y="0"/>
            <a:ext cx="5267160" cy="6669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643280" y="2276640"/>
            <a:ext cx="424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Спасибо за помощь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1196640"/>
            <a:ext cx="418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гда и где родился С.В. Михалк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 жанры использовал в литературном творчестве С.В. Михалк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называлось его первое сти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16360" y="1196640"/>
            <a:ext cx="4143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f6228"/>
                </a:solidFill>
                <a:latin typeface="Arial"/>
              </a:rPr>
              <a:t>С. В. Михалков родился 13 марта 1913 года в Моск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f6228"/>
                </a:solidFill>
                <a:latin typeface="Arial"/>
              </a:rPr>
              <a:t>Стихи, рассказы, сказки, басни,  пьесы, переводы, статьи, сцен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f6228"/>
                </a:solidFill>
                <a:latin typeface="Arial"/>
              </a:rPr>
              <a:t>«Доро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5480" y="1428480"/>
            <a:ext cx="4071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доме восемь дробь оди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заставы Ильич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Жил высокий граждани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 прозванью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переулке стояли дом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из домов жил Упрямый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 прививку! Первый класс!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 слыхали? Это нас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 я встал у стенки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меня дрожат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ы едем, едем, едем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далекие края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ошие соседи, счастливые 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714920" y="142884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то, набив пирожным рот,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ворит: А 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лавочке сид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улицу гляде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ля пел, Борис  молч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иколай ног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ть сказала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 Дверь закрой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К нам летит пчели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2500200" y="20718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лан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2000160" y="307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2714760" y="43578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л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2286000" y="5429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7072200" y="16430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о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7143840" y="28576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ч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8001000" y="364320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Незнайку и Тома Сойера запретят читать маленьким детям - Читаем, рассказываем - Форум счастливых родителей!"/>
          <p:cNvPicPr/>
          <p:nvPr/>
        </p:nvPicPr>
        <p:blipFill>
          <a:blip r:embed="rId1"/>
          <a:stretch/>
        </p:blipFill>
        <p:spPr>
          <a:xfrm>
            <a:off x="971640" y="0"/>
            <a:ext cx="4167000" cy="66657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3798720" y="2307600"/>
            <a:ext cx="4773240" cy="3616560"/>
            <a:chOff x="3798720" y="2307600"/>
            <a:chExt cx="4773240" cy="3616560"/>
          </a:xfrm>
        </p:grpSpPr>
        <p:sp>
          <p:nvSpPr>
            <p:cNvPr id="75" name=""/>
            <p:cNvSpPr/>
            <p:nvPr/>
          </p:nvSpPr>
          <p:spPr>
            <a:xfrm>
              <a:off x="3851280" y="4579560"/>
              <a:ext cx="107928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062200">
              <a:off x="4426920" y="2850480"/>
              <a:ext cx="1079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51640" y="4939920"/>
              <a:ext cx="107928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129800">
              <a:off x="7451640" y="3283920"/>
              <a:ext cx="107928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0761800">
              <a:off x="3850920" y="3571200"/>
              <a:ext cx="1152360" cy="576360"/>
            </a:xfrm>
            <a:prstGeom prst="rect">
              <a:avLst/>
            </a:prstGeom>
            <a:solidFill>
              <a:srgbClr val="fcc4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93800">
              <a:off x="4138560" y="4939920"/>
              <a:ext cx="1152360" cy="576360"/>
            </a:xfrm>
            <a:prstGeom prst="rect">
              <a:avLst/>
            </a:prstGeom>
            <a:solidFill>
              <a:srgbClr val="fcc4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298600">
              <a:off x="5938560" y="3571560"/>
              <a:ext cx="1152720" cy="576360"/>
            </a:xfrm>
            <a:prstGeom prst="rect">
              <a:avLst/>
            </a:prstGeom>
            <a:solidFill>
              <a:srgbClr val="fcc4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38560" y="4651200"/>
              <a:ext cx="1152720" cy="576360"/>
            </a:xfrm>
            <a:prstGeom prst="rect">
              <a:avLst/>
            </a:prstGeom>
            <a:solidFill>
              <a:srgbClr val="fcc4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27280" y="4219200"/>
              <a:ext cx="8654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765800">
              <a:off x="7379640" y="2492280"/>
              <a:ext cx="865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788800">
              <a:off x="6011280" y="2779200"/>
              <a:ext cx="8650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200200">
              <a:off x="7307280" y="4435200"/>
              <a:ext cx="865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5640" y="3787560"/>
              <a:ext cx="8650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06920" y="4076280"/>
              <a:ext cx="865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857000">
              <a:off x="5722920" y="5300280"/>
              <a:ext cx="865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517800" y="5460120"/>
            <a:ext cx="2516760" cy="1409400"/>
            <a:chOff x="6517800" y="5460120"/>
            <a:chExt cx="2516760" cy="1409400"/>
          </a:xfrm>
        </p:grpSpPr>
        <p:sp>
          <p:nvSpPr>
            <p:cNvPr id="91" name=""/>
            <p:cNvSpPr/>
            <p:nvPr/>
          </p:nvSpPr>
          <p:spPr>
            <a:xfrm rot="606600">
              <a:off x="6587640" y="5660640"/>
              <a:ext cx="2376360" cy="1008000"/>
            </a:xfrm>
            <a:prstGeom prst="rect">
              <a:avLst/>
            </a:prstGeom>
            <a:solidFill>
              <a:srgbClr val="fcc4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4920" y="5460120"/>
              <a:ext cx="103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728480" y="5877360"/>
              <a:ext cx="130608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606600">
              <a:off x="7759080" y="6021360"/>
              <a:ext cx="7164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63520" y="5134320"/>
            <a:ext cx="2496960" cy="1341000"/>
            <a:chOff x="263520" y="5134320"/>
            <a:chExt cx="2496960" cy="1341000"/>
          </a:xfrm>
        </p:grpSpPr>
        <p:sp>
          <p:nvSpPr>
            <p:cNvPr id="96" name=""/>
            <p:cNvSpPr/>
            <p:nvPr/>
          </p:nvSpPr>
          <p:spPr>
            <a:xfrm rot="21101400">
              <a:off x="323640" y="5300640"/>
              <a:ext cx="2376360" cy="1008000"/>
            </a:xfrm>
            <a:prstGeom prst="rect">
              <a:avLst/>
            </a:prstGeom>
            <a:solidFill>
              <a:srgbClr val="fcc4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3520" y="5477760"/>
              <a:ext cx="1223280" cy="40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86800" y="5134320"/>
              <a:ext cx="1128240" cy="74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1101400">
              <a:off x="1460520" y="5660640"/>
              <a:ext cx="7164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48520" y="992880"/>
            <a:ext cx="2550600" cy="1559160"/>
            <a:chOff x="5348520" y="992880"/>
            <a:chExt cx="2550600" cy="1559160"/>
          </a:xfrm>
        </p:grpSpPr>
        <p:sp>
          <p:nvSpPr>
            <p:cNvPr id="101" name=""/>
            <p:cNvSpPr/>
            <p:nvPr/>
          </p:nvSpPr>
          <p:spPr>
            <a:xfrm rot="850200">
              <a:off x="5435280" y="1268280"/>
              <a:ext cx="2376360" cy="1008000"/>
            </a:xfrm>
            <a:prstGeom prst="rect">
              <a:avLst/>
            </a:prstGeom>
            <a:solidFill>
              <a:srgbClr val="fcc4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95120" y="992880"/>
              <a:ext cx="976680" cy="83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71800" y="1574640"/>
              <a:ext cx="132732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850200">
              <a:off x="6614640" y="1630440"/>
              <a:ext cx="7164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85840" y="1143000"/>
            <a:ext cx="4857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каком стихотворении ребята затеяли спор о профессиях мам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з какого стихотворения эти стро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ы в дальнюю дорогу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ери с собой друзей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ни тебе помогут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 с ними весел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ого ребята взяли с собой в дорог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акое предложение писал герой стихотворения "Чистописание"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 какому выводу он пришё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акая фамилия была у Дяди Стёп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71680" y="1143000"/>
            <a:ext cx="3614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«А что у вас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«Песенка друзей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Мы везем с собой кота, </a:t>
            </a:r>
            <a:br>
              <a:rPr sz="2200"/>
            </a:b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Чижика, собаку,</a:t>
            </a:r>
            <a:br>
              <a:rPr sz="2200"/>
            </a:b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Петьку-забияку,</a:t>
            </a:r>
            <a:br>
              <a:rPr sz="2200"/>
            </a:b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Обезьяну, попугая –</a:t>
            </a:r>
            <a:br>
              <a:rPr sz="2200"/>
            </a:b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Вот компания кака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"Даёт корова молоко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«Да, стать учёным не легко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f6228"/>
                </a:solidFill>
                <a:latin typeface="Arial"/>
              </a:rPr>
              <a:t>Степ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14280"/>
            <a:ext cx="4186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классе учился мальчик, боявшийся привив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ая температура была у героя одного из  стихотв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за каша была во рту у Саш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лько человек сидело и стояло в трамвае № 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е слово ненавидел  герой одного из стихотв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В пер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Тридцать шесть и п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Каша из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Сто пятнадцать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Сп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2637000"/>
            <a:ext cx="7848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ргей Владимирович Михал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49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гния Львовна Бар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1628640"/>
            <a:ext cx="6697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уил Яковлевич Марш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3789360"/>
            <a:ext cx="6769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рней Иванович Чук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4941720"/>
            <a:ext cx="7345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ександр Сергеевич 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89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404640"/>
            <a:ext cx="576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476280"/>
            <a:ext cx="1366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620640"/>
            <a:ext cx="5749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51640" y="404640"/>
            <a:ext cx="3311280" cy="78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шумелся первы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бушует цел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341360"/>
            <a:ext cx="3241440" cy="162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Танюши дел нема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Танюши много дел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тром брату помога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с утра конфеты  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3213000"/>
            <a:ext cx="3167280" cy="162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яукали котя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Надоело нам мяук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хотим , как порос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юкать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5013360"/>
            <a:ext cx="3527640" cy="162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есяц, месяц, мой друж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олоченный рож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стаёшь во тьме глубо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глолицый, светлооки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700280"/>
            <a:ext cx="2808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. Л. Бар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404640"/>
            <a:ext cx="331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. Я. Марш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3500280"/>
            <a:ext cx="367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.И. Чук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5300640"/>
            <a:ext cx="316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. С. 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Сергей Михалков &quot;Мой щенок&quot;"/>
          <p:cNvPicPr/>
          <p:nvPr/>
        </p:nvPicPr>
        <p:blipFill>
          <a:blip r:embed="rId1"/>
          <a:stretch/>
        </p:blipFill>
        <p:spPr>
          <a:xfrm>
            <a:off x="395280" y="260280"/>
            <a:ext cx="3052800" cy="309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нига &quot;А что у вас. Сергей Владимирович Михалков купить с доставкой по Киеву/Украине. &quot;А что у вас. - Сергей Владимирович Михалк"/>
          <p:cNvPicPr/>
          <p:nvPr/>
        </p:nvPicPr>
        <p:blipFill>
          <a:blip r:embed="rId2"/>
          <a:stretch/>
        </p:blipFill>
        <p:spPr>
          <a:xfrm>
            <a:off x="3780000" y="333360"/>
            <a:ext cx="2163600" cy="3166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978-5-17-007991-9"/>
          <p:cNvPicPr/>
          <p:nvPr/>
        </p:nvPicPr>
        <p:blipFill>
          <a:blip r:embed="rId3"/>
          <a:stretch/>
        </p:blipFill>
        <p:spPr>
          <a:xfrm>
            <a:off x="6443640" y="260280"/>
            <a:ext cx="2340000" cy="331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Фома (Читаем сами) - Михалков С."/>
          <p:cNvPicPr/>
          <p:nvPr/>
        </p:nvPicPr>
        <p:blipFill>
          <a:blip r:embed="rId4"/>
          <a:stretch/>
        </p:blipFill>
        <p:spPr>
          <a:xfrm>
            <a:off x="611280" y="3573360"/>
            <a:ext cx="2360520" cy="308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Песенка друзей В книгу вошли популярные стихи Михалкова: &quot;А что у вас?&quot;, &quot;Про мимозу&quot;, &quot;Мой щенок&quot;, &quot;Песенка друзей&quot;, &quot;Трезор&quot;,"/>
          <p:cNvPicPr/>
          <p:nvPr/>
        </p:nvPicPr>
        <p:blipFill>
          <a:blip r:embed="rId5"/>
          <a:stretch/>
        </p:blipFill>
        <p:spPr>
          <a:xfrm>
            <a:off x="3564000" y="3645000"/>
            <a:ext cx="2579760" cy="306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&quot;Мы с приятелем&quot; - Картинка 3222/11"/>
          <p:cNvPicPr/>
          <p:nvPr/>
        </p:nvPicPr>
        <p:blipFill>
          <a:blip r:embed="rId6"/>
          <a:stretch/>
        </p:blipFill>
        <p:spPr>
          <a:xfrm>
            <a:off x="6541920" y="3573360"/>
            <a:ext cx="2318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4" descr="mihal1.jpg"/>
          <p:cNvPicPr/>
          <p:nvPr/>
        </p:nvPicPr>
        <p:blipFill>
          <a:blip r:embed="rId1"/>
          <a:stretch/>
        </p:blipFill>
        <p:spPr>
          <a:xfrm>
            <a:off x="611280" y="189000"/>
            <a:ext cx="3477960" cy="576108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6" descr="i_mikhalkov3_2.jpg"/>
          <p:cNvPicPr/>
          <p:nvPr/>
        </p:nvPicPr>
        <p:blipFill>
          <a:blip r:embed="rId2"/>
          <a:stretch/>
        </p:blipFill>
        <p:spPr>
          <a:xfrm>
            <a:off x="5219640" y="2060640"/>
            <a:ext cx="3454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5" descr="monument200.jpg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4" descr="untitled.bmp"/>
          <p:cNvPicPr/>
          <p:nvPr/>
        </p:nvPicPr>
        <p:blipFill>
          <a:blip r:embed="rId1"/>
          <a:stretch/>
        </p:blipFill>
        <p:spPr>
          <a:xfrm>
            <a:off x="285840" y="1571760"/>
            <a:ext cx="3881520" cy="3357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648320" y="1142640"/>
            <a:ext cx="4038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аснопис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рамат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вод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ценар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урн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р гимн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5" descr="058128.jpg"/>
          <p:cNvPicPr/>
          <p:nvPr/>
        </p:nvPicPr>
        <p:blipFill>
          <a:blip r:embed="rId2"/>
          <a:stretch/>
        </p:blipFill>
        <p:spPr>
          <a:xfrm>
            <a:off x="250920" y="2133720"/>
            <a:ext cx="4168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born_in_ussr: Исполнилось 100 лет со дня рождения Сергея Мих…"/>
          <p:cNvPicPr/>
          <p:nvPr/>
        </p:nvPicPr>
        <p:blipFill>
          <a:blip r:embed="rId1"/>
          <a:stretch/>
        </p:blipFill>
        <p:spPr>
          <a:xfrm>
            <a:off x="250920" y="189000"/>
            <a:ext cx="4184640" cy="645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0" y="155736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ргей Владимирович 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4365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3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born_in_ussr: Исполнилось 100 лет со дня рождения Сергея Мих…"/>
          <p:cNvPicPr/>
          <p:nvPr/>
        </p:nvPicPr>
        <p:blipFill>
          <a:blip r:embed="rId2"/>
          <a:stretch/>
        </p:blipFill>
        <p:spPr>
          <a:xfrm>
            <a:off x="250920" y="189000"/>
            <a:ext cx="41846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7:05:09Z</dcterms:created>
  <dc:creator>Галина</dc:creator>
  <dc:description/>
  <dc:language>en-US</dc:language>
  <cp:lastModifiedBy>Галина</cp:lastModifiedBy>
  <dcterms:modified xsi:type="dcterms:W3CDTF">2015-02-17T04:30:20Z</dcterms:modified>
  <cp:revision>4</cp:revision>
  <dc:subject/>
  <dc:title>Слайд 1</dc:title>
</cp:coreProperties>
</file>