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5DC-917F-46EE-A52C-3409208E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930-250B-4564-BBC9-DCCDE85E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5A3-6A45-4254-91CB-9BCEBABD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0E5-6486-4EF6-B3FC-3EE98516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3E6-A18C-4966-8FCB-54649033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D55-CAD4-4021-B026-062823B1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9B1-F3B9-40F7-8E46-6F2F0F44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ABD-5B74-49DA-9528-975B339B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58A-E941-4340-8B64-3AA0D868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113-9010-4048-9862-D49A9994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CAC-44B7-447D-A895-28B3999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245-562A-4254-AF72-A58798CB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898B-8385-4278-9535-CBD6199C4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611280" y="765000"/>
            <a:ext cx="792144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алым –наш ласковый д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 НОД "Село моё"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Ознакомление  детей с историей возникновения посёлка  Салым, его социальными объектами, достопримечательностями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детей 6-7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ольцева Ольга Пет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спитатель 1 кв. категории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. Салы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http://img-fotki.yandex.ru/get/4111/salym.13/0_3b1bb_6e28fa9_L"/>
          <p:cNvPicPr/>
          <p:nvPr/>
        </p:nvPicPr>
        <p:blipFill>
          <a:blip r:embed="rId2"/>
          <a:stretch/>
        </p:blipFill>
        <p:spPr>
          <a:xfrm>
            <a:off x="826920" y="907920"/>
            <a:ext cx="7490160" cy="4969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3672000" y="595008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ча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g-fotki.yandex.ru/get/3804/salym.a/0_2367c_ff404eac_L"/>
          <p:cNvPicPr/>
          <p:nvPr/>
        </p:nvPicPr>
        <p:blipFill>
          <a:blip r:embed="rId2"/>
          <a:stretch/>
        </p:blipFill>
        <p:spPr>
          <a:xfrm>
            <a:off x="826920" y="907920"/>
            <a:ext cx="7561440" cy="5042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763640" y="602136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о- строительное управл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http://img-fotki.yandex.ru/get/3804/salym.a/0_23664_ec6f76a8_L"/>
          <p:cNvPicPr/>
          <p:nvPr/>
        </p:nvPicPr>
        <p:blipFill>
          <a:blip r:embed="rId2"/>
          <a:stretch/>
        </p:blipFill>
        <p:spPr>
          <a:xfrm>
            <a:off x="826920" y="907920"/>
            <a:ext cx="749016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619280" y="602136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 Мансийский бан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http://img-fotki.yandex.ru/get/3803/salym.a/0_23661_3bdabc6f_L"/>
          <p:cNvPicPr/>
          <p:nvPr/>
        </p:nvPicPr>
        <p:blipFill>
          <a:blip r:embed="rId2"/>
          <a:stretch/>
        </p:blipFill>
        <p:spPr>
          <a:xfrm>
            <a:off x="826920" y="907920"/>
            <a:ext cx="7490160" cy="50421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2195640" y="6021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 «Улыб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http://img-fotki.yandex.ru/get/3805/salym.a/0_2365d_fb999d83_L"/>
          <p:cNvPicPr/>
          <p:nvPr/>
        </p:nvPicPr>
        <p:blipFill>
          <a:blip r:embed="rId2"/>
          <a:stretch/>
        </p:blipFill>
        <p:spPr>
          <a:xfrm>
            <a:off x="826920" y="981000"/>
            <a:ext cx="7561440" cy="4896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2700360" y="602136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 моста через ж/д пути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5" descr="http://img-fotki.yandex.ru/get/4600/salym.19/0_63522_25d25fd3_L"/>
          <p:cNvPicPr/>
          <p:nvPr/>
        </p:nvPicPr>
        <p:blipFill>
          <a:blip r:embed="rId1"/>
          <a:stretch/>
        </p:blipFill>
        <p:spPr>
          <a:xfrm>
            <a:off x="2190600" y="1847880"/>
            <a:ext cx="4762800" cy="316224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6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http://img-fotki.yandex.ru/get/4507/salym.19/0_6602c_cea5c93f_L"/>
          <p:cNvPicPr/>
          <p:nvPr/>
        </p:nvPicPr>
        <p:blipFill>
          <a:blip r:embed="rId3"/>
          <a:stretch/>
        </p:blipFill>
        <p:spPr>
          <a:xfrm>
            <a:off x="826920" y="981000"/>
            <a:ext cx="7490160" cy="49690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3368520" y="609300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клин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Парусная регата. Озеро Сырковый Сор. "/>
          <p:cNvPicPr/>
          <p:nvPr/>
        </p:nvPicPr>
        <p:blipFill>
          <a:blip r:embed="rId1"/>
          <a:stretch/>
        </p:blipFill>
        <p:spPr>
          <a:xfrm>
            <a:off x="3143160" y="2481120"/>
            <a:ext cx="2857680" cy="1895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русная регата. Озеро Сырковый Сор. "/>
          <p:cNvPicPr/>
          <p:nvPr/>
        </p:nvPicPr>
        <p:blipFill>
          <a:blip r:embed="rId3"/>
          <a:stretch/>
        </p:blipFill>
        <p:spPr>
          <a:xfrm>
            <a:off x="826920" y="981000"/>
            <a:ext cx="7417080" cy="49690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1979640" y="6021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еро «Сырковый сор». Рег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http://img-fotki.yandex.ru/get/5404/salym.19/0_66028_8fcd969c_L"/>
          <p:cNvPicPr/>
          <p:nvPr/>
        </p:nvPicPr>
        <p:blipFill>
          <a:blip r:embed="rId2"/>
          <a:stretch/>
        </p:blipFill>
        <p:spPr>
          <a:xfrm>
            <a:off x="826920" y="907920"/>
            <a:ext cx="7490160" cy="50421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286000" y="5805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хоз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http://img-fotki.yandex.ru/get/4600/salym.19/0_63522_25d25fd3_L"/>
          <p:cNvPicPr/>
          <p:nvPr/>
        </p:nvPicPr>
        <p:blipFill>
          <a:blip r:embed="rId2"/>
          <a:stretch/>
        </p:blipFill>
        <p:spPr>
          <a:xfrm>
            <a:off x="826920" y="907920"/>
            <a:ext cx="7561440" cy="50421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2286000" y="6060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К «Сияние Севе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http://img-fotki.yandex.ru/get/4604/salym.19/0_6602e_a13b05cf_L"/>
          <p:cNvPicPr/>
          <p:nvPr/>
        </p:nvPicPr>
        <p:blipFill>
          <a:blip r:embed="rId2"/>
          <a:stretch/>
        </p:blipFill>
        <p:spPr>
          <a:xfrm>
            <a:off x="755640" y="907920"/>
            <a:ext cx="7632720" cy="5042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2286000" y="6060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888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7561440" cy="51134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971640" y="5877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8 года в сентябре высадился первый десант строителей  на строительство железной дороги Тюмень-Сургут-Нижневартовск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http://salym.narod.ru/images/9_maya_den_pobedi.jpg"/>
          <p:cNvPicPr/>
          <p:nvPr/>
        </p:nvPicPr>
        <p:blipFill>
          <a:blip r:embed="rId2"/>
          <a:stretch/>
        </p:blipFill>
        <p:spPr>
          <a:xfrm>
            <a:off x="900000" y="981000"/>
            <a:ext cx="7488360" cy="5085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5"/>
          <p:cNvSpPr/>
          <p:nvPr/>
        </p:nvSpPr>
        <p:spPr>
          <a:xfrm>
            <a:off x="611280" y="609300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павшим в боях солдатам. Там проходят демонстрации, и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ды в честь Дня Победы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2286000" y="2828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Мкр. 2. ПМК "/>
          <p:cNvPicPr/>
          <p:nvPr/>
        </p:nvPicPr>
        <p:blipFill>
          <a:blip r:embed="rId2"/>
          <a:stretch/>
        </p:blipFill>
        <p:spPr>
          <a:xfrm>
            <a:off x="900000" y="981000"/>
            <a:ext cx="7488360" cy="49690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7"/>
          <p:cNvSpPr/>
          <p:nvPr/>
        </p:nvSpPr>
        <p:spPr>
          <a:xfrm>
            <a:off x="826920" y="595008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можем гордиться героическим прошлым нашего посёл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2484360" y="249228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258920" y="2509920"/>
            <a:ext cx="5977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отографии  из личного архива авт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пользованные 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рнет -ресурсы:http://salym.narod.ru/news/salym196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888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632720" cy="48974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755640" y="5732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дарную комсомольско-молодежную стройку ехали со всей страны лю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888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http://img-fotki.yandex.ru/get/3807/salym.13/0_3f395_fe03746a_L"/>
          <p:cNvPicPr/>
          <p:nvPr/>
        </p:nvPicPr>
        <p:blipFill>
          <a:blip r:embed="rId2"/>
          <a:stretch/>
        </p:blipFill>
        <p:spPr>
          <a:xfrm>
            <a:off x="826920" y="907920"/>
            <a:ext cx="7490160" cy="4969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826920" y="6021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жили в палатках посреди дремучей тайг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http://img-fotki.yandex.ru/get/5906/salym.27/0_909d6_b9b19733_L"/>
          <p:cNvPicPr/>
          <p:nvPr/>
        </p:nvPicPr>
        <p:blipFill>
          <a:blip r:embed="rId2"/>
          <a:stretch/>
        </p:blipFill>
        <p:spPr>
          <a:xfrm>
            <a:off x="826920" y="907920"/>
            <a:ext cx="7490160" cy="50421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900000" y="587700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железной дороги Тюмень-Сургут-Нижневартов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img-fotki.yandex.ru/get/3811/salym.13/0_3f397_5668c2fd_L"/>
          <p:cNvPicPr/>
          <p:nvPr/>
        </p:nvPicPr>
        <p:blipFill>
          <a:blip r:embed="rId2"/>
          <a:stretch/>
        </p:blipFill>
        <p:spPr>
          <a:xfrm>
            <a:off x="826920" y="981000"/>
            <a:ext cx="7490160" cy="49690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1042920" y="6021360"/>
            <a:ext cx="71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рела необходимость строить школу и детский с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img-fotki.yandex.ru/get/3708/salym.b/0_23694_558c52d4_L"/>
          <p:cNvPicPr/>
          <p:nvPr/>
        </p:nvPicPr>
        <p:blipFill>
          <a:blip r:embed="rId2"/>
          <a:stretch/>
        </p:blipFill>
        <p:spPr>
          <a:xfrm>
            <a:off x="900000" y="907920"/>
            <a:ext cx="7344000" cy="49690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826920" y="5300640"/>
            <a:ext cx="741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 время Салым  – это большой посёлок,  с населением свыше 6 тыс. человек, в нем проживает много народностей. Люди живут и трудятся на разных предприятиях,  для того чтобы посёлок  хорошел и разрасталс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http://www.tobolsk-eparhia.ru/p/blag/hant/i/salym01.jpg"/>
          <p:cNvPicPr/>
          <p:nvPr/>
        </p:nvPicPr>
        <p:blipFill>
          <a:blip r:embed="rId2"/>
          <a:stretch/>
        </p:blipFill>
        <p:spPr>
          <a:xfrm>
            <a:off x="900000" y="907920"/>
            <a:ext cx="7488360" cy="51134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1619280" y="6021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м в честь  святых апостолов Петра и Пав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&amp;Rcy;&amp;acy;&amp;mcy;&amp;kcy;&amp;acy; (&amp;shcy;&amp;acy;&amp;bcy;&amp;lcy;&amp;ocy;&amp;ncy;) &amp;dcy;&amp;lcy;&amp;yacy; &amp;pcy;&amp;rcy;&amp;iecy;&amp;zcy;&amp;iecy;&amp;ncy;&amp;tcy;&amp;acy;&amp;tscy;&amp;icy;&amp;icy; &quot;&amp;Kcy;&amp;ocy;&amp;rcy;&amp;icy;&amp;chcy;&amp;ncy;&amp;iecy;&amp;vcy;&amp;acy;&amp;yacy; 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http://img-fotki.yandex.ru/get/2814/salym.17/0_53fc4_a3e14a26_L"/>
          <p:cNvPicPr/>
          <p:nvPr/>
        </p:nvPicPr>
        <p:blipFill>
          <a:blip r:embed="rId2"/>
          <a:stretch/>
        </p:blipFill>
        <p:spPr>
          <a:xfrm>
            <a:off x="826920" y="836640"/>
            <a:ext cx="7490160" cy="51847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826920" y="5877000"/>
            <a:ext cx="74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1975 года пришел первый пассажирский поезд на станцию Салым. Построен железнодорожный вокза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7:20:41Z</dcterms:created>
  <dc:creator>User</dc:creator>
  <dc:description/>
  <dc:language>en-US</dc:language>
  <cp:lastModifiedBy>User</cp:lastModifiedBy>
  <dcterms:modified xsi:type="dcterms:W3CDTF">2019-12-28T17:13:30Z</dcterms:modified>
  <cp:revision>47</cp:revision>
  <dc:subject/>
  <dc:title>Слайд 1</dc:title>
</cp:coreProperties>
</file>