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C022-067C-41BE-BB20-B079DE57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2A7C-26D5-402C-B51C-CC947A58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AF88-FCC9-4DC9-959A-E2558D16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D6DC-C0EA-4662-8A19-97813FD0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47A-C47A-44AB-8E65-F807FC4E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718-D616-4096-B821-1A578406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C309-9520-4D36-91B5-5830FAAB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2ED5-9BAD-432C-BA9E-A19AF04C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D7EB-6149-4EBC-94DA-B0224D5C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195-85B2-4363-B630-4773C1C8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0C56-9DB8-4CD5-AAFB-67911C1E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9A58-72A9-41CD-A761-59788AA5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B974-2ACF-4CC4-ACD4-9D5FE4806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Тема: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«Увеличительные приборы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91440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Домашнее задание: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6 прочитать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тветить устно на вопро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ЛУП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 это простейший увеличительный приб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Ручная лу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9002" t="14667" r="9002" b="13335"/>
          <a:stretch/>
        </p:blipFill>
        <p:spPr>
          <a:xfrm>
            <a:off x="762120" y="1371600"/>
            <a:ext cx="76960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517680"/>
            <a:ext cx="6476760" cy="59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Световой микроско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это оптический прибор для рассматривания в увеличенном виде небольших, не различимых простым глазом предме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47504" t="3333" r="0" b="11113"/>
          <a:stretch/>
        </p:blipFill>
        <p:spPr>
          <a:xfrm>
            <a:off x="1870200" y="0"/>
            <a:ext cx="54864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1T02:24:47Z</dcterms:created>
  <dc:creator>Дарья</dc:creator>
  <dc:description/>
  <dc:language>en-US</dc:language>
  <cp:lastModifiedBy>Дарья</cp:lastModifiedBy>
  <dcterms:modified xsi:type="dcterms:W3CDTF">2018-10-01T02:53:2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