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485-776C-439F-83DD-4D50F920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9B9-E170-43D0-8D93-6E5BB0C2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420-7914-4750-8745-1BC6E0F5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241-33EF-4A2C-818E-ED469238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A33-D9F6-4C2A-84C8-C127E63B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A15-11BC-4CC2-A35E-9401D741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E7A-AEDD-4FCA-A823-5FA077B7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52A-E181-4852-BCF7-2C6C3B2A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18A-CE11-4F67-832A-8BBE1F78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32E-1119-49C8-BD26-FFF716DD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423-B563-42A6-BA6B-788943BC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CCB-6320-4CAA-8321-ADC2162C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C799-42C2-478E-B568-27C3EA215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0400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Comic Sans MS"/>
              </a:rPr>
              <a:t>Викторина по сказка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280" y="3715920"/>
            <a:ext cx="4103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nsolas"/>
              </a:rPr>
              <a:t>Автор презент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nsolas"/>
              </a:rPr>
              <a:t>Гечер К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nsolas"/>
              </a:rPr>
              <a:t>Воспитатель МБДОУ№58 «Солнышк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onsolas"/>
              </a:rPr>
              <a:t>Г.Симфероп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0920" y="4046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Выбери прави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62160" y="1911240"/>
            <a:ext cx="566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то последним помог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януть реп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lastslide"/>
          </p:cNvPr>
          <p:cNvSpPr/>
          <p:nvPr/>
        </p:nvSpPr>
        <p:spPr>
          <a:xfrm>
            <a:off x="1187280" y="3213000"/>
            <a:ext cx="2953080" cy="720720"/>
          </a:xfrm>
          <a:custGeom>
            <a:avLst/>
            <a:gdLst>
              <a:gd name="textAreaLeft" fmla="*/ 46440 w 2953080"/>
              <a:gd name="textAreaRight" fmla="*/ 2906640 w 2953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88470" h="21600">
                <a:moveTo>
                  <a:pt x="0" y="0"/>
                </a:moveTo>
                <a:lnTo>
                  <a:pt x="88470" y="0"/>
                </a:lnTo>
                <a:lnTo>
                  <a:pt x="88470" y="21600"/>
                </a:lnTo>
                <a:lnTo>
                  <a:pt x="0" y="21600"/>
                </a:lnTo>
                <a:close/>
              </a:path>
              <a:path fill="lightenLess" w="88470" h="21600">
                <a:moveTo>
                  <a:pt x="0" y="0"/>
                </a:moveTo>
                <a:lnTo>
                  <a:pt x="88470" y="0"/>
                </a:lnTo>
                <a:lnTo>
                  <a:pt x="87071" y="1400"/>
                </a:lnTo>
                <a:lnTo>
                  <a:pt x="1400" y="1400"/>
                </a:lnTo>
                <a:close/>
              </a:path>
              <a:path fill="darken" w="88470" h="21600">
                <a:moveTo>
                  <a:pt x="88470" y="0"/>
                </a:moveTo>
                <a:lnTo>
                  <a:pt x="88470" y="21600"/>
                </a:lnTo>
                <a:lnTo>
                  <a:pt x="87071" y="20200"/>
                </a:lnTo>
                <a:lnTo>
                  <a:pt x="87071" y="1400"/>
                </a:lnTo>
                <a:close/>
              </a:path>
              <a:path fill="darkenLess" w="88470" h="21600">
                <a:moveTo>
                  <a:pt x="88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071" y="20200"/>
                </a:lnTo>
                <a:close/>
              </a:path>
              <a:path fill="lighten" w="88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ну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1187280" y="4005360"/>
            <a:ext cx="2953080" cy="792000"/>
          </a:xfrm>
          <a:custGeom>
            <a:avLst/>
            <a:gdLst>
              <a:gd name="textAreaLeft" fmla="*/ 51120 w 2953080"/>
              <a:gd name="textAreaRight" fmla="*/ 2901960 w 295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80512" h="21600">
                <a:moveTo>
                  <a:pt x="0" y="0"/>
                </a:moveTo>
                <a:lnTo>
                  <a:pt x="80512" y="0"/>
                </a:lnTo>
                <a:lnTo>
                  <a:pt x="80512" y="21600"/>
                </a:lnTo>
                <a:lnTo>
                  <a:pt x="0" y="21600"/>
                </a:lnTo>
                <a:close/>
              </a:path>
              <a:path fill="lightenLess" w="80512" h="21600">
                <a:moveTo>
                  <a:pt x="0" y="0"/>
                </a:moveTo>
                <a:lnTo>
                  <a:pt x="80512" y="0"/>
                </a:lnTo>
                <a:lnTo>
                  <a:pt x="79112" y="1400"/>
                </a:lnTo>
                <a:lnTo>
                  <a:pt x="1400" y="1400"/>
                </a:lnTo>
                <a:close/>
              </a:path>
              <a:path fill="darken" w="80512" h="21600">
                <a:moveTo>
                  <a:pt x="80512" y="0"/>
                </a:moveTo>
                <a:lnTo>
                  <a:pt x="80512" y="21600"/>
                </a:lnTo>
                <a:lnTo>
                  <a:pt x="79112" y="20200"/>
                </a:lnTo>
                <a:lnTo>
                  <a:pt x="79112" y="1400"/>
                </a:lnTo>
                <a:close/>
              </a:path>
              <a:path fill="darkenLess" w="80512" h="21600">
                <a:moveTo>
                  <a:pt x="80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12" y="20200"/>
                </a:lnTo>
                <a:close/>
              </a:path>
              <a:path fill="lighten" w="80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ы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lastslide"/>
          </p:cNvPr>
          <p:cNvSpPr/>
          <p:nvPr/>
        </p:nvSpPr>
        <p:spPr>
          <a:xfrm>
            <a:off x="1187280" y="4869000"/>
            <a:ext cx="2953080" cy="718920"/>
          </a:xfrm>
          <a:custGeom>
            <a:avLst/>
            <a:gdLst>
              <a:gd name="textAreaLeft" fmla="*/ 46440 w 2953080"/>
              <a:gd name="textAreaRight" fmla="*/ 2906640 w 2953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88692" h="21600">
                <a:moveTo>
                  <a:pt x="0" y="0"/>
                </a:moveTo>
                <a:lnTo>
                  <a:pt x="88692" y="0"/>
                </a:lnTo>
                <a:lnTo>
                  <a:pt x="88692" y="21600"/>
                </a:lnTo>
                <a:lnTo>
                  <a:pt x="0" y="21600"/>
                </a:lnTo>
                <a:close/>
              </a:path>
              <a:path fill="lightenLess" w="88692" h="21600">
                <a:moveTo>
                  <a:pt x="0" y="0"/>
                </a:moveTo>
                <a:lnTo>
                  <a:pt x="88692" y="0"/>
                </a:lnTo>
                <a:lnTo>
                  <a:pt x="87292" y="1400"/>
                </a:lnTo>
                <a:lnTo>
                  <a:pt x="1400" y="1400"/>
                </a:lnTo>
                <a:close/>
              </a:path>
              <a:path fill="darken" w="88692" h="21600">
                <a:moveTo>
                  <a:pt x="88692" y="0"/>
                </a:moveTo>
                <a:lnTo>
                  <a:pt x="88692" y="21600"/>
                </a:lnTo>
                <a:lnTo>
                  <a:pt x="87292" y="20200"/>
                </a:lnTo>
                <a:lnTo>
                  <a:pt x="87292" y="1400"/>
                </a:lnTo>
                <a:close/>
              </a:path>
              <a:path fill="darkenLess" w="88692" h="21600">
                <a:moveTo>
                  <a:pt x="88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292" y="20200"/>
                </a:lnTo>
                <a:close/>
              </a:path>
              <a:path fill="lighten" w="88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51240" y="2060640"/>
            <a:ext cx="564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00"/>
                </a:solidFill>
                <a:latin typeface="Arial"/>
              </a:rPr>
              <a:t>МОЛОДЕЦ!!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38760" y="1692360"/>
            <a:ext cx="34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Не правильно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2124000" y="3284640"/>
            <a:ext cx="5040360" cy="1042920"/>
          </a:xfrm>
          <a:custGeom>
            <a:avLst/>
            <a:gdLst>
              <a:gd name="textAreaLeft" fmla="*/ 67320 w 5040360"/>
              <a:gd name="textAreaRight" fmla="*/ 4973040 w 50403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104363" h="21600">
                <a:moveTo>
                  <a:pt x="0" y="0"/>
                </a:moveTo>
                <a:lnTo>
                  <a:pt x="104363" y="0"/>
                </a:lnTo>
                <a:lnTo>
                  <a:pt x="104363" y="21600"/>
                </a:lnTo>
                <a:lnTo>
                  <a:pt x="0" y="21600"/>
                </a:lnTo>
                <a:close/>
              </a:path>
              <a:path fill="lightenLess" w="104363" h="21600">
                <a:moveTo>
                  <a:pt x="0" y="0"/>
                </a:moveTo>
                <a:lnTo>
                  <a:pt x="104363" y="0"/>
                </a:lnTo>
                <a:lnTo>
                  <a:pt x="102963" y="1400"/>
                </a:lnTo>
                <a:lnTo>
                  <a:pt x="1400" y="1400"/>
                </a:lnTo>
                <a:close/>
              </a:path>
              <a:path fill="darken" w="104363" h="21600">
                <a:moveTo>
                  <a:pt x="104363" y="0"/>
                </a:moveTo>
                <a:lnTo>
                  <a:pt x="104363" y="21600"/>
                </a:lnTo>
                <a:lnTo>
                  <a:pt x="102963" y="20200"/>
                </a:lnTo>
                <a:lnTo>
                  <a:pt x="102963" y="1400"/>
                </a:lnTo>
                <a:close/>
              </a:path>
              <a:path fill="darkenLess" w="104363" h="21600">
                <a:moveTo>
                  <a:pt x="1043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963" y="20200"/>
                </a:lnTo>
                <a:close/>
              </a:path>
              <a:path fill="lighten" w="1043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6160" y="3357720"/>
            <a:ext cx="515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Попробуй ещё раз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836640"/>
            <a:ext cx="360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Сказки</a:t>
            </a:r>
            <a:br>
              <a:rPr sz="2400"/>
            </a:b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 стародавние</a:t>
            </a:r>
            <a:br>
              <a:rPr sz="2400"/>
            </a:b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Грустные, </a:t>
            </a:r>
            <a:br>
              <a:rPr sz="2400"/>
            </a:b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             забавные,</a:t>
            </a:r>
            <a:br>
              <a:rPr sz="2400"/>
            </a:b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Добрые, серьёзные</a:t>
            </a:r>
            <a:br>
              <a:rPr sz="2400"/>
            </a:b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Лунные и звёздные.</a:t>
            </a:r>
            <a:br>
              <a:rPr sz="2400"/>
            </a:b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Мы любим их </a:t>
            </a:r>
            <a:br>
              <a:rPr sz="2400"/>
            </a:b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                 слушать,</a:t>
            </a:r>
            <a:br>
              <a:rPr sz="2400"/>
            </a:b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Любим их читать.</a:t>
            </a:r>
            <a:br>
              <a:rPr sz="2400"/>
            </a:b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С ними даже можно</a:t>
            </a:r>
            <a:br>
              <a:rPr sz="2400"/>
            </a:b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Просто </a:t>
            </a:r>
            <a:br>
              <a:rPr sz="2400"/>
            </a:b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               поиг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7201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Загадки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413000"/>
            <a:ext cx="489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Он от дедушки ушёл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И от бабушки ушёл.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На беду свою, в лесу,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Встретил хитрую лису.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И пропал румяный 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Кто же э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356000" y="3860640"/>
            <a:ext cx="3095640" cy="2781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723080" y="6132600"/>
            <a:ext cx="16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ло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5724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Вышел дедка в огород.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Видит — чудо там растет: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Кругла, а не мячик,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Желта, а не солнце,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С хвостом, а не мышь...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И никак не вытащиш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59280" y="3141720"/>
            <a:ext cx="3816360" cy="3500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093080" y="558972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765000"/>
            <a:ext cx="38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Ждали маму с молоком,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А пустили волка в дом…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Кем же были эти</a:t>
            </a:r>
            <a:br>
              <a:rPr sz="2800"/>
            </a:b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Маленькие де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51280" y="2781360"/>
            <a:ext cx="5113440" cy="3384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75440" y="6060960"/>
            <a:ext cx="15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зл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375240" y="539280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уси лебе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292560"/>
            <a:ext cx="3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2997360"/>
            <a:ext cx="482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У Алёнушки сестр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Унесли братишку 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ысоко они лет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алеко они гляд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14920" y="0"/>
            <a:ext cx="442908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4076640"/>
            <a:ext cx="581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 глухом лесу в своей изб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Совсем одна живёт стар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Метлой она не пол мет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Метла – старушкин самол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67440" y="548496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аба-Я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3233520" cy="3645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4.45087E-006 C -0.00539 -0.01202 -0.01129 -0.02197 -0.01806 -0.0326 C -0.0198 -0.03538 -0.02067 -0.03931 -0.02292 -0.04139 C -0.02588 -0.04393 -0.03282 -0.04578 -0.03282 -0.04578 C -0.04289 -0.0548 -0.06008 -0.05619 -0.07223 -0.05896 C -0.07674 -0.0585 -0.09584 -0.06012 -0.10487 -0.05457 C -0.10938 -0.05179 -0.11806 -0.04578 -0.11806 -0.04578 C -0.12032 -0.0363 -0.12657 -0.03283 -0.12952 -0.02405 C -0.13768 0.000230000000000001 -0.14254 0.02867 -0.14601 0.05457 C -0.14844 0.09156 -0.14931 0.0948 -0.14601 0.14405 C -0.14584 0.14751 -0.13907 0.15584 -0.13768 0.15722 C -0.13456 0.16046 -0.12796 0.16601 -0.12796 0.16601 C -0.10209 0.163 -0.11251 0.16879 -0.10331 0.15075 C -0.10157 0.14335 -0.10018 0.13618 -0.09844 0.12879 C -0.09897 0.09387 -0.0941 0.03607 -0.1066 -0.00208 C -0.11025 -0.01341 -0.11945 -0.02243 -0.12466 -0.0326 C -0.12831 -0.04809 -0.13994 -0.05202 -0.15088 -0.05457 C -0.15851 -0.05965 -0.16598 -0.05965 -0.17379 -0.06335 C -0.17865 -0.06197 -0.18369 -0.06104 -0.18855 -0.05896 C -0.19532 -0.05595 -0.19497 -0.04809 -0.20001 -0.04139 C -0.21251 -0.02474 -0.21841 -0.00555 -0.22796 0.01318 C -0.23108 0.0259 -0.22883 0.01757 -0.23612 0.03722 C -0.23716 0.03977 -0.23907 0.05063 -0.23942 0.05248 C -0.24237 0.0652 -0.24567 0.07653 -0.24758 0.08948 C -0.24601 0.1304 -0.25209 0.1348 -0.22796 0.14636 C -0.20938 0.14312 -0.21633 0.14774 -0.21147 0.12879 C -0.20817 0.08809 -0.20869 0.10243 -0.21147 0.03491 C -0.21199 0.02335 -0.22067 0.01549 -0.22796 0.01318 C -0.23803 0.00624 -0.24827 0.00254 -0.25904 -0.00208 C -0.26511 -0.00139 -0.27119 -0.00162 -0.27709 4.45087E-006 C -0.28716 0.00277 -0.29289 0.02543 -0.29844 0.03491 C -0.30261 0.05133 -0.30713 0.06705 -0.31476 0.08092 C -0.31667 0.08879 -0.31754 0.09711 -0.31963 0.10474 C -0.32032 0.10728 -0.32206 0.10913 -0.32292 0.11144 C -0.32535 0.11769 -0.32483 0.12162 -0.32622 0.12879 C -0.32848 0.13988 -0.33126 0.15029 -0.33282 0.16162 C -0.33612 0.18474 -0.3382 0.20879 -0.34272 0.23144 C -0.34219 0.23954 -0.34341 0.24809 -0.34098 0.25549 C -0.34011 0.25826 -0.33664 0.25688 -0.33438 0.25757 C -0.32275 0.2615 -0.33265 0.25896 -0.3165 0.26196 C -0.31598 0.28393 -0.31581 0.30566 -0.31476 0.32763 C -0.31442 0.3348 -0.30331 0.34289 -0.30331 0.34289 C -0.29723 0.3422 -0.29098 0.34289 -0.28525 0.34058 C -0.27796 0.3378 -0.27657 0.31746 -0.27553 0.31006 C -0.27674 0.22243 -0.27084 0.22266 -0.28699 0.16809 C -0.2889 0.15422 -0.29167 0.14058 -0.29341 0.1267 C -0.29567 0.10936 -0.2941 0.10428 -0.29844 0.0874 C -0.29966 0.083 -0.30504 0.06821 -0.30817 0.06566 C -0.31216 0.06243 -0.32136 0.05896 -0.32136 0.05896 C -0.32518 0.05179 -0.32987 0.04509 -0.33282 0.03722 C -0.33612 0.02844 -0.34272 0.01087 -0.34272 0.01087 C -0.34376 0.00439 -0.34445 -0.00231 -0.34601 -0.00879 C -0.34723 -0.0141 -0.34966 -0.01873 -0.35088 -0.02405 C -0.35487 -0.04208 -0.35765 -0.0585 -0.36233 -0.0763 C -0.36372 -0.08139 -0.36338 -0.08717 -0.36563 -0.09156 C -0.36667 -0.09364 -0.37483 -0.09711 -0.37709 -0.09827 C -0.38317 -0.09595 -0.38959 -0.09526 -0.39515 -0.09156 C -0.39723 -0.09017 -0.40417 -0.07353 -0.40487 -0.07191 C -0.41476 -0.04694 -0.42535 -0.02127 -0.43438 0.00439 C -0.4389 0.03283 -0.44237 0.06497 -0.43126 0.09179 C -0.42744 0.10081 -0.42605 0.09965 -0.42136 0.10705 C -0.41459 0.11792 -0.40713 0.12555 -0.39671 0.12879 C -0.39063 0.12509 -0.38438 0.12231 -0.37865 0.11792 C -0.37049 0.11168 -0.36546 0.09595 -0.36077 0.08532 C -0.35713 0.06821 -0.35383 0.05156 -0.34914 0.03491 C -0.34758 0.01433 -0.34549 -0.00578 -0.34272 -0.02613 C -0.34306 -0.05179 -0.32657 -0.12463 -0.35574 -0.14405 C -0.3639 -0.14197 -0.37258 -0.1415 -0.38039 -0.13757 C -0.38299 -0.13619 -0.38351 -0.13156 -0.38525 -0.12879 C -0.3915 -0.11908 -0.3981 -0.1096 -0.40487 -0.10035 C -0.40834 -0.08717 -0.41772 -0.07908 -0.42136 -0.06543 C -0.41806 -0.02705 -0.42015 -0.02844 -0.4066 -0.00439 C -0.40452 0.0037 -0.4066 0.00231 -0.40174 0.00231 E">
                                      <p:cBhvr>
                                        <p:cTn id="101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87480" y="423720"/>
            <a:ext cx="455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Выбери правильный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8840" y="1628640"/>
            <a:ext cx="689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го, ушедший от бабушки и дед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лобок  первым встретил на пу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lastslide"/>
          </p:cNvPr>
          <p:cNvSpPr/>
          <p:nvPr/>
        </p:nvSpPr>
        <p:spPr>
          <a:xfrm>
            <a:off x="1042920" y="2852640"/>
            <a:ext cx="2808360" cy="576360"/>
          </a:xfrm>
          <a:custGeom>
            <a:avLst/>
            <a:gdLst>
              <a:gd name="textAreaLeft" fmla="*/ 37080 w 2808360"/>
              <a:gd name="textAreaRight" fmla="*/ 2771280 w 2808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05196" h="21600">
                <a:moveTo>
                  <a:pt x="0" y="0"/>
                </a:moveTo>
                <a:lnTo>
                  <a:pt x="105196" y="0"/>
                </a:lnTo>
                <a:lnTo>
                  <a:pt x="105196" y="21600"/>
                </a:lnTo>
                <a:lnTo>
                  <a:pt x="0" y="21600"/>
                </a:lnTo>
                <a:close/>
              </a:path>
              <a:path fill="lightenLess" w="105196" h="21600">
                <a:moveTo>
                  <a:pt x="0" y="0"/>
                </a:moveTo>
                <a:lnTo>
                  <a:pt x="105196" y="0"/>
                </a:lnTo>
                <a:lnTo>
                  <a:pt x="103796" y="1400"/>
                </a:lnTo>
                <a:lnTo>
                  <a:pt x="1400" y="1400"/>
                </a:lnTo>
                <a:close/>
              </a:path>
              <a:path fill="darken" w="105196" h="21600">
                <a:moveTo>
                  <a:pt x="105196" y="0"/>
                </a:moveTo>
                <a:lnTo>
                  <a:pt x="105196" y="21600"/>
                </a:lnTo>
                <a:lnTo>
                  <a:pt x="103796" y="20200"/>
                </a:lnTo>
                <a:lnTo>
                  <a:pt x="103796" y="1400"/>
                </a:lnTo>
                <a:close/>
              </a:path>
              <a:path fill="darkenLess" w="105196" h="21600">
                <a:moveTo>
                  <a:pt x="10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796" y="20200"/>
                </a:lnTo>
                <a:close/>
              </a:path>
              <a:path fill="lighten" w="10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о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lastslide"/>
          </p:cNvPr>
          <p:cNvSpPr/>
          <p:nvPr/>
        </p:nvSpPr>
        <p:spPr>
          <a:xfrm>
            <a:off x="1042920" y="3573360"/>
            <a:ext cx="2809800" cy="647640"/>
          </a:xfrm>
          <a:custGeom>
            <a:avLst/>
            <a:gdLst>
              <a:gd name="textAreaLeft" fmla="*/ 41760 w 2809800"/>
              <a:gd name="textAreaRight" fmla="*/ 2768040 w 2809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3672" h="21600">
                <a:moveTo>
                  <a:pt x="0" y="0"/>
                </a:moveTo>
                <a:lnTo>
                  <a:pt x="93672" y="0"/>
                </a:lnTo>
                <a:lnTo>
                  <a:pt x="93672" y="21600"/>
                </a:lnTo>
                <a:lnTo>
                  <a:pt x="0" y="21600"/>
                </a:lnTo>
                <a:close/>
              </a:path>
              <a:path fill="lightenLess" w="93672" h="21600">
                <a:moveTo>
                  <a:pt x="0" y="0"/>
                </a:moveTo>
                <a:lnTo>
                  <a:pt x="93672" y="0"/>
                </a:lnTo>
                <a:lnTo>
                  <a:pt x="92272" y="1400"/>
                </a:lnTo>
                <a:lnTo>
                  <a:pt x="1400" y="1400"/>
                </a:lnTo>
                <a:close/>
              </a:path>
              <a:path fill="darken" w="93672" h="21600">
                <a:moveTo>
                  <a:pt x="93672" y="0"/>
                </a:moveTo>
                <a:lnTo>
                  <a:pt x="93672" y="21600"/>
                </a:lnTo>
                <a:lnTo>
                  <a:pt x="92272" y="20200"/>
                </a:lnTo>
                <a:lnTo>
                  <a:pt x="92272" y="1400"/>
                </a:lnTo>
                <a:close/>
              </a:path>
              <a:path fill="darkenLess" w="93672" h="21600">
                <a:moveTo>
                  <a:pt x="93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72" y="20200"/>
                </a:lnTo>
                <a:close/>
              </a:path>
              <a:path fill="lighten" w="93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двед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1116000" y="4365720"/>
            <a:ext cx="2735280" cy="64908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90986" h="21600">
                <a:moveTo>
                  <a:pt x="0" y="0"/>
                </a:moveTo>
                <a:lnTo>
                  <a:pt x="90986" y="0"/>
                </a:lnTo>
                <a:lnTo>
                  <a:pt x="90986" y="21600"/>
                </a:lnTo>
                <a:lnTo>
                  <a:pt x="0" y="21600"/>
                </a:lnTo>
                <a:close/>
              </a:path>
              <a:path fill="lightenLess" w="90986" h="21600">
                <a:moveTo>
                  <a:pt x="0" y="0"/>
                </a:moveTo>
                <a:lnTo>
                  <a:pt x="90986" y="0"/>
                </a:lnTo>
                <a:lnTo>
                  <a:pt x="89586" y="1400"/>
                </a:lnTo>
                <a:lnTo>
                  <a:pt x="1400" y="1400"/>
                </a:lnTo>
                <a:close/>
              </a:path>
              <a:path fill="darken" w="90986" h="21600">
                <a:moveTo>
                  <a:pt x="90986" y="0"/>
                </a:moveTo>
                <a:lnTo>
                  <a:pt x="90986" y="21600"/>
                </a:lnTo>
                <a:lnTo>
                  <a:pt x="89586" y="20200"/>
                </a:lnTo>
                <a:lnTo>
                  <a:pt x="89586" y="1400"/>
                </a:lnTo>
                <a:close/>
              </a:path>
              <a:path fill="darkenLess" w="90986" h="21600">
                <a:moveTo>
                  <a:pt x="909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86" y="20200"/>
                </a:lnTo>
                <a:close/>
              </a:path>
              <a:path fill="lighten" w="909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й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47280" y="333360"/>
            <a:ext cx="457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Выбери прави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1628640"/>
            <a:ext cx="66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го по дороге к бабушке встрет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асная шапоч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lastslide"/>
          </p:cNvPr>
          <p:cNvSpPr/>
          <p:nvPr/>
        </p:nvSpPr>
        <p:spPr>
          <a:xfrm>
            <a:off x="1116000" y="3213000"/>
            <a:ext cx="3168720" cy="576360"/>
          </a:xfrm>
          <a:custGeom>
            <a:avLst/>
            <a:gdLst>
              <a:gd name="textAreaLeft" fmla="*/ 37080 w 3168720"/>
              <a:gd name="textAreaRight" fmla="*/ 3131640 w 3168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18692" h="21600">
                <a:moveTo>
                  <a:pt x="0" y="0"/>
                </a:moveTo>
                <a:lnTo>
                  <a:pt x="118692" y="0"/>
                </a:lnTo>
                <a:lnTo>
                  <a:pt x="118692" y="21600"/>
                </a:lnTo>
                <a:lnTo>
                  <a:pt x="0" y="21600"/>
                </a:lnTo>
                <a:close/>
              </a:path>
              <a:path fill="lightenLess" w="118692" h="21600">
                <a:moveTo>
                  <a:pt x="0" y="0"/>
                </a:moveTo>
                <a:lnTo>
                  <a:pt x="118692" y="0"/>
                </a:lnTo>
                <a:lnTo>
                  <a:pt x="117292" y="1400"/>
                </a:lnTo>
                <a:lnTo>
                  <a:pt x="1400" y="1400"/>
                </a:lnTo>
                <a:close/>
              </a:path>
              <a:path fill="darken" w="118692" h="21600">
                <a:moveTo>
                  <a:pt x="118692" y="0"/>
                </a:moveTo>
                <a:lnTo>
                  <a:pt x="118692" y="21600"/>
                </a:lnTo>
                <a:lnTo>
                  <a:pt x="117292" y="20200"/>
                </a:lnTo>
                <a:lnTo>
                  <a:pt x="117292" y="1400"/>
                </a:lnTo>
                <a:close/>
              </a:path>
              <a:path fill="darkenLess" w="118692" h="21600">
                <a:moveTo>
                  <a:pt x="118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92" y="20200"/>
                </a:lnTo>
                <a:close/>
              </a:path>
              <a:path fill="lighten" w="118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двед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1116000" y="4076640"/>
            <a:ext cx="3168720" cy="647640"/>
          </a:xfrm>
          <a:custGeom>
            <a:avLst/>
            <a:gdLst>
              <a:gd name="textAreaLeft" fmla="*/ 41760 w 3168720"/>
              <a:gd name="textAreaRight" fmla="*/ 3126960 w 316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05636" h="21600">
                <a:moveTo>
                  <a:pt x="0" y="0"/>
                </a:moveTo>
                <a:lnTo>
                  <a:pt x="105636" y="0"/>
                </a:lnTo>
                <a:lnTo>
                  <a:pt x="105636" y="21600"/>
                </a:lnTo>
                <a:lnTo>
                  <a:pt x="0" y="21600"/>
                </a:lnTo>
                <a:close/>
              </a:path>
              <a:path fill="lightenLess" w="105636" h="21600">
                <a:moveTo>
                  <a:pt x="0" y="0"/>
                </a:moveTo>
                <a:lnTo>
                  <a:pt x="105636" y="0"/>
                </a:lnTo>
                <a:lnTo>
                  <a:pt x="104236" y="1400"/>
                </a:lnTo>
                <a:lnTo>
                  <a:pt x="1400" y="1400"/>
                </a:lnTo>
                <a:close/>
              </a:path>
              <a:path fill="darken" w="105636" h="21600">
                <a:moveTo>
                  <a:pt x="105636" y="0"/>
                </a:moveTo>
                <a:lnTo>
                  <a:pt x="105636" y="21600"/>
                </a:lnTo>
                <a:lnTo>
                  <a:pt x="104236" y="20200"/>
                </a:lnTo>
                <a:lnTo>
                  <a:pt x="104236" y="1400"/>
                </a:lnTo>
                <a:close/>
              </a:path>
              <a:path fill="darkenLess" w="105636" h="21600">
                <a:moveTo>
                  <a:pt x="105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36" y="20200"/>
                </a:lnTo>
                <a:close/>
              </a:path>
              <a:path fill="lighten" w="105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lastslide"/>
          </p:cNvPr>
          <p:cNvSpPr/>
          <p:nvPr/>
        </p:nvSpPr>
        <p:spPr>
          <a:xfrm>
            <a:off x="1116000" y="5084640"/>
            <a:ext cx="3168720" cy="648000"/>
          </a:xfrm>
          <a:custGeom>
            <a:avLst/>
            <a:gdLst>
              <a:gd name="textAreaLeft" fmla="*/ 41760 w 3168720"/>
              <a:gd name="textAreaRight" fmla="*/ 3126960 w 3168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105577" h="21600">
                <a:moveTo>
                  <a:pt x="0" y="0"/>
                </a:moveTo>
                <a:lnTo>
                  <a:pt x="105577" y="0"/>
                </a:lnTo>
                <a:lnTo>
                  <a:pt x="105577" y="21600"/>
                </a:lnTo>
                <a:lnTo>
                  <a:pt x="0" y="21600"/>
                </a:lnTo>
                <a:close/>
              </a:path>
              <a:path fill="lightenLess" w="105577" h="21600">
                <a:moveTo>
                  <a:pt x="0" y="0"/>
                </a:moveTo>
                <a:lnTo>
                  <a:pt x="105577" y="0"/>
                </a:lnTo>
                <a:lnTo>
                  <a:pt x="104177" y="1400"/>
                </a:lnTo>
                <a:lnTo>
                  <a:pt x="1400" y="1400"/>
                </a:lnTo>
                <a:close/>
              </a:path>
              <a:path fill="darken" w="105577" h="21600">
                <a:moveTo>
                  <a:pt x="105577" y="0"/>
                </a:moveTo>
                <a:lnTo>
                  <a:pt x="105577" y="21600"/>
                </a:lnTo>
                <a:lnTo>
                  <a:pt x="104177" y="20200"/>
                </a:lnTo>
                <a:lnTo>
                  <a:pt x="104177" y="1400"/>
                </a:lnTo>
                <a:close/>
              </a:path>
              <a:path fill="darkenLess" w="105577" h="21600">
                <a:moveTo>
                  <a:pt x="105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177" y="20200"/>
                </a:lnTo>
                <a:close/>
              </a:path>
              <a:path fill="lighten" w="105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щ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4T17:45:43Z</dcterms:created>
  <dc:creator>Dell</dc:creator>
  <dc:description/>
  <dc:language>en-US</dc:language>
  <cp:lastModifiedBy>Dell</cp:lastModifiedBy>
  <dcterms:modified xsi:type="dcterms:W3CDTF">2019-12-27T23:26:51Z</dcterms:modified>
  <cp:revision>6</cp:revision>
  <dc:subject/>
  <dc:title>Викторина по сказкам </dc:title>
</cp:coreProperties>
</file>