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0A1-905F-41D1-B47A-1D0D76BA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48D-BA1D-41B4-B14A-A2A1D1BD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F73-EC71-46E0-86E2-E94EA4FF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C3C-1096-4FF8-9A86-4CA4A256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8FD6-8CDD-43DB-B58A-D6A33539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C016-5DD7-4060-BF0A-7DDB340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D825-9F12-48EA-B288-749BD33E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A1D-7D95-4597-A227-019A997C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66A-8657-405E-8061-1A585460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8EA9-281B-4016-BF73-EBA96364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DAC2-CA1D-4AEB-963E-159D21C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3A3-92FD-43FC-8E21-912B18E5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8E38-2A8A-4639-BAFF-A0042B5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4E41-1902-4F43-A490-CC1873B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9F3-9FAE-488B-A065-A80CCA90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976-B0BA-4A10-B25B-88BACBDC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3373-65A5-46C3-8EE7-A96CA54E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C22-7418-4600-A99B-BBF70EC1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47C-93E4-43BA-8C57-8980AAB9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399-A011-484F-A083-92962F8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325-1171-42E8-8F57-527AEFF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F24-467A-4D63-978E-07ABCAB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229-3E8C-43E7-A492-6CA2755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DC8-A6BE-49C7-948B-B1A5A19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3CF-D76E-497D-8212-98121B708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D962-C590-412C-A398-7C7AF2CCE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Историческое развитие науки о горении. Учебная дисциплина  и ее место в структуре ППССЗ. 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 результате освоения дисциплины обучающийся должен знать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физико-химические основы го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сновные теории горения, условия возникновения и развития процессов го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типы взрывов, классификацию взрывов, основные параметры энергии и мощности взрыва,  принципы формирования формы ударной вол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Цель дисциплин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лучение знаний физико-химических основ горения и взры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дачи У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знаний и освоение практических способов действий, необходимых дл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беспечения организации эффективной и оперативной ликвидации последствий пожаров и взрывов и их предупре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боснованного подхода к выбору пожарно-спасательных средств и организации пожарот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рение - это сложный физико-химический процесс, основой которого является быстро протекающая химическая реакция окисления, сопровождающаяся выделением значительного количества тепла и обычно ярким свечением (пламенем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рение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Физический процес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здание молекулярного контакта между молекулами горючего и окислител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Химический проце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заимодействие молекул с образованием продуктов реа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0" b="9633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5805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ельд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5805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 А. Франк-Каменец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6733" t="0" r="9933" b="0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 результате освоения дисциплины обучающийся должен уметь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существлять расчеты параметров воспламенения и горения веществ, условий взрыва горючих газов, паров горючих жидкостей, тепловой энергии при горении, избыточного давления при взры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3T18:52:44Z</dcterms:created>
  <dc:creator>User</dc:creator>
  <dc:description/>
  <dc:language>en-US</dc:language>
  <cp:lastModifiedBy>User</cp:lastModifiedBy>
  <dcterms:modified xsi:type="dcterms:W3CDTF">2019-09-03T20:01:02Z</dcterms:modified>
  <cp:revision>2</cp:revision>
  <dc:subject/>
  <dc:title>Историческое развитие науки о горении. Учебная дисциплина  и ее место в структуре ППССЗ. </dc:title>
</cp:coreProperties>
</file>