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B73-AB5D-4863-BD81-346EFEB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064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7A1-9BB0-416F-8C0C-B401D1DD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056-5F9D-4424-8EA8-B2167E38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CF9-15AC-4BB7-A7DB-BDFC6087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B31D-E7E1-4AE7-B1C2-97189794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2F62-675F-43B9-8480-1AB5B78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32A-838C-421D-BAAD-3B491FD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DC4-6BEC-4434-8B0D-ABB21C9A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2EF-FED0-432B-BED3-7D329E9A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420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99F-EA32-42CB-B510-BB717A8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CE8B-E716-448F-A71C-B711C8F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494-B1DC-4CBF-B163-A8E30D7B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CAB7-DD8F-40AE-9D95-AEF3657F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8F33-DD29-49A5-9E3E-C41DC004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64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C73-6CAB-484C-AB07-55290881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0C40-9AA5-4D68-9564-A124595C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76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64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267-3C35-4B65-8707-A9AB29B5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5DF-B5B0-43E8-AE86-5DA9C1A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E46-99CC-48EF-B06B-0A5FDD8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34B-8EF5-44B1-BD33-674F10E9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21420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665-6638-443B-B79E-AF877AE6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802-570C-40C8-B2E7-FA78C27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064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22-646F-4D72-926E-E7045B1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7176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0640"/>
            <a:ext cx="82292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6A2-065C-4183-97B6-A28F42A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cture 4"/>
          <p:cNvSpPr/>
          <p:nvPr/>
        </p:nvSpPr>
        <p:spPr>
          <a:xfrm>
            <a:off x="0" y="0"/>
            <a:ext cx="9143640" cy="142848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5720" cy="1499760"/>
          </a:xfrm>
          <a:prstGeom prst="rect">
            <a:avLst/>
          </a:prstGeom>
          <a:ln w="9525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440" cy="168228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5720" cy="149976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440" cy="168228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d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d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6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d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6A6BE4-9358-4C7C-B84F-F1C4F9981ABA}" type="slidenum">
              <a:rPr b="0" lang="ru-RU" sz="1200" spc="-1" strike="noStrike">
                <a:solidFill>
                  <a:srgbClr val="8b8d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icture 4"/>
          <p:cNvSpPr/>
          <p:nvPr/>
        </p:nvSpPr>
        <p:spPr>
          <a:xfrm>
            <a:off x="0" y="0"/>
            <a:ext cx="9143640" cy="142848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5720" cy="149976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440" cy="168228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разец текста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торой уровень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Третий уровень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Четвертый уровень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ятый уровень</a:t>
            </a:r>
            <a:endParaRPr b="1" lang="ru-RU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D87F57-93A4-46E2-B02A-414B71D106E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Arial"/>
              </a:rPr>
              <a:t>Книги - наша жизнь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ниг написано очень много, и нет ни одного человека в мире, кто прочитал бы их все. Книги — это история и вкусы каждой эпохи. Некоторые из них безнадежно утратили свою прелесть, другие — актуальны и читаются с интересом и сегодня. Каждый писатель мечтал писать на века, а вот получилось у него или нет, выясняется в последующих поколениях.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ак делают переплёты для книг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00405"/>
          <p:cNvPicPr/>
          <p:nvPr/>
        </p:nvPicPr>
        <p:blipFill>
          <a:blip r:embed="rId1"/>
          <a:stretch/>
        </p:blipFill>
        <p:spPr>
          <a:xfrm>
            <a:off x="2411280" y="1413000"/>
            <a:ext cx="4408200" cy="523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j.livelib.ru/boocover/1000462274/l/3516/Arkadij_Gajdar__Voennaya_tajna.jpg"/>
          <p:cNvPicPr/>
          <p:nvPr/>
        </p:nvPicPr>
        <p:blipFill>
          <a:blip r:embed="rId1"/>
          <a:stretch/>
        </p:blipFill>
        <p:spPr>
          <a:xfrm>
            <a:off x="0" y="0"/>
            <a:ext cx="4785840" cy="685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www.bankknig.com/uploads/book/1220888988_1000117681.jpg"/>
          <p:cNvPicPr/>
          <p:nvPr/>
        </p:nvPicPr>
        <p:blipFill>
          <a:blip r:embed="rId2"/>
          <a:stretch/>
        </p:blipFill>
        <p:spPr>
          <a:xfrm>
            <a:off x="4786200" y="-5400"/>
            <a:ext cx="4357440" cy="68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гда эта повесть была напечатана, Гайдар получил много писем от читателей. Некоторые ребята писали, что им жалко Альку, главного героя повести. Но автор ответил ребятам такими словами: «У меня у самого рука отказывалась дописывать, последние главы. Я рад, что вы меня поняли. Это значит, что мы думаем и чувствуем одинаково.»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А. Гайдар. Военная тайн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сю свою жизнь автор считал необходимым ежедневную «закалку воли» ,а беспощадная требовательность к себе осталась у него во всем до последних дней. Он совершил кругосветное плавание по маршруту Петербург – Владивосток с заходом на остров Мадагаскар, прошел через 3 океан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Атлантический, Индийский, Тихий….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Борис Житков. Рассказы о животных. Избранное.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i.livelib.ru/boocover/1000486748/l/8b20/Boris_Zhitkov__Boris_Zhitkov._Rasskazy_o_zhivotnyh.jpg"/>
          <p:cNvPicPr/>
          <p:nvPr/>
        </p:nvPicPr>
        <p:blipFill>
          <a:blip r:embed="rId1"/>
          <a:stretch/>
        </p:blipFill>
        <p:spPr>
          <a:xfrm>
            <a:off x="7238880" y="4319640"/>
            <a:ext cx="1904760" cy="25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31" name="Picture 2" descr="http://www.museum.ru/imgB.asp?51491"/>
          <p:cNvPicPr/>
          <p:nvPr/>
        </p:nvPicPr>
        <p:blipFill>
          <a:blip r:embed="rId1"/>
          <a:stretch/>
        </p:blipFill>
        <p:spPr>
          <a:xfrm>
            <a:off x="0" y="0"/>
            <a:ext cx="4785840" cy="68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img1.labirint.ru/books/236899/big.jpg"/>
          <p:cNvPicPr/>
          <p:nvPr/>
        </p:nvPicPr>
        <p:blipFill>
          <a:blip r:embed="rId2"/>
          <a:stretch/>
        </p:blipFill>
        <p:spPr>
          <a:xfrm>
            <a:off x="4706640" y="0"/>
            <a:ext cx="44370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Это повесть возвращает читателя к трудным, но героическим событиям военных лет, о которых вы знаете только по фильмам. Она помогает читателю увидеть эти события как бы своими глазами. Прочитав повесть, читатель понимает, что подвиг- это не просто смелость и героизм, а великий труд, дисциплина, огромная любовь к Родине. 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В. Катаев. Сын полк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..Когда летчик стал раздеваться, что – то тяжелое грохнуло об пол. Я оглянулся и увидел такое, чему сам не поверил. Он оставил на полу свои ноги. Безногий летчик истребитель? Летчик ,только сегодня совершивший  7 боевых вылетов и сбивший 2 самолета! Это казалось совершенно невероятным …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Борис Полевой. Повесть о настоящем человеке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«Несколько раз разражались сильные грозы. Молнии ударяли рядом с судном . Корабль был окружен густым клубившимся туманом. Дежурный часами не мог ничего разглядеть, и судно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шло наугад…»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Жюль Верн. Пятнадцатилетний капитан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img1.liveinternet.ru/images/attach/c/1/57/15/57015206_1269691717_042.jpg"/>
          <p:cNvPicPr/>
          <p:nvPr/>
        </p:nvPicPr>
        <p:blipFill>
          <a:blip r:embed="rId1"/>
          <a:stretch/>
        </p:blipFill>
        <p:spPr>
          <a:xfrm>
            <a:off x="4407840" y="3214800"/>
            <a:ext cx="47358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нига дает нам возможность познакомиться с жизнью детей в других странах. Энергия, трудолюбие,  настойчивость в достижении намеченной цели- вот что больше всего восхищает автора повести, когда он говорит о судьбе своих героев.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Мери Додж. Серебряные коньки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img2.labirint.ru/books/262098/big.jpg"/>
          <p:cNvPicPr/>
          <p:nvPr/>
        </p:nvPicPr>
        <p:blipFill>
          <a:blip r:embed="rId1"/>
          <a:stretch/>
        </p:blipFill>
        <p:spPr>
          <a:xfrm>
            <a:off x="6715080" y="3619440"/>
            <a:ext cx="242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mobilmax.ru/images/SOUVENIR/folianti/184005-big-file.jpg"/>
          <p:cNvPicPr/>
          <p:nvPr/>
        </p:nvPicPr>
        <p:blipFill>
          <a:blip r:embed="rId1"/>
          <a:stretch/>
        </p:blipFill>
        <p:spPr>
          <a:xfrm>
            <a:off x="0" y="0"/>
            <a:ext cx="8214840" cy="6857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 rot="21096000">
            <a:off x="2891520" y="2123280"/>
            <a:ext cx="5738400" cy="18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3"/>
                </a:solidFill>
                <a:latin typeface="Cambria"/>
              </a:rPr>
              <a:t>Спасибо за просмотр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Мои книг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07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Я не могу сказать, что люблю какую-то одну книгу. У меня их много, они разные, художественные, познавательные, энциклопедии…</a:t>
            </a:r>
            <a:endParaRPr b="1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4" name="Picture 5" descr="kniga1_20"/>
          <p:cNvPicPr/>
          <p:nvPr/>
        </p:nvPicPr>
        <p:blipFill>
          <a:blip r:embed="rId1"/>
          <a:stretch/>
        </p:blipFill>
        <p:spPr>
          <a:xfrm>
            <a:off x="5724360" y="3789360"/>
            <a:ext cx="2022120" cy="306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355575"/>
          <p:cNvPicPr/>
          <p:nvPr/>
        </p:nvPicPr>
        <p:blipFill>
          <a:blip r:embed="rId2"/>
          <a:stretch/>
        </p:blipFill>
        <p:spPr>
          <a:xfrm>
            <a:off x="900000" y="3495600"/>
            <a:ext cx="447624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5504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2f2f2"/>
                </a:solidFill>
                <a:latin typeface="Cambria"/>
              </a:rPr>
              <a:t>О книга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4643640" cy="250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Юрий Олеша говорил, что вся история литературы стоит на одной полке. Это значит, что книги — не конкуренты друг другу, они — грани одного мира. Но у каждой есть такой кристалл, через который преломляется все остальное.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5" descr="1240432475_59226ded609b"/>
          <p:cNvPicPr/>
          <p:nvPr/>
        </p:nvPicPr>
        <p:blipFill>
          <a:blip r:embed="rId1"/>
          <a:stretch/>
        </p:blipFill>
        <p:spPr>
          <a:xfrm>
            <a:off x="4319640" y="1556640"/>
            <a:ext cx="406872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ниги в моей жизн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7640" y="1412640"/>
            <a:ext cx="8229240" cy="279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Я росту сам и растет моя библиотека. Каждая прочитанная мною книга занимает положенное место в моих мыслях и душе. Я честно не могу сказать, какая книга мною особенно любима. Все настолько разнообразно, интересно и неинтересно, что остается пожелать себе долгой жизни, чтобы узнать и изучить хоть крохотную часть мира.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5" descr="41644806_1238156446_16"/>
          <p:cNvPicPr/>
          <p:nvPr/>
        </p:nvPicPr>
        <p:blipFill>
          <a:blip r:embed="rId1"/>
          <a:stretch/>
        </p:blipFill>
        <p:spPr>
          <a:xfrm>
            <a:off x="4716000" y="3978360"/>
            <a:ext cx="3816000" cy="287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Drawn_wallpapers_Books_010861_"/>
          <p:cNvPicPr/>
          <p:nvPr/>
        </p:nvPicPr>
        <p:blipFill>
          <a:blip r:embed="rId2"/>
          <a:stretch/>
        </p:blipFill>
        <p:spPr>
          <a:xfrm>
            <a:off x="179640" y="3861000"/>
            <a:ext cx="428112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Любите книги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353808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Любите книгу, она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облегчит вам жизнь,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дружески поможет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разобраться в пестрой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и бурной путанице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мыслей, чувств, событий,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она научит вас уважать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человека и самих себя,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она окрыляет ум и сердце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чувством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любви к миру, к человеку.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Garamond"/>
              </a:rPr>
              <a:t>М.Горький </a:t>
            </a:r>
            <a:endParaRPr b="1" lang="ru-RU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Picture 6" descr="51992248_Knigi"/>
          <p:cNvPicPr/>
          <p:nvPr/>
        </p:nvPicPr>
        <p:blipFill>
          <a:blip r:embed="rId1"/>
          <a:stretch/>
        </p:blipFill>
        <p:spPr>
          <a:xfrm>
            <a:off x="4788000" y="1628640"/>
            <a:ext cx="3809520" cy="476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ниги и Пушкин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50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ногие знаменитые люди увлекались чтением. Это было их любимым занятием. Я вам расскажу о дружбе с книгами великого поэта Александра Сергеевича Пушкина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вою любовь к жизни, которая выражается через любовь к друзьям, к природе, к женщине, стремление к свободе и доброте, Пушкин великолепно показывает в своих стихотворениях. Ведь дружба, природа, свобода, любовь — все это составляло суть его жизни, именно с этим было связано горение пушкинского сердца. 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Picture 5" descr="%D0%BA%D0%BD%D0%B8%D0%B3%D0%B8"/>
          <p:cNvPicPr/>
          <p:nvPr/>
        </p:nvPicPr>
        <p:blipFill>
          <a:blip r:embed="rId1"/>
          <a:stretch/>
        </p:blipFill>
        <p:spPr>
          <a:xfrm>
            <a:off x="7643880" y="4607280"/>
            <a:ext cx="1499760" cy="225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276295304_books"/>
          <p:cNvPicPr/>
          <p:nvPr/>
        </p:nvPicPr>
        <p:blipFill>
          <a:blip r:embed="rId2"/>
          <a:stretch/>
        </p:blipFill>
        <p:spPr>
          <a:xfrm>
            <a:off x="3857760" y="4924440"/>
            <a:ext cx="128556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нига – наш друг и советник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640" y="1412640"/>
            <a:ext cx="8229240" cy="272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 раннего детства мы познаем окружающий мир из книг, прочитанных нам взрослыми. Начав читать самостоятельно, мы начинаем узнавать все больше нового и интересного. В основу многих художественных произведений положены реальные события. Именно классика учит нас мудрости, жизни. В этих историях всегда побеждает не богатый, а мудрый.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Я люблю читать. Мои самые любимые книги – это детективы, фантастика и исторические приключения. 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Picture 5" descr="knigi2"/>
          <p:cNvPicPr/>
          <p:nvPr/>
        </p:nvPicPr>
        <p:blipFill>
          <a:blip r:embed="rId1"/>
          <a:stretch/>
        </p:blipFill>
        <p:spPr>
          <a:xfrm>
            <a:off x="0" y="4518360"/>
            <a:ext cx="2339280" cy="233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24f2e228-c5ab-3702-bf7d-ff0dfbc2726c"/>
          <p:cNvPicPr/>
          <p:nvPr/>
        </p:nvPicPr>
        <p:blipFill>
          <a:blip r:embed="rId2"/>
          <a:stretch/>
        </p:blipFill>
        <p:spPr>
          <a:xfrm>
            <a:off x="6078240" y="4437000"/>
            <a:ext cx="30654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ниги - лучшие помощ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72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очитав книгу, я  получаю огромное удовольствие, узнаю массу полезного и интересного. А сколько бывает ситуаций, когда может помочь мудрый совет из книги. Летом, когда была хорошая погода, мы играли с друзьями во дворе . Женя предложил сделать шалаш. Я высказал свою идею, вспомнив описание шалаша из рассказа. Всем очень понравилось. Когда мы закончили работу, у нас получился очень красивый и большой шалаш, как у героя моих любимых произведений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5" descr="biblio"/>
          <p:cNvPicPr/>
          <p:nvPr/>
        </p:nvPicPr>
        <p:blipFill>
          <a:blip r:embed="rId1"/>
          <a:stretch/>
        </p:blipFill>
        <p:spPr>
          <a:xfrm>
            <a:off x="2556000" y="4268880"/>
            <a:ext cx="3384360" cy="25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onegin"/>
          <p:cNvPicPr/>
          <p:nvPr/>
        </p:nvPicPr>
        <p:blipFill>
          <a:blip r:embed="rId1"/>
          <a:stretch/>
        </p:blipFill>
        <p:spPr>
          <a:xfrm>
            <a:off x="2340000" y="4611600"/>
            <a:ext cx="2592000" cy="22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d2ffc451f69d385264db998949"/>
          <p:cNvPicPr/>
          <p:nvPr/>
        </p:nvPicPr>
        <p:blipFill>
          <a:blip r:embed="rId2"/>
          <a:stretch/>
        </p:blipFill>
        <p:spPr>
          <a:xfrm>
            <a:off x="6910560" y="4005360"/>
            <a:ext cx="2233080" cy="2852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3640" cy="1142640"/>
          </a:xfrm>
          <a:prstGeom prst="rect">
            <a:avLst/>
          </a:prstGeom>
          <a:gradFill rotWithShape="0">
            <a:gsLst>
              <a:gs pos="0">
                <a:srgbClr val="fdeada">
                  <a:alpha val="0"/>
                </a:srgbClr>
              </a:gs>
              <a:gs pos="100000">
                <a:srgbClr val="fac090">
                  <a:alpha val="24313"/>
                </a:srgbClr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Читайте книги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2865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Я стараюсь читать везде, где бы ни находился. Книги научили меня мудрости, логике, мыслить в разных направлениях, знаниям и умению видеть перед собой цель и находить нужные средства для её достижения.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которые ученые и просветители считали, что без книг невозможно обойтись в жизни. Вот почему следует стремиться к общению с умными книгами, внимать их словам, учиться у них и самому становиться мудрее. В мире много интереснейших книг, и я советую всем прочитать их как можно больше.</a:t>
            </a: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нига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ига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книга</Template>
  <TotalTime>59</TotalTime>
  <Application>LibreOffice/7.4.7.2$Linux_X86_64 LibreOffice_project/40$Build-2</Application>
  <AppVersion>15.0000</AppVersion>
  <Words>937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5:29:53Z</dcterms:created>
  <dc:creator>r13</dc:creator>
  <dc:description/>
  <dc:language>en-US</dc:language>
  <cp:lastModifiedBy>ВВВ</cp:lastModifiedBy>
  <dcterms:modified xsi:type="dcterms:W3CDTF">2014-09-30T12:34:30Z</dcterms:modified>
  <cp:revision>10</cp:revision>
  <dc:subject/>
  <dc:title>Моя любимая кни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_TemplateID">
    <vt:lpwstr>TC030007630</vt:lpwstr>
  </property>
</Properties>
</file>