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FD9-4880-402C-ADF9-04E1B120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A54-783A-41CC-B73B-FCF9EF83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B7D-F9DC-4377-B1A7-896241E1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9D2-1275-4F8A-97E3-95F39630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ED2-225C-44A8-87FE-6F3ED06D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914-7263-432D-B6C8-CF93AE28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39D-54A6-486A-827A-E3744541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BFD-3C42-47E3-9016-CDA88855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FAA-9E27-4AAA-86F4-D529AC61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79E-686F-46AC-9BBB-3235DBC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8A3-756C-4E68-AAD2-8FFDB7EE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685-19A7-42A4-B7E0-97063F2B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C270-62E6-4DF2-91A0-8403727332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Урок литературного чтения 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в 3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Calibri"/>
              </a:rPr>
              <a:t>Подготовила - Е.С. Юрченко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Calibri"/>
              </a:rPr>
              <a:t>Учитель начальных классов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Calibri"/>
              </a:rPr>
              <a:t>МОБУ СОШ №5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Calibri"/>
              </a:rPr>
              <a:t>Кореновский райо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Словар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916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МАРТЫШКА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маленькая обезья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ДЮЖИНА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 —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ПОЛДЮЖИНЫ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 —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ТЕМЯ 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— верхняя часть голо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НАНИЖАЕТ 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— оденет подряд на нитку, провол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К ХУДУ КЛОНИТ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 — к плохому клон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ПОЗНАТНЕЙ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 — знать — в буржуазно-дворянском обществе: высший слой привилегированного класса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НЕВЕЖДА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 — необразованный, несведущий чело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alibri"/>
              </a:rPr>
              <a:t>НЕВЕЖА</a:t>
            </a:r>
            <a:r>
              <a:rPr b="0" i="1" lang="ru-RU" sz="2400" spc="-1" strike="noStrike">
                <a:solidFill>
                  <a:srgbClr val="660033"/>
                </a:solidFill>
                <a:latin typeface="Calibri"/>
              </a:rPr>
              <a:t> — грубый невоспитанный чело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699920"/>
            <a:ext cx="8856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Почему Крылов выбрал для своей басни именно мартыш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Обратите внимание на те действия, которые совершала мартышка с очк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А как обычно пользуются очка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Прочитайте выразительно. Как она применяла 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Почему Мартышка решила, что люди её обману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В чём комичность ситуац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Какова мораль басн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Какие недостатки высмеиваются в бас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alibri"/>
              </a:rPr>
              <a:t>Чем различаются слова «невежда» и «невеж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Невежа – грубый, невоспитанный челов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Невежда – необразованный, несведущий, малограмотный челов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206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С.134 -135, выразительно чит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30254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0033"/>
                </a:solidFill>
                <a:uFillTx/>
                <a:latin typeface="Calibri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2205000"/>
            <a:ext cx="4897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Calibri"/>
              </a:rPr>
              <a:t>Ваня - Ваня простота!</a:t>
            </a: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Calibri"/>
              </a:rPr>
              <a:t>Купил лошадь без хвоста!</a:t>
            </a: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Calibri"/>
              </a:rPr>
              <a:t>Сел он задом наперед, </a:t>
            </a: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Calibri"/>
              </a:rPr>
              <a:t>И поехал в огород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4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5290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64000" y="1483920"/>
            <a:ext cx="3384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Calibri"/>
              </a:rPr>
              <a:t>Ив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Calibri"/>
              </a:rPr>
              <a:t>Андре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Calibri"/>
              </a:rPr>
              <a:t>КРЫ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(писатель, баснописец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1769 - 18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alibri"/>
              </a:rPr>
              <a:t>Родился в Москве, в семье армейского офицера. Мать его была простая женщина, без всякого образования, но очень умная. Отец, очень любил читать и привил свою любовь сыну. Он сам выучил мальчика чтению и письму и оставил ему в наследство сундук книг. Ивану Андреевичу было десять лет, когда умер отец. Семья, и без того небогатая, осталась без всяких средств к существов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3008520" cy="25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Calibri"/>
              </a:rPr>
              <a:t>Памят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Calibri"/>
              </a:rPr>
              <a:t>И. А. Крылов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Calibri"/>
              </a:rPr>
              <a:t>в Летнем са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krilov_pamyatnik"/>
          <p:cNvPicPr/>
          <p:nvPr/>
        </p:nvPicPr>
        <p:blipFill>
          <a:blip r:embed="rId1"/>
          <a:stretch/>
        </p:blipFill>
        <p:spPr>
          <a:xfrm>
            <a:off x="4140360" y="1087560"/>
            <a:ext cx="42480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064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971640" y="124128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Цель напис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000" y="3068640"/>
            <a:ext cx="7119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а) высмеять пороки людей,</a:t>
            </a:r>
            <a:br>
              <a:rPr sz="3200"/>
            </a:b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б) научить правильному поведению, </a:t>
            </a:r>
            <a:br>
              <a:rPr sz="3200"/>
            </a:b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в) показать пример для подражания, </a:t>
            </a:r>
            <a:br>
              <a:rPr sz="3200"/>
            </a:b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г) рассмеши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.A.Krylov+-+Martyshka+i+ochki_(mp3top100.net).mp3" descr=""/>
          <p:cNvPicPr/>
          <p:nvPr/>
        </p:nvPicPr>
        <p:blipFill>
          <a:blip r:embed="rId1"/>
          <a:stretch/>
        </p:blipFill>
        <p:spPr>
          <a:xfrm>
            <a:off x="8317080" y="5584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3" descr=""/>
          <p:cNvPicPr/>
          <p:nvPr/>
        </p:nvPicPr>
        <p:blipFill>
          <a:blip r:embed="rId2"/>
          <a:stretch/>
        </p:blipFill>
        <p:spPr>
          <a:xfrm>
            <a:off x="1835280" y="1700280"/>
            <a:ext cx="603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5:52:32Z</dcterms:created>
  <dc:creator>SWork</dc:creator>
  <dc:description/>
  <dc:language>en-US</dc:language>
  <cp:lastModifiedBy>Пользователь Windows</cp:lastModifiedBy>
  <dcterms:modified xsi:type="dcterms:W3CDTF">2018-11-12T20:18:58Z</dcterms:modified>
  <cp:revision>19</cp:revision>
  <dc:subject/>
  <dc:title>Урок литературного чтения  в 3 классе</dc:title>
</cp:coreProperties>
</file>