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41.gif" ContentType="image/gif"/>
  <Override PartName="/ppt/media/image12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70B24-9EF9-470E-92C2-D3BB6DCD69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35081-3B49-451B-A41F-38E3E6B6AE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F188B-DA2F-48E7-AF01-BCEC711DA7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BA2-C4F0-4F8B-BA9D-D495C59B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6EB-EFAA-494E-9327-7442666D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F06-1403-4258-B112-AD6FD4CE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33B-9DD4-41E9-A6E1-8890C7D3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5B01-85A9-4C3B-ADC6-C20290E8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318-6874-4161-AE82-30383E7E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ECB-A00B-4B51-958B-23EBAAD3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676-B169-4295-8316-004BD5E5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E956-5829-4899-8493-81CD37D4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DC9A-0978-466C-8921-59813D4E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4853-ECF8-41AA-A04D-71B54207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450-E9E8-45DE-9D09-204B2947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AF54D-26C8-4B6C-A642-D9CC2DE54C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Проект «Огород на подоконник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92000" y="3203280"/>
            <a:ext cx="48960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Arial"/>
              </a:rPr>
              <a:t>Совместная деятельность с детьми ранне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Воспитатели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339933"/>
                </a:solidFill>
                <a:latin typeface="Arial"/>
              </a:rPr>
              <a:t>Демиденко Екатерина Ивановна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339933"/>
                </a:solidFill>
                <a:latin typeface="Arial"/>
              </a:rPr>
              <a:t>Володченко Гали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s8"/>
          <p:cNvPicPr/>
          <p:nvPr/>
        </p:nvPicPr>
        <p:blipFill>
          <a:blip r:embed="rId2"/>
          <a:stretch/>
        </p:blipFill>
        <p:spPr>
          <a:xfrm rot="1003800">
            <a:off x="7272360" y="1115640"/>
            <a:ext cx="217152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Arial"/>
              </a:rPr>
              <a:t>Наблюдение за ростом растений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Arial"/>
              </a:rPr>
              <a:t>и уход за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280" y="1768320"/>
            <a:ext cx="4529160" cy="5467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339933"/>
                </a:solidFill>
                <a:latin typeface="Arial"/>
              </a:rPr>
              <a:t>Мы сажаем, наблюдаем, мир растений изуч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16720" y="1595520"/>
            <a:ext cx="446400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Перец, лук, томат, укроп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Все зеленеет, все раст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Этапы роста проследим, и конечно все съеди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i?id=379718493-56-72&amp;n=21"/>
          <p:cNvPicPr/>
          <p:nvPr/>
        </p:nvPicPr>
        <p:blipFill>
          <a:blip r:embed="rId1"/>
          <a:stretch/>
        </p:blipFill>
        <p:spPr>
          <a:xfrm>
            <a:off x="7272360" y="5165640"/>
            <a:ext cx="2808360" cy="2394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IMG_5855"/>
          <p:cNvPicPr/>
          <p:nvPr/>
        </p:nvPicPr>
        <p:blipFill>
          <a:blip r:embed="rId2"/>
          <a:stretch/>
        </p:blipFill>
        <p:spPr>
          <a:xfrm>
            <a:off x="5327640" y="3994200"/>
            <a:ext cx="4753080" cy="3565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DSCN0248"/>
          <p:cNvPicPr/>
          <p:nvPr/>
        </p:nvPicPr>
        <p:blipFill>
          <a:blip r:embed="rId3"/>
          <a:stretch/>
        </p:blipFill>
        <p:spPr>
          <a:xfrm rot="21165600">
            <a:off x="343080" y="1731960"/>
            <a:ext cx="49892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Arial"/>
              </a:rPr>
              <a:t>Театрализация сказки «Реп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i?id=363669284-20-72&amp;n=21"/>
          <p:cNvPicPr/>
          <p:nvPr/>
        </p:nvPicPr>
        <p:blipFill>
          <a:blip r:embed="rId1"/>
          <a:stretch/>
        </p:blipFill>
        <p:spPr>
          <a:xfrm>
            <a:off x="7845480" y="4641840"/>
            <a:ext cx="2235240" cy="2917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IMG_5833"/>
          <p:cNvPicPr/>
          <p:nvPr/>
        </p:nvPicPr>
        <p:blipFill>
          <a:blip r:embed="rId2"/>
          <a:stretch/>
        </p:blipFill>
        <p:spPr>
          <a:xfrm rot="21204000">
            <a:off x="189000" y="1481040"/>
            <a:ext cx="4292640" cy="3219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IMG_5902"/>
          <p:cNvPicPr/>
          <p:nvPr/>
        </p:nvPicPr>
        <p:blipFill>
          <a:blip r:embed="rId3"/>
          <a:stretch/>
        </p:blipFill>
        <p:spPr>
          <a:xfrm>
            <a:off x="2960640" y="4067280"/>
            <a:ext cx="4559400" cy="34210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"/>
          <p:cNvSpPr/>
          <p:nvPr/>
        </p:nvSpPr>
        <p:spPr>
          <a:xfrm>
            <a:off x="5040360" y="1474920"/>
            <a:ext cx="4755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атр – это волшебный ми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н дает уроки красоты, мор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нравств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 чем они богаче, тем успешн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дет развитие духовного ми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етей…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Б. М. Тепло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Arial"/>
              </a:rPr>
              <a:t>Изучение частей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27280" y="1258920"/>
            <a:ext cx="446580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В банку мы воды нали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Лук пузатый посад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Он на банке, как на тр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В новой зубчатой коро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Только вот одна беда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Очень мокнет б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i?id=299516182-56-72&amp;n=21"/>
          <p:cNvPicPr/>
          <p:nvPr/>
        </p:nvPicPr>
        <p:blipFill>
          <a:blip r:embed="rId1"/>
          <a:stretch/>
        </p:blipFill>
        <p:spPr>
          <a:xfrm>
            <a:off x="792000" y="4932360"/>
            <a:ext cx="2160720" cy="2340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IMG_5851"/>
          <p:cNvPicPr/>
          <p:nvPr/>
        </p:nvPicPr>
        <p:blipFill>
          <a:blip r:embed="rId2"/>
          <a:stretch/>
        </p:blipFill>
        <p:spPr>
          <a:xfrm>
            <a:off x="216000" y="1187280"/>
            <a:ext cx="4895640" cy="367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G_5852"/>
          <p:cNvPicPr/>
          <p:nvPr/>
        </p:nvPicPr>
        <p:blipFill>
          <a:blip r:embed="rId3"/>
          <a:stretch/>
        </p:blipFill>
        <p:spPr>
          <a:xfrm>
            <a:off x="5327640" y="3994200"/>
            <a:ext cx="47530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250920"/>
            <a:ext cx="9069480" cy="8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Arial"/>
              </a:rPr>
              <a:t>Дидактическая игра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1" i="1" lang="ru-RU" sz="3200" spc="-1" strike="noStrike">
                <a:solidFill>
                  <a:srgbClr val="3333cc"/>
                </a:solidFill>
                <a:latin typeface="Arial"/>
              </a:rPr>
              <a:t> «Найди по описан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P1010069"/>
          <p:cNvPicPr/>
          <p:nvPr/>
        </p:nvPicPr>
        <p:blipFill>
          <a:blip r:embed="rId1"/>
          <a:stretch/>
        </p:blipFill>
        <p:spPr>
          <a:xfrm>
            <a:off x="6192720" y="464328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IMG_5840"/>
          <p:cNvPicPr/>
          <p:nvPr/>
        </p:nvPicPr>
        <p:blipFill>
          <a:blip r:embed="rId2"/>
          <a:stretch/>
        </p:blipFill>
        <p:spPr>
          <a:xfrm>
            <a:off x="5037120" y="996840"/>
            <a:ext cx="4621320" cy="346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IMG_5842"/>
          <p:cNvPicPr/>
          <p:nvPr/>
        </p:nvPicPr>
        <p:blipFill>
          <a:blip r:embed="rId3"/>
          <a:stretch/>
        </p:blipFill>
        <p:spPr>
          <a:xfrm>
            <a:off x="431640" y="1547640"/>
            <a:ext cx="4213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107640"/>
            <a:ext cx="906948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Дидактическая игра «</a:t>
            </a: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Собери картинк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IMG_5830"/>
          <p:cNvPicPr/>
          <p:nvPr/>
        </p:nvPicPr>
        <p:blipFill>
          <a:blip r:embed="rId1"/>
          <a:stretch/>
        </p:blipFill>
        <p:spPr>
          <a:xfrm>
            <a:off x="173160" y="900000"/>
            <a:ext cx="5011560" cy="375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IMG_5844"/>
          <p:cNvPicPr/>
          <p:nvPr/>
        </p:nvPicPr>
        <p:blipFill>
          <a:blip r:embed="rId2"/>
          <a:stretch/>
        </p:blipFill>
        <p:spPr>
          <a:xfrm>
            <a:off x="5732640" y="1763640"/>
            <a:ext cx="4348080" cy="5796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2"/>
          <p:cNvSpPr/>
          <p:nvPr/>
        </p:nvSpPr>
        <p:spPr>
          <a:xfrm>
            <a:off x="173160" y="2625840"/>
            <a:ext cx="53719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Истоки способностей детей – у них на кончиках пальцев. Чем более уверенно двигается детская рука, тем лучше ее взаимодействие с предметами, сложнее движения, ярче творческий потенциал детского разума. А чем больше мастерства, тем умнее ребенок…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i="1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. А. Сухомлинск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Лепка «Трав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6000" y="2916000"/>
            <a:ext cx="388764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339933"/>
                </a:solidFill>
                <a:latin typeface="Arial"/>
              </a:rPr>
              <a:t>Мы с утра взяли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339933"/>
                </a:solidFill>
                <a:latin typeface="Arial"/>
              </a:rPr>
              <a:t>за де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339933"/>
                </a:solidFill>
                <a:latin typeface="Arial"/>
              </a:rPr>
              <a:t>Пластилин  в руках согр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339933"/>
                </a:solidFill>
                <a:latin typeface="Arial"/>
              </a:rPr>
              <a:t>И слепили трав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339933"/>
                </a:solidFill>
                <a:latin typeface="Arial"/>
              </a:rPr>
              <a:t>Травку – мура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13080" y="3708000"/>
            <a:ext cx="44593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P1010032"/>
          <p:cNvPicPr/>
          <p:nvPr/>
        </p:nvPicPr>
        <p:blipFill>
          <a:blip r:embed="rId1"/>
          <a:stretch/>
        </p:blipFill>
        <p:spPr>
          <a:xfrm>
            <a:off x="4608360" y="2050920"/>
            <a:ext cx="5472360" cy="550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s8"/>
          <p:cNvPicPr/>
          <p:nvPr/>
        </p:nvPicPr>
        <p:blipFill>
          <a:blip r:embed="rId2"/>
          <a:stretch/>
        </p:blipFill>
        <p:spPr>
          <a:xfrm>
            <a:off x="360360" y="826920"/>
            <a:ext cx="21718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0"/>
            <a:ext cx="374472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Arial"/>
              </a:rPr>
              <a:t>Лепка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Arial"/>
              </a:rPr>
              <a:t>«Что растет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Arial"/>
              </a:rPr>
              <a:t>на гряд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5640" y="1186920"/>
            <a:ext cx="4319640" cy="6372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Пластилин я в руки взя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Мял, давил, крутил, слепля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Перемазал им все ру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Своей воле покоря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Вроде бы все так лег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Взял кусок, потом ещ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Вместе их соедини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Вот и что-то получ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Гладил, форму улучш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Где неровно – поправля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Руки вытер, оцени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наконец-то заверш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201080" y="6372000"/>
            <a:ext cx="23716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IMG_5874"/>
          <p:cNvPicPr/>
          <p:nvPr/>
        </p:nvPicPr>
        <p:blipFill>
          <a:blip r:embed="rId1"/>
          <a:stretch/>
        </p:blipFill>
        <p:spPr>
          <a:xfrm>
            <a:off x="5688000" y="4265640"/>
            <a:ext cx="4392720" cy="3294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IMG_5869"/>
          <p:cNvPicPr/>
          <p:nvPr/>
        </p:nvPicPr>
        <p:blipFill>
          <a:blip r:embed="rId2"/>
          <a:stretch/>
        </p:blipFill>
        <p:spPr>
          <a:xfrm>
            <a:off x="4176720" y="179280"/>
            <a:ext cx="50734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Arial"/>
              </a:rPr>
              <a:t>Подвижная  игра «Вот как репка росл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i?id=81389824-11-72&amp;n=21"/>
          <p:cNvPicPr/>
          <p:nvPr/>
        </p:nvPicPr>
        <p:blipFill>
          <a:blip r:embed="rId1"/>
          <a:stretch/>
        </p:blipFill>
        <p:spPr>
          <a:xfrm>
            <a:off x="7704000" y="5364000"/>
            <a:ext cx="2376720" cy="219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s8"/>
          <p:cNvPicPr/>
          <p:nvPr/>
        </p:nvPicPr>
        <p:blipFill>
          <a:blip r:embed="rId2"/>
          <a:stretch/>
        </p:blipFill>
        <p:spPr>
          <a:xfrm>
            <a:off x="936720" y="1332000"/>
            <a:ext cx="2171520" cy="2171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DSCN0118"/>
          <p:cNvPicPr/>
          <p:nvPr/>
        </p:nvPicPr>
        <p:blipFill>
          <a:blip r:embed="rId3"/>
          <a:stretch/>
        </p:blipFill>
        <p:spPr>
          <a:xfrm>
            <a:off x="5184720" y="1692360"/>
            <a:ext cx="4551480" cy="3413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DSCN0116"/>
          <p:cNvPicPr/>
          <p:nvPr/>
        </p:nvPicPr>
        <p:blipFill>
          <a:blip r:embed="rId4"/>
          <a:stretch/>
        </p:blipFill>
        <p:spPr>
          <a:xfrm>
            <a:off x="360360" y="379080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44360" y="250920"/>
            <a:ext cx="4391280" cy="730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Что за чудо! Вот это класс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На подоконнике у на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Мини-огород жив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Растет и урожай д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Вот зеленая петруш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Хорошая к блюдам приправу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Красивая, ароматна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Для людей она приятн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А вот зеленый лу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Растет в земле, а сверху – зеленый ч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Полезный из него сала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Витаминов – целый скла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А вот у нас укроп раст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Он блюдам вкус прид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Хорош он в супе и в борщ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И полезен вообщ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Вот,  такие, у нас растут чудес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Овощи зеленые полез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В пищу, мы их употребля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339933"/>
                </a:solidFill>
                <a:latin typeface="Arial"/>
              </a:rPr>
              <a:t>Запас витаминов пополня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IMG_5864"/>
          <p:cNvPicPr/>
          <p:nvPr/>
        </p:nvPicPr>
        <p:blipFill>
          <a:blip r:embed="rId1"/>
          <a:stretch/>
        </p:blipFill>
        <p:spPr>
          <a:xfrm rot="20910000">
            <a:off x="4076640" y="3914640"/>
            <a:ext cx="4032360" cy="3025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IMG_5862"/>
          <p:cNvPicPr/>
          <p:nvPr/>
        </p:nvPicPr>
        <p:blipFill>
          <a:blip r:embed="rId2"/>
          <a:stretch/>
        </p:blipFill>
        <p:spPr>
          <a:xfrm>
            <a:off x="8136000" y="4968720"/>
            <a:ext cx="1944720" cy="2590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IMG_5861"/>
          <p:cNvPicPr/>
          <p:nvPr/>
        </p:nvPicPr>
        <p:blipFill>
          <a:blip r:embed="rId3"/>
          <a:stretch/>
        </p:blipFill>
        <p:spPr>
          <a:xfrm>
            <a:off x="4535640" y="250920"/>
            <a:ext cx="42796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3280" y="1767960"/>
            <a:ext cx="4457520" cy="561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339933"/>
                </a:solidFill>
                <a:latin typeface="Arial"/>
              </a:rPr>
              <a:t>Перед обедом лучок срезаем и в супчик добавля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13440" y="-360"/>
            <a:ext cx="47512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Глубоко - не мел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Корабли в тарел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Лука голов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Красная морковка, петруш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Карто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И крупки немнож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Вот кораблик плыв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Заплывает прямо в ро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IMG_5890"/>
          <p:cNvPicPr/>
          <p:nvPr/>
        </p:nvPicPr>
        <p:blipFill>
          <a:blip r:embed="rId1"/>
          <a:stretch/>
        </p:blipFill>
        <p:spPr>
          <a:xfrm>
            <a:off x="5327640" y="3994200"/>
            <a:ext cx="4753080" cy="3565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IMG_5877"/>
          <p:cNvPicPr/>
          <p:nvPr/>
        </p:nvPicPr>
        <p:blipFill>
          <a:blip r:embed="rId2"/>
          <a:stretch/>
        </p:blipFill>
        <p:spPr>
          <a:xfrm>
            <a:off x="206280" y="1128600"/>
            <a:ext cx="4618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Тип проекта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ознавательно – исследовательский.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роект краткосрочный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март – апрель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8920" y="1768320"/>
            <a:ext cx="8853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уальност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ти раннего возраста в недостаточной степени имеют представления о растениях, о том, где они растут, о необходимых условиях их роста, их интерес к познавательно-исследовательской деятельности недостаточно развит. Участники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ели, воспитанники, родители воспитанников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Дать знания, что растения живые, их поливают, сажают, выращивают из семян. Расширить знания и представления дете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Уточнить представления о труде взрослых, учить детей правильно называть трудовые действи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.Воспитывать трудолюбие, бережное отношение к растения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.Получить положительные эмоции от полученн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Обогащать словарный запас, развивать связную речь дете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 проект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бота с дошкольни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IMG_5893"/>
          <p:cNvPicPr/>
          <p:nvPr/>
        </p:nvPicPr>
        <p:blipFill>
          <a:blip r:embed="rId1"/>
          <a:stretch/>
        </p:blipFill>
        <p:spPr>
          <a:xfrm>
            <a:off x="144360" y="179280"/>
            <a:ext cx="7850160" cy="5904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1440000" y="6156360"/>
            <a:ext cx="677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33"/>
                </a:solidFill>
                <a:latin typeface="Arial"/>
              </a:rPr>
              <a:t>Огород наш, огород. Все на нем всегда раст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33"/>
                </a:solidFill>
                <a:latin typeface="Arial"/>
              </a:rPr>
              <a:t>Если руки не ленивы, если мы трудолюбив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33"/>
                </a:solidFill>
                <a:latin typeface="Arial"/>
              </a:rPr>
              <a:t>Проявить должны заботу, видно по труду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33"/>
                </a:solidFill>
                <a:latin typeface="Arial"/>
              </a:rPr>
              <a:t>И тогда наш огород расцветет и ожи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IMG_5901"/>
          <p:cNvPicPr/>
          <p:nvPr/>
        </p:nvPicPr>
        <p:blipFill>
          <a:blip r:embed="rId1"/>
          <a:srcRect l="0" t="0" r="0" b="30"/>
          <a:stretch/>
        </p:blipFill>
        <p:spPr>
          <a:xfrm>
            <a:off x="360360" y="1436760"/>
            <a:ext cx="9720360" cy="61228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1"/>
          <p:cNvSpPr/>
          <p:nvPr/>
        </p:nvSpPr>
        <p:spPr>
          <a:xfrm>
            <a:off x="2521080" y="2625840"/>
            <a:ext cx="5038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360360" y="250920"/>
            <a:ext cx="943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«Чудо –огород» на подоконнике раст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339933"/>
                </a:solidFill>
                <a:latin typeface="Arial"/>
              </a:rPr>
              <a:t>Спасибо за внимание. </a:t>
            </a:r>
            <a:br>
              <a:rPr sz="4800"/>
            </a:br>
            <a:r>
              <a:rPr b="1" i="1" lang="ru-RU" sz="4800" spc="-1" strike="noStrike">
                <a:solidFill>
                  <a:srgbClr val="339933"/>
                </a:solidFill>
                <a:latin typeface="Arial"/>
              </a:rPr>
              <a:t>Всем успехов в работ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bcd0fb8b778d"/>
          <p:cNvPicPr/>
          <p:nvPr/>
        </p:nvPicPr>
        <p:blipFill>
          <a:blip r:embed="rId1"/>
          <a:stretch/>
        </p:blipFill>
        <p:spPr>
          <a:xfrm>
            <a:off x="1800360" y="1619280"/>
            <a:ext cx="65530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280" y="324000"/>
            <a:ext cx="906948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ланирование мероприятий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о реализации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899640"/>
            <a:ext cx="9145440" cy="648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ительный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Сбор художественной литературы: стихи, загадки, пословицы, поговорки, рассказы, сказки про овощи, экологические сказ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Приобретение необходимого оборудования (контейнеры, земля, удобрения, семен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Разбивка огорода на подоконн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Изготовление табличек - указателей с названиями раст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тельский эта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Рассматривание семян (укропа, петрушки), посадка семян , тыквы, кабачка, помидора, перца и лу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Опытно-экспериментальная деятельность: «Строение растений», «Условия, необходимые для жизни растен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нятия с детьми: дидактические игры, подвижные игры, образовательная деятель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Разучивание с детьми стихов, загадок, поговорок о растениях. Чтение сказки и драматизация «Реп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Рассматривание иллюстраций, муляжей овощ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Беседы о том, как выращивают овощи на огороде. Рассказ воспитателя «Как дети взрослым помогал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94920"/>
            <a:ext cx="90694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ланируемые результаты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1280" y="1187280"/>
            <a:ext cx="906948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Дети получат знания о том, что растения живые, их поливают, сажают, выращивают из семян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Дети получат представления о труде взрослых, научатся правильно называть трудовые действия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оводимая работа позволяет воспитывать трудолюбие, бережное отношение к растениям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се участники проекта (дети, воспитатели,) получат положительные эмоции от полученных результатов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Итог работы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езентация огор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рганизация выставки работ из пласти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Что растет на грядк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10880" y="2505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Реализация проекта, виды совместной 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186920"/>
            <a:ext cx="906948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вательно - исследовательск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одбор и рассматривание иллюстраций. Проведение наблюдений за ростом раст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Организация и проведение занятия: «Огород на окне». Посадка овощей и семян: помидор, перца, лука, тыквы, кабачка, салата, укроп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Уход за посаженными растениями (полив, рыхление почвы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звитие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дбор и отгадывание загадок по теме «Овощ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Чтение художественной литерату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казка «Репка», сказка про ово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Художественное творчество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Леп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во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рганизация и проведение дидактических игр для закрепления знаний об овощах: «Чудесный мешочек», «Что изменилось», «Ботаническое лото»,  «Что сажают в огороде», «Угадай по описанию», «Сложи картинку», «Угадай на вкус», «Четвертый - лишний», «Кто из нас, из овощей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ознавательно – исследовательская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деятель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5364000"/>
            <a:ext cx="6553080" cy="187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339933"/>
                </a:solidFill>
                <a:latin typeface="Times New Roman"/>
              </a:rPr>
              <a:t>Просмотр  картинок</a:t>
            </a:r>
            <a:r>
              <a:rPr b="1" i="1" lang="ru-RU" sz="32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9933"/>
                </a:solidFill>
                <a:latin typeface="Arial"/>
              </a:rPr>
              <a:t>«Что растет на гряд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IMG_5819"/>
          <p:cNvPicPr/>
          <p:nvPr/>
        </p:nvPicPr>
        <p:blipFill>
          <a:blip r:embed="rId1"/>
          <a:stretch/>
        </p:blipFill>
        <p:spPr>
          <a:xfrm rot="21126600">
            <a:off x="287280" y="1476000"/>
            <a:ext cx="4568760" cy="3425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IMG_5820"/>
          <p:cNvPicPr/>
          <p:nvPr/>
        </p:nvPicPr>
        <p:blipFill>
          <a:blip r:embed="rId2"/>
          <a:stretch/>
        </p:blipFill>
        <p:spPr>
          <a:xfrm rot="318000">
            <a:off x="5040000" y="1834920"/>
            <a:ext cx="475308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Arial"/>
              </a:rPr>
              <a:t>Знакомство с семенами овса и его посе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i?id=87537357-40-72&amp;n=21"/>
          <p:cNvPicPr/>
          <p:nvPr/>
        </p:nvPicPr>
        <p:blipFill>
          <a:blip r:embed="rId1"/>
          <a:stretch/>
        </p:blipFill>
        <p:spPr>
          <a:xfrm rot="20919600">
            <a:off x="215640" y="1115640"/>
            <a:ext cx="3311280" cy="2386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s8"/>
          <p:cNvPicPr/>
          <p:nvPr/>
        </p:nvPicPr>
        <p:blipFill>
          <a:blip r:embed="rId2"/>
          <a:stretch/>
        </p:blipFill>
        <p:spPr>
          <a:xfrm>
            <a:off x="3745080" y="1116000"/>
            <a:ext cx="2171520" cy="217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DSCN0245"/>
          <p:cNvPicPr/>
          <p:nvPr/>
        </p:nvPicPr>
        <p:blipFill>
          <a:blip r:embed="rId3"/>
          <a:stretch/>
        </p:blipFill>
        <p:spPr>
          <a:xfrm>
            <a:off x="1584360" y="3635280"/>
            <a:ext cx="4840200" cy="3630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P1010054"/>
          <p:cNvPicPr/>
          <p:nvPr/>
        </p:nvPicPr>
        <p:blipFill>
          <a:blip r:embed="rId4"/>
          <a:stretch/>
        </p:blipFill>
        <p:spPr>
          <a:xfrm rot="649800">
            <a:off x="6769080" y="1258560"/>
            <a:ext cx="2800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Arial"/>
              </a:rPr>
              <a:t>Знакомство с луком </a:t>
            </a:r>
            <a:br>
              <a:rPr sz="4400"/>
            </a:br>
            <a:r>
              <a:rPr b="1" i="1" lang="ru-RU" sz="4400" spc="-1" strike="noStrike">
                <a:solidFill>
                  <a:srgbClr val="3333cc"/>
                </a:solidFill>
                <a:latin typeface="Arial"/>
              </a:rPr>
              <a:t>и его пос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08000" y="5579640"/>
            <a:ext cx="503388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Знают все, что лук полез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Витаминами бог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Но немного горьков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В этом лук не винов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DSCN0226"/>
          <p:cNvPicPr/>
          <p:nvPr/>
        </p:nvPicPr>
        <p:blipFill>
          <a:blip r:embed="rId1"/>
          <a:stretch/>
        </p:blipFill>
        <p:spPr>
          <a:xfrm rot="751200">
            <a:off x="4968360" y="1476360"/>
            <a:ext cx="4680000" cy="351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DSCN0231"/>
          <p:cNvPicPr/>
          <p:nvPr/>
        </p:nvPicPr>
        <p:blipFill>
          <a:blip r:embed="rId2"/>
          <a:stretch/>
        </p:blipFill>
        <p:spPr>
          <a:xfrm>
            <a:off x="360360" y="1692360"/>
            <a:ext cx="505620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Arial"/>
              </a:rPr>
              <a:t>Знакомство с тыквой,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Arial"/>
              </a:rPr>
              <a:t>посадка семян тык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5364000"/>
            <a:ext cx="52578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Тыквы сеем 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Они полезны и вку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Их растить совсем не слож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Даже деткам всем возм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DSCN0225"/>
          <p:cNvPicPr/>
          <p:nvPr/>
        </p:nvPicPr>
        <p:blipFill>
          <a:blip r:embed="rId1"/>
          <a:stretch/>
        </p:blipFill>
        <p:spPr>
          <a:xfrm rot="20434800">
            <a:off x="502920" y="1115640"/>
            <a:ext cx="4624200" cy="3467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DSCN0240"/>
          <p:cNvPicPr/>
          <p:nvPr/>
        </p:nvPicPr>
        <p:blipFill>
          <a:blip r:embed="rId2"/>
          <a:stretch/>
        </p:blipFill>
        <p:spPr>
          <a:xfrm>
            <a:off x="5168880" y="1835280"/>
            <a:ext cx="4911840" cy="3682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0021-020-Tykva"/>
          <p:cNvPicPr/>
          <p:nvPr/>
        </p:nvPicPr>
        <p:blipFill>
          <a:blip r:embed="rId3"/>
          <a:stretch/>
        </p:blipFill>
        <p:spPr>
          <a:xfrm>
            <a:off x="7345440" y="5575320"/>
            <a:ext cx="27352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5:11:34Z</dcterms:created>
  <dc:creator>Yury Makarov</dc:creator>
  <dc:description/>
  <dc:language>en-US</dc:language>
  <cp:lastModifiedBy>Leo Makarov</cp:lastModifiedBy>
  <dcterms:modified xsi:type="dcterms:W3CDTF">2019-12-29T13:38:35Z</dcterms:modified>
  <cp:revision>30</cp:revision>
  <dc:subject/>
  <dc:title>Проект «Огород на подоконнике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1a0000000000010282310207f7000400038000</vt:lpwstr>
  </property>
</Properties>
</file>