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156-3CEE-4AC9-9FEF-390F525C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E33-A000-4D7B-94B1-5B27151D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E8F-AA75-45A4-8B64-C607A282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321-6B7A-47A2-97B5-951180A0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EEC5-751A-4F27-B47A-B1653ABC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1D03-3E89-4EC6-9955-2FDC544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55AE-677A-468E-8733-FF5058B5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D176-4F60-4B3A-A769-EBBD3DFD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BF5-D888-4D81-81DC-669B2C8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4BA3-C9FF-4F1C-AB8A-E068F76A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C1FE-2DBB-4FA2-8F06-3D8D1C0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554-A591-424E-AFF6-6A37FFB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1D0-5AE0-4990-9BB8-E9A486E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D6C-DBC6-425A-8D3D-BAC7E7D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118-6C67-43B1-8CDA-C1A7F91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7747-7274-4C6E-ABCC-3120BB43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D54-B1E0-4CBF-A41F-39404655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390D-1F42-4FDF-84A5-2F76B6DF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F134-042B-4B60-AE40-BE897B3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58F7-BA27-45E4-A115-3823735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F415-E07E-47CB-917B-A93899A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5775-CF6E-44B0-A2DB-37F8D31A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AF1-FC6E-4412-AA21-7955C865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C345-36FA-4DAB-A7A3-56A5413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04B3-FC23-4AA1-9BFC-2E3128E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82B0-E46B-487F-ABC3-FE809511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9ED6-8605-4816-922E-280234CC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8AA8-C008-40F3-9757-BA4120C5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DC46-1CB2-4EB7-BAF1-696D357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A858-EBC3-4DD6-BADC-552409DE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7B2-E223-450C-8DFB-E7475CA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139-F9EF-4EA7-B5F7-5A84B428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562-C197-4A36-9193-2C77F6D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43B-54EF-465B-9421-EF078A1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5C9-568E-4219-B6D6-9D7F73D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5C3-D48C-4B88-A9B6-3FBA4EC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12D-BCC8-4A59-B481-43B10A71B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59E1-935D-4EF7-A733-C7866B0AC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93A-F60B-402A-8ED8-7EEB2298E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1619280" y="1413000"/>
            <a:ext cx="6408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циализации детей раннего возрас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раннего возраста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 воспитатели: Уткова А.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Лялина Е.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1474920" y="331920"/>
            <a:ext cx="67690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, развитие общения,                     нравственное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«Я знаю слова спасибо и пожалуйста»,  «Мишка», «Кто это», «Веселый паровозик»,  «Зайка в гости к нам прише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умение прощаться, здороваться, дружить , общать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еском и водо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играем в кораблик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играем с песком», «Можно, нельзя» (формировать правила безопасного поведения, дома, на улице, во время иг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«Я хороший», «Спой песенку», «Мы играем», «Мы радуемся вмес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1" descr=""/>
          <p:cNvPicPr/>
          <p:nvPr/>
        </p:nvPicPr>
        <p:blipFill>
          <a:blip r:embed="rId1"/>
          <a:stretch/>
        </p:blipFill>
        <p:spPr>
          <a:xfrm>
            <a:off x="4889520" y="436896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7"/>
          <p:cNvSpPr/>
          <p:nvPr/>
        </p:nvSpPr>
        <p:spPr>
          <a:xfrm>
            <a:off x="1397160" y="836640"/>
            <a:ext cx="698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 семье и сообществе, образ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Я хороший», «Мы играем в сказки», «Мне нравиться в детском саду», « Это 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элементарное представление о себе, своем имени, о том, что любят и заботятся о н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Поговорим о маме», «Рассмотрим и покажем на картинк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пой песен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ывать внимательное отношение к родителям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м людям, называть их им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Кто радуется ,кто грусти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лепим снегов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положительные стороны детского са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, учас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1547640" y="658800"/>
            <a:ext cx="65534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, самостоятельность,  трудовое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Кому, что нужно», «Подбери картинки», «Уложим Мишку спать», «В гости бабушка пришл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умение одеваться и раздеваться, приучать к опрят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 полезный тр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труду взросл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Рассмотри картинки», «Помоги нянечке», «Поручение», «Где стоят игруш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накрываем стол», «Для чего нужна посу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простейшие трудовые дей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 к труду взрослы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кукл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Одеваем Катю на прогулку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ша для куклы», «Укладываем Катю спа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ть навыки ролевого повед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15:10:32Z</dcterms:created>
  <dc:creator>User</dc:creator>
  <dc:description/>
  <dc:language>en-US</dc:language>
  <cp:lastModifiedBy>Best</cp:lastModifiedBy>
  <dcterms:modified xsi:type="dcterms:W3CDTF">2019-12-19T05:06:47Z</dcterms:modified>
  <cp:revision>24</cp:revision>
  <dc:subject/>
  <dc:title>Шаблоны «Детские» - 7</dc:title>
</cp:coreProperties>
</file>