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E1B-069C-4121-875D-C6CB3020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E32-C3D8-4D7B-82D5-971FF3F7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136-E4EC-4F0F-AB51-BE2F2443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57D-0C0B-4194-A1BE-D90691C2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72E2-1242-408E-97D7-3A541FA1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33E2-4BD0-4E9A-BE57-7091DB0D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207D-BE3B-44A7-84CA-B75C06CB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A88B-6707-4095-A735-576F9D97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72D0-D0FB-4431-9709-04BEA83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44FA-B7AB-45FA-8ED1-ED5F673E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97AF-8745-41FF-88EC-BE003E0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9C8-99A2-4E65-9298-962332E3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8315-563E-4864-A492-094EFBC9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14BB-598C-4360-9EFE-671B67EB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09D6-960C-43E3-961B-C38E190A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A62A-3C4D-4ED3-8DBC-9FCA73DF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94C8-F98F-408B-8C74-E17DDC00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B6C8-64B1-4DDF-B4D2-DBCFC2EB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6CF0-118F-420C-B6EE-8095ADB6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2B0B-9211-469B-BD08-3528FCF0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F4B2-2148-4142-9434-96083EAF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AE82B-75C7-493C-A371-5AF6248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1EF-D58C-4F10-AE92-7025EB27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7387-DD34-4B40-93A6-A60F2274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0AC3-2BEF-4238-9296-751372E7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2114-71D1-4A49-88B7-0AB90D68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3145-EBF5-477D-B244-89E2B88C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E00E-E8EB-4EA5-8A0E-37FFAAB5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74AA-DC0E-4577-80F7-F1CD91E6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AB36-D811-4C37-9111-9BBDCDED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3F46-C4AC-4486-A07B-50ACA180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474D8-2AFE-4361-94AF-2E50A993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EF694-4497-45D4-AED2-C6E222F0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725-CAB3-4C50-910D-3A28C798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E385-0428-4C2B-9782-11BE32C5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E7337-2ED9-4652-A778-257E82D9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A9F9-B34B-4970-A471-6BFE43A6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EA455-26E4-488D-BA6D-ACAD842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7C3D-B881-4151-8295-22942B4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29D41-BF44-4C5C-A40D-9E538718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AC4A-C27A-4FE5-9B77-CEE8F3EB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37CB-D5E1-4DA6-9A97-5C3E8478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AC560-2C3A-4BF4-BDA3-D64EC1A9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F97-6E0C-4BCF-80BB-1A32092F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684-F3D6-4EDF-9720-532D1583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5F9-4FCE-4A17-9844-F76D2A6E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5C2-9769-4E72-B5CD-0DE68879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263-10DE-45F4-AAC6-D6A9B5C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0E0C-B32B-4231-B486-B4DDC2D0B5A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2720-DF3B-47F4-A702-49A340A4FF0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873E-1151-4876-A941-2CB3E6F8376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43AC-71BE-4AE9-92FF-3F6C235E7B9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1676520"/>
            <a:ext cx="634860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404040"/>
                </a:solidFill>
                <a:latin typeface="Trebuchet MS"/>
              </a:rPr>
              <a:t>ТЕМА: «ПЛАСТИДЫ»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ПЛАСТИДЫ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240" y="2160360"/>
            <a:ext cx="79246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800280" y="2514600"/>
            <a:ext cx="1981080" cy="32767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лоропла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зеле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отосинт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3124080" y="2514600"/>
            <a:ext cx="1828800" cy="32767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омопла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цве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крашивание цветков и пл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5638680" y="2514600"/>
            <a:ext cx="1828800" cy="32767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ейкопла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бесцве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асают крах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7"/>
          <p:cNvCxnSpPr/>
          <p:nvPr/>
        </p:nvCxnSpPr>
        <p:spPr>
          <a:xfrm>
            <a:off x="1752120" y="3809520"/>
            <a:ext cx="1080" cy="3819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Прямая со стрелкой 10"/>
          <p:cNvCxnSpPr/>
          <p:nvPr/>
        </p:nvCxnSpPr>
        <p:spPr>
          <a:xfrm>
            <a:off x="3962160" y="3809520"/>
            <a:ext cx="1080" cy="3819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Прямая со стрелкой 12"/>
          <p:cNvCxnSpPr/>
          <p:nvPr/>
        </p:nvCxnSpPr>
        <p:spPr>
          <a:xfrm>
            <a:off x="6476760" y="3809520"/>
            <a:ext cx="1080" cy="3819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Прямая со стрелкой 14"/>
          <p:cNvCxnSpPr/>
          <p:nvPr/>
        </p:nvCxnSpPr>
        <p:spPr>
          <a:xfrm flipH="1">
            <a:off x="1904760" y="1523520"/>
            <a:ext cx="876960" cy="83916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Прямая со стрелкой 16"/>
          <p:cNvCxnSpPr/>
          <p:nvPr/>
        </p:nvCxnSpPr>
        <p:spPr>
          <a:xfrm>
            <a:off x="3733560" y="1676160"/>
            <a:ext cx="1080" cy="68652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Прямая со стрелкой 18"/>
          <p:cNvCxnSpPr/>
          <p:nvPr/>
        </p:nvCxnSpPr>
        <p:spPr>
          <a:xfrm>
            <a:off x="5105160" y="1599840"/>
            <a:ext cx="1067400" cy="76284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201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rebuchet MS"/>
              </a:rPr>
              <a:t>ПЛАСТИДЫ В РАСТЕНИИ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990720" y="2160720"/>
            <a:ext cx="3047760" cy="446868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4"/>
          <p:cNvSpPr/>
          <p:nvPr/>
        </p:nvSpPr>
        <p:spPr>
          <a:xfrm>
            <a:off x="3886200" y="2666880"/>
            <a:ext cx="2286000" cy="3812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ОМОПЛА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3886200" y="4191120"/>
            <a:ext cx="2286000" cy="45720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ЛОРОПЛА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3881520" y="5943600"/>
            <a:ext cx="2286000" cy="45720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ЕЙКОПЛА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Прямая со стрелкой 8"/>
          <p:cNvCxnSpPr/>
          <p:nvPr/>
        </p:nvCxnSpPr>
        <p:spPr>
          <a:xfrm>
            <a:off x="2286000" y="2819160"/>
            <a:ext cx="1372320" cy="108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Прямая со стрелкой 10"/>
          <p:cNvCxnSpPr/>
          <p:nvPr/>
        </p:nvCxnSpPr>
        <p:spPr>
          <a:xfrm>
            <a:off x="2133360" y="4495320"/>
            <a:ext cx="1524600" cy="108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Прямая со стрелкой 14"/>
          <p:cNvCxnSpPr/>
          <p:nvPr/>
        </p:nvCxnSpPr>
        <p:spPr>
          <a:xfrm>
            <a:off x="2401920" y="6248160"/>
            <a:ext cx="1256400" cy="1080"/>
          </a:xfrm>
          <a:prstGeom prst="straightConnector1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ТРОЕНИЕ ПЛАСТИД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4191120" y="2160720"/>
            <a:ext cx="2971800" cy="3706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нешняя мембр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нутренняя мембр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трикс (стр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лакоиды стр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лакоиды г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лорофил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Крахмальное зер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Каратино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7" name="Объект 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504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ЗАИМОПРЕВРАЩЕНИЯ ПЛАСТИД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9" name="Picture 4" descr="Изо 013"/>
          <p:cNvPicPr/>
          <p:nvPr/>
        </p:nvPicPr>
        <p:blipFill>
          <a:blip r:embed="rId1"/>
          <a:stretch/>
        </p:blipFill>
        <p:spPr>
          <a:xfrm>
            <a:off x="685800" y="1930320"/>
            <a:ext cx="7010280" cy="43941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6"/>
          <p:cNvSpPr/>
          <p:nvPr/>
        </p:nvSpPr>
        <p:spPr>
          <a:xfrm>
            <a:off x="3657600" y="4956120"/>
            <a:ext cx="2666880" cy="14479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5211720" y="3159000"/>
            <a:ext cx="424080" cy="16225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3429000" y="5872320"/>
            <a:ext cx="380880" cy="380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5181480" y="4859280"/>
            <a:ext cx="228600" cy="1922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2"/>
          <p:cNvSpPr/>
          <p:nvPr/>
        </p:nvSpPr>
        <p:spPr>
          <a:xfrm>
            <a:off x="3581280" y="5051520"/>
            <a:ext cx="76320" cy="2062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3"/>
          <p:cNvSpPr/>
          <p:nvPr/>
        </p:nvSpPr>
        <p:spPr>
          <a:xfrm>
            <a:off x="5635800" y="3159000"/>
            <a:ext cx="45720" cy="1936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13</dc:creator>
  <dc:description/>
  <dc:language>en-US</dc:language>
  <cp:lastModifiedBy>Пользователь Windows</cp:lastModifiedBy>
  <dcterms:modified xsi:type="dcterms:W3CDTF">2019-12-29T12:22:1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