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DDD2-CD97-4ADE-8F71-E51295EA3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5CAD-49C9-4D91-A84A-6D8CA8B1D9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9E8-3E04-4984-B171-073B4A91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341-4306-491D-ADED-D5CB943E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AC4-FD41-4F16-93C9-B9F0A2AF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0BE-20FD-41AC-9D84-4487ACF3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5DA-8F79-44F4-84D0-61D22C43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BFF-5FCE-44D1-9BDF-800503E4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CF0-DC4E-44CB-AEDB-3051D06F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1D5-DF74-402D-BFA1-14291C39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0EA-7862-4DF9-9185-7F6A819C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78A-E806-4D46-84E0-45B4F83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370-D175-4F09-B069-855FFFF2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39C-12F2-4C24-93C3-460A9B1B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AF1A-CC1B-42E4-B898-0C11FBD3B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3840" cy="35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Здоровьесберегающие технологии в детском саду с детьми логопедической групп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PB070762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440" y="4857480"/>
            <a:ext cx="5486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огоритмика - это метод преодоления речевых нарушений путем развития двигательной сферы в сочетании со словом и музык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Новый рисунок (1).png"/>
          <p:cNvPicPr/>
          <p:nvPr/>
        </p:nvPicPr>
        <p:blipFill>
          <a:blip r:embed="rId1"/>
          <a:srcRect l="5131" t="0" r="5131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85600" y="4857480"/>
            <a:ext cx="56437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вижные и спортивные игры используются как часть физкультурного занятия, на прогулке, в групповой комнат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4" descr="PB07076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080" y="4857480"/>
            <a:ext cx="59943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лаксация - упражнения для расслабления мышц рук, шеи и т. д. Цель таких упражнений- создать спокойное настроение, радостную и свободную обстановку во время НД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PB06072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440" y="4786200"/>
            <a:ext cx="6494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альчиковая гимнастика - систематические упражнения по тренировке движений пальцев наряду со стимулирующим влиянием на развитие реч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15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Гимнастика для глаз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773360"/>
            <a:ext cx="8137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имнастика для глаз проводится ежедневно п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-5 минут в любое свободное время в зависим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 интенсивности зрительной нагрузки, использует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уется для снятия статического напряжения, нагрузки, улучшает кровообраще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PB060742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440" y="4857840"/>
            <a:ext cx="585144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ыхательная гимнастика - корректирует нарушения речевого дыхания, продолжительность, силу и правильное распределение выдоха. Проводится в игровой форм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928440"/>
            <a:ext cx="813600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ртикуляционная гимнастика - помогает выработать  четкие и согласованные движения органов артикуляционного аппарата. В работе с детьми используются мимические упражнения, упражнения для мышц шеи, упражнения для жевательно -артикуляционных мышц, упражнения для губ и языка, речевая зарядка, упражнения, направленные на развитие речевого дыхания и голос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PB060719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440" y="4857480"/>
            <a:ext cx="54864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одрящая гимнастика - помогает детскому организму проснуться, улучшает настроение, поднимает мышечный тонус, оказывает закаливающий эффек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Технологии обучения здоровому образу жизн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изкультурные занят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гротренинги и игротерап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муникативные игр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амомасса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чечный масса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нятия из серии «Здоровье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ческая обратная связ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PB070757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440" y="4786200"/>
            <a:ext cx="548640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зкультурные занятия - способствуют физическому развитию детей, приобщают к здоровому образу жизни, у детей развиваются физические каче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8200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доровьесберегающие технологии-это система мер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включающая взаимосвязь и взаимодействие всех факторов образовательной среды, направленных 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сохранение здоровья ребенка на всех этапах 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учения и развития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ю здоровьесберегающих технологий является сохранение здоровья ребенка на всех этапах его обучения и развития; поддержание и обогащение здоровья субьектов педагогического процесса в детском саду: детей, педагогов, родител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5" descr="Новый рисунок (4).png"/>
          <p:cNvPicPr/>
          <p:nvPr/>
        </p:nvPicPr>
        <p:blipFill>
          <a:blip r:embed="rId1"/>
          <a:srcRect l="0" t="344" r="0" b="3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440" y="4786200"/>
            <a:ext cx="548640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нятия из серии «Здоровье»- помогают детям узнать о своем организме как можно больше, как правильно за ним ухаживат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80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оммуникативные игр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2060280"/>
            <a:ext cx="8748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муникативные игры предназначены научить ребенка сообщать, передавать информацию своему собеседнику в процессе межличностного взаимодейств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принужденность общения в игровых ситуациях способствует преодолению трудностей межличностного взаимодействия и развитию речевых навы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5" descr="PB060725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440" y="4857480"/>
            <a:ext cx="54864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амомассаж, точечный массаж способствует снятию напряжения, оказывает положительное воздействие на развитие памяти, внимания, мышле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оррекционные технологи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рттерап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хнологии музыкального воздейств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казкотерап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хнологии воздействия цвет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сихогимнаст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хнологии коррекции повед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нетическая ритмик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рттерап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рттерапия-лечение искусством, творчеств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влекает детей, отвлекает от неприятных эмоций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ключает эмоциональные резервы организма. Раб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природными материалами: глиной, песком, водой 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могает снять нервное напряжение у детей 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рушениями реч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PA310682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440" y="4786200"/>
            <a:ext cx="548640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ехнологии музыкального воздейств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24000" y="571320"/>
            <a:ext cx="83628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казкотерапия - любимый детьми жанр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ль занятий – преобразовать отрицательные образы в положительные, чтобы мир ребенка был красив и радосте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покойное состояние нервной системы возвращает ребенку здоровь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Психогимнасти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2060280"/>
            <a:ext cx="9144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сихогимнастика направлена на обучение элементам тех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ики выразительных движений, на использование вырази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льных движений в воспитании эмоций и высших чувств 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приобретение навыков в саморасслаблении, помогает де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ям преодолевать барьеры в общении, лучше понять себя 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ругих, снимает психическое напряжение, дает возмож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амовыраж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доровьесберегающие технологии позволили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высить сопротивляемость организма у детей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начительно уменьшить число часто болеющих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начительно повысить речевую активность 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высить динамику в работе по исправлени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чевого дефект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ить больший процент родителей в едины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итательно - образовательный процесс, чт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начительно повысило его эффектив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17136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дачи здоровьесберегающих технологи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формировать у детей осознанное отношение к здоровью 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жизни, накопление знаний о здоровье и развитие умени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ерегать ег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витие физических качест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троль двигательной активности и становление физическо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ультуры дошкольник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здоровление средствами закалива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рганизация здоровьесберегающей среды в ДО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рганизация профилактических мероприятий, способствующи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зистентности детского организм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еспечение социально-эмоционального благополучи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школьни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алеологическое просвещение родителей и содействи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новлению культуры здоровь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сновные показатели здоровья дете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ровень физического и нервно - психологическ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епень сопротивляемости организма 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олезнетворным влияниям;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стояние основных функций организма, налич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ли отсутствие хронических заболеваний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лонений в раннем периоде развит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жидаемые результаты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341360"/>
            <a:ext cx="820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хранение и укрепление физического и нервно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сихического развития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елание детей и их родителей вести здоровый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раз жизн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ть знания о здоровье в повседневно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зн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сное сотрудничество родителей с педагогам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иды здоровьесберегающих технологи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280" y="2133360"/>
            <a:ext cx="860436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хнологии сохранения и стимулирования здоровь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хнологии обучения здоровому образу жиз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ррекционные технолог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Технологии сохранения и стимулирования здоровь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намические пауз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итмопласти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огоритми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вижные и спортивные игр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альчиковая гимнасти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имнастика для глаз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лаксац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ретчин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ыхательная гимнасти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одрящая гимнасти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имнастика ортопедическа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имнастика корректирующ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PB060738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намические паузы проводятся во время НОД по мере утомляемости детей 2-5 мину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PB070771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440" y="4857480"/>
            <a:ext cx="54864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итмопластика- музыкально-ритмические движения, способствующие развитию музыкального слуха и   двигательных способностей де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06:03:18Z</dcterms:created>
  <dc:creator>Александр</dc:creator>
  <dc:description/>
  <dc:language>en-US</dc:language>
  <cp:lastModifiedBy>user</cp:lastModifiedBy>
  <dcterms:modified xsi:type="dcterms:W3CDTF">2019-12-29T11:31:57Z</dcterms:modified>
  <cp:revision>41</cp:revision>
  <dc:subject/>
  <dc:title>Здоровьесберегающие технологии в детском саду с детьми логопедической группы</dc:title>
</cp:coreProperties>
</file>