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D3E-913C-47FD-8B27-0B5566E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13A-A1A9-4453-BBC2-3DB4F223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48F-048D-49A2-997D-8280CF24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426-B052-4701-AE5F-BDE33A41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CB00-C70F-452E-98CD-1E4E85F4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AECE-6547-4BA3-8855-EFCFF88B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830-C46B-4343-B909-CBADE68E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3369-7E5E-4A54-9C76-FC4BA9FA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4B74-F44C-480C-9158-3D1CA2B8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01A-3191-4192-AFB3-E6457CB8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C0C1-FA7A-4310-A824-D9202E8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C13-E4DE-4800-A012-54AAAAF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A76-D45D-4CE7-ABDF-F4457EE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333-8D62-4E0A-A8E2-8EA4711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87D-2FC8-4C94-B4AE-5D953B3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FAB5-FCB3-4F6F-96BF-F416538C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E4D-E49F-468C-A021-B56BC421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72E-2118-405D-8447-942DB93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59D-4A60-4CE0-834F-FC3081F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E97-ABF7-4035-8301-A080D7CB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C81-54F4-4399-929D-7D701CF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E25-A55F-4F25-8C12-97E3382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AD5-B943-453C-B940-A4F37C7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9A3-BE94-4A17-BCB7-91B61E4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095-90EC-4F03-8432-04A0EE569A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340-1415-4092-A512-A138D2028A0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овременные иллюстрации книг для малышей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79280" y="3141720"/>
            <a:ext cx="87854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положительные и отрицательные характеристики иллюстраций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временные иллюстрации детских кни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гда я готовила данный материал, то обратила внимание на то, что современные художники создают очень красивые и качественные иллюстрации, но, в основном, для детей среднего и старшего дошкольного возраста. К сожалению, мне удалось найти не очень много художников, творящих для малышей (я имею в виду таких, которые могли бы встать в один ряд с именами советских классиков: В. Сутеевым, Е. Чарушиным, Ю. Васнецовым, Л. Токмаковым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 хочу представить некоторых современных художников-иллюстраторов детской книжной графи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лейников Игорь Юль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одился 4.01.1953 в г.Люберцы Московской области. Закончил Московский институт химического машиностроения в 1976 г. А в 1979 г. пришел на киностудию «Союзмультфильм» в качестве ассистента и спустя некоторое время стал художником-постановщиком. Специального художественного образования Олейников И.Ю. не имеет. Об этом он говорит так: «Сначала мама учила, а затем на «Союзмультфильм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.Ю.Олейников необычайно талантливый художник и известен не только как иллюстратор детских книг, но и как великолепный художник-мультипликатор. Олейников обладает талантом создавать яркие, запоминающиеся образы и представить их в динамике, действии. В своих произведениях он создаёт удивительный, изящный и полный неожиданностей сказочный ми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лейников сотрудничает с многими зарубежными издательствами. Также Игорь Юльевич иллюстрирует книги признанных мастеров слова: А.Усачева, К.Чуковского, Н.Гоголя, Даниила Хармса и друг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4" descr="Олейников"/>
          <p:cNvPicPr/>
          <p:nvPr/>
        </p:nvPicPr>
        <p:blipFill>
          <a:blip r:embed="rId1"/>
          <a:stretch/>
        </p:blipFill>
        <p:spPr>
          <a:xfrm>
            <a:off x="19080" y="2200320"/>
            <a:ext cx="3144960" cy="408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Олейников2"/>
          <p:cNvPicPr/>
          <p:nvPr/>
        </p:nvPicPr>
        <p:blipFill>
          <a:blip r:embed="rId2"/>
          <a:stretch/>
        </p:blipFill>
        <p:spPr>
          <a:xfrm>
            <a:off x="3127320" y="3054240"/>
            <a:ext cx="2962440" cy="372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Олейников7"/>
          <p:cNvPicPr/>
          <p:nvPr/>
        </p:nvPicPr>
        <p:blipFill>
          <a:blip r:embed="rId3"/>
          <a:stretch/>
        </p:blipFill>
        <p:spPr>
          <a:xfrm>
            <a:off x="6029280" y="2120760"/>
            <a:ext cx="280980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Олейников1"/>
          <p:cNvPicPr/>
          <p:nvPr/>
        </p:nvPicPr>
        <p:blipFill>
          <a:blip r:embed="rId1"/>
          <a:stretch/>
        </p:blipFill>
        <p:spPr>
          <a:xfrm>
            <a:off x="92160" y="2408400"/>
            <a:ext cx="3120840" cy="3790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Олейников3"/>
          <p:cNvPicPr/>
          <p:nvPr/>
        </p:nvPicPr>
        <p:blipFill>
          <a:blip r:embed="rId2"/>
          <a:stretch/>
        </p:blipFill>
        <p:spPr>
          <a:xfrm>
            <a:off x="3067200" y="73080"/>
            <a:ext cx="3065400" cy="412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Олейников4"/>
          <p:cNvPicPr/>
          <p:nvPr/>
        </p:nvPicPr>
        <p:blipFill>
          <a:blip r:embed="rId3"/>
          <a:stretch/>
        </p:blipFill>
        <p:spPr>
          <a:xfrm>
            <a:off x="5803920" y="2693880"/>
            <a:ext cx="3005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3:07:58Z</dcterms:created>
  <dc:creator>User</dc:creator>
  <dc:description/>
  <dc:language>en-US</dc:language>
  <cp:lastModifiedBy>User</cp:lastModifiedBy>
  <dcterms:modified xsi:type="dcterms:W3CDTF">2019-12-29T19:26:26Z</dcterms:modified>
  <cp:revision>23</cp:revision>
  <dc:subject/>
  <dc:title>Современные иллюстрации книг для малышей:</dc:title>
</cp:coreProperties>
</file>