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6F0-E079-43FA-9B69-D94D9543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668-95E2-425C-B39B-E3FFEBC8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B8A-F6F6-4AD9-A23E-35D7DF47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589-1339-4F86-87CB-C7F5D25D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329-DF58-4701-8182-BFD7C26D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8C4-30D4-42F9-AA56-968681E6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4F8-8B60-4951-82E2-71487B59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4B9-9A63-4D68-A034-EF127B88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EAF-BD71-4C0D-BE0C-2EDB5B8A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A69-8242-4A5E-9FB8-1C2A6400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537-FDF2-4816-BBFF-FEDDFE22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09A-E69D-4012-886F-B49532CE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028C-4982-4F5A-9EA7-526E3B0141D7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Елена Дмитриевна Селивано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олее двадцати лет работает, как дизайнер-иллюстратор детских книг. Её теплые, уютные рисунки делают любую книгу умной, доброй и волшебн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на создает очень нежные и умилительные иллюстр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303960" y="2919240"/>
            <a:ext cx="2955960" cy="3316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-42840" y="3286080"/>
            <a:ext cx="4675320" cy="2706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4243320" y="4322880"/>
            <a:ext cx="2651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03320" y="23760"/>
            <a:ext cx="4833720" cy="3500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49320" y="3333600"/>
            <a:ext cx="5870520" cy="342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5772240" y="2700360"/>
            <a:ext cx="3371760" cy="4164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4"/>
          <a:stretch/>
        </p:blipFill>
        <p:spPr>
          <a:xfrm>
            <a:off x="4559400" y="36360"/>
            <a:ext cx="4413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177920" y="476280"/>
            <a:ext cx="3322800" cy="3457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2071440" cy="216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2028960" cy="2127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4"/>
          <a:stretch/>
        </p:blipFill>
        <p:spPr>
          <a:xfrm>
            <a:off x="2484360" y="4076640"/>
            <a:ext cx="1998720" cy="2089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5"/>
          <a:stretch/>
        </p:blipFill>
        <p:spPr>
          <a:xfrm>
            <a:off x="4572000" y="4076640"/>
            <a:ext cx="2062080" cy="2097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6"/>
          <a:stretch/>
        </p:blipFill>
        <p:spPr>
          <a:xfrm>
            <a:off x="4599000" y="476280"/>
            <a:ext cx="3068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84360" y="3610080"/>
            <a:ext cx="7619760" cy="2914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684360" y="387360"/>
            <a:ext cx="5256000" cy="31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6032520" y="404640"/>
            <a:ext cx="2233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3T13:07:58Z</dcterms:created>
  <dc:creator>User</dc:creator>
  <dc:description/>
  <dc:language>en-US</dc:language>
  <cp:lastModifiedBy>User</cp:lastModifiedBy>
  <dcterms:modified xsi:type="dcterms:W3CDTF">2019-12-29T19:33:57Z</dcterms:modified>
  <cp:revision>25</cp:revision>
  <dc:subject/>
  <dc:title>Современные иллюстрации книг для малышей:</dc:title>
</cp:coreProperties>
</file>