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234-0B80-4AC0-9E1A-1EBD292C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F96-1A9B-4C23-832D-C6F0F30F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32B-DCE6-4CE1-80D6-48224263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9A1-88F9-45B4-9872-FCFA1602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213-B61E-474A-ABA0-9C200D0F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46A-D96D-47D5-8BB2-1998A266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B30-1400-4221-B75F-E61081BD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3FA-8FD7-4BFA-A83B-1C25FC2D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B10-8927-420A-9049-DDBAF47F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2C7-37AE-4E68-9DCC-05263B5F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20D-F416-4607-A8FD-E54698D0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48E-91B9-475C-B3D9-31A7D14D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178C-1C45-4929-A903-5127842A96F9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рет Алиса Иванов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одилась 15 апреля 1902 г. в г. Санкт-Петербурге. Училась в 1911-18 гг. в училище Святой Анны. В 1920 г. поступила в Художественно-промышленный техникум в Петрограде, откуда в 1921 г. была переведена в ВХУТЕЙН. Иллюстрацией детских книг и журналов увлеклась в 1925 г. А.И. Порет известна по иллюстрациям к первому изданию «Винни Пуха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4248000" cy="3189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2627280" y="419040"/>
            <a:ext cx="5905440" cy="443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465120" y="404640"/>
            <a:ext cx="2054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4890960" cy="3672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2933640" cy="2201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68360" y="4251240"/>
            <a:ext cx="2933640" cy="2202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4"/>
          <a:stretch/>
        </p:blipFill>
        <p:spPr>
          <a:xfrm>
            <a:off x="3564000" y="4241880"/>
            <a:ext cx="294624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зелян Ольга Владимиров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одилась 4 апреля 1979 г. в семье потомственных художников. В 2004 г. закончила факультет книжной графики МГХАИ имени В.И.Сурикова. Училась у художников: В.И. Панова, Ю.В. Иванова, Г.А. Мазурин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мой взгляд, её иллюстрации слишком яркие. Животные-персонажи практически во всех рисунках слишком приближены к людям (копируют людей). Для более старшего возраста её иллюстрации к книгам мне понравились больш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1904760" cy="2523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987640" y="476280"/>
            <a:ext cx="1905120" cy="261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3348000" y="321300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4"/>
          <a:stretch/>
        </p:blipFill>
        <p:spPr>
          <a:xfrm>
            <a:off x="6659640" y="3213000"/>
            <a:ext cx="1428840" cy="1914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500781"/>
          <p:cNvPicPr/>
          <p:nvPr/>
        </p:nvPicPr>
        <p:blipFill>
          <a:blip r:embed="rId5"/>
          <a:stretch/>
        </p:blipFill>
        <p:spPr>
          <a:xfrm>
            <a:off x="826920" y="3213000"/>
            <a:ext cx="2449800" cy="2449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500781"/>
          <p:cNvPicPr/>
          <p:nvPr/>
        </p:nvPicPr>
        <p:blipFill>
          <a:blip r:embed="rId6"/>
          <a:stretch/>
        </p:blipFill>
        <p:spPr>
          <a:xfrm>
            <a:off x="5148360" y="54936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Агния Барто - Игрушки обложка книги"/>
          <p:cNvPicPr/>
          <p:nvPr/>
        </p:nvPicPr>
        <p:blipFill>
          <a:blip r:embed="rId7"/>
          <a:stretch/>
        </p:blipFill>
        <p:spPr>
          <a:xfrm>
            <a:off x="4932360" y="3213000"/>
            <a:ext cx="153504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авлова Ксения Андреев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одилась в Риге в 1975 г., в семье художников. С детских лет наблюдала, как создают свои работы художники-иллюстраторы деда М.М.Карпенко и мама Людмила Карпенко. Закончила Московский академический художественный лицей. С 1995 года работает в книжной иллюстрации. Член Московского союза художников. Живет и работает в Москв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Иллюстрации этого художника действительно потрясающие, происходит эффект полного погружения. У некоторых животных изображены эмоции – но как гармоничн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00440" y="3409920"/>
            <a:ext cx="367344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376200" y="3300480"/>
            <a:ext cx="3998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395280" y="743040"/>
            <a:ext cx="4032360" cy="2685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4572000" y="765000"/>
            <a:ext cx="3960720" cy="2640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4032360" cy="2686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4"/>
          <a:stretch/>
        </p:blipFill>
        <p:spPr>
          <a:xfrm>
            <a:off x="4572000" y="3527280"/>
            <a:ext cx="396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400" y="3573000"/>
            <a:ext cx="822636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зентацию подготовила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зьмина Эльвира Евгеньевн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016 го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2636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.Порет внимательно читала произведение и тут же его рисовала. Поэтому рисунки и рассказы составляют единое цело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2689200" cy="3784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261120" y="2060640"/>
            <a:ext cx="2487600" cy="425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3348000" y="2565360"/>
            <a:ext cx="272412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684360" y="6308640"/>
            <a:ext cx="828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ини Пух в её рисунках набит опилкам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249800" cy="278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179280" y="3546360"/>
            <a:ext cx="4248360" cy="278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4572000" y="3500280"/>
            <a:ext cx="205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4"/>
          <a:stretch/>
        </p:blipFill>
        <p:spPr>
          <a:xfrm>
            <a:off x="4552920" y="62064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6804000" y="620640"/>
            <a:ext cx="2081160" cy="277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6"/>
          <a:stretch/>
        </p:blipFill>
        <p:spPr>
          <a:xfrm>
            <a:off x="6804000" y="3500280"/>
            <a:ext cx="214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азанова Елена Серафимов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400" y="1413000"/>
            <a:ext cx="822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одилась 16 ноября 1968 г. в г.Сланцы Ленинградской области. В 1986 г. окончила Среднюю художественную школу при Академии художеств, в 1992-м году мастерскую книжной графики Академии художеств. С 1996 г. иллюстрирует издания для детей. Книжная графика её основная ипостась. Елена Серафимовна в своих рисунках старается отразить мысль и характер книг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Иллюстрация 1 из 19 для Лесные скороговорки - Татьяна Павлова-Зеленская | Лабиринт - книги. Источник: Лабиринт"/>
          <p:cNvPicPr/>
          <p:nvPr/>
        </p:nvPicPr>
        <p:blipFill>
          <a:blip r:embed="rId1"/>
          <a:stretch/>
        </p:blipFill>
        <p:spPr>
          <a:xfrm>
            <a:off x="468360" y="549360"/>
            <a:ext cx="3803760" cy="2533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Иллюстрация 2 из 19 для Лесные скороговорки - Татьяна Павлова-Зеленская | Лабиринт - книги. Источник: Лабиринт"/>
          <p:cNvPicPr/>
          <p:nvPr/>
        </p:nvPicPr>
        <p:blipFill>
          <a:blip r:embed="rId2"/>
          <a:stretch/>
        </p:blipFill>
        <p:spPr>
          <a:xfrm>
            <a:off x="4788000" y="549360"/>
            <a:ext cx="3792600" cy="252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Иллюстрация 3 из 19 для Лесные скороговорки - Татьяна Павлова-Зеленская | Лабиринт - книги. Источник: Лабиринт"/>
          <p:cNvPicPr/>
          <p:nvPr/>
        </p:nvPicPr>
        <p:blipFill>
          <a:blip r:embed="rId3"/>
          <a:stretch/>
        </p:blipFill>
        <p:spPr>
          <a:xfrm>
            <a:off x="468360" y="3357720"/>
            <a:ext cx="3806640" cy="2536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Иллюстрация 4 из 19 для Лесные скороговорки - Татьяна Павлова-Зеленская | Лабиринт - книги. Источник: Лабиринт"/>
          <p:cNvPicPr/>
          <p:nvPr/>
        </p:nvPicPr>
        <p:blipFill>
          <a:blip r:embed="rId4"/>
          <a:stretch/>
        </p:blipFill>
        <p:spPr>
          <a:xfrm>
            <a:off x="4788000" y="3357720"/>
            <a:ext cx="380664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Иллюстрация 18 из 19 для Лесные скороговорки - Татьяна Павлова-Зеленская | Лабиринт - книги. Источник: Jebb"/>
          <p:cNvPicPr/>
          <p:nvPr/>
        </p:nvPicPr>
        <p:blipFill>
          <a:blip r:embed="rId1"/>
          <a:stretch/>
        </p:blipFill>
        <p:spPr>
          <a:xfrm>
            <a:off x="4788000" y="981000"/>
            <a:ext cx="3811320" cy="252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Иллюстрация 19 из 19 для Лесные скороговорки - Татьяна Павлова-Зеленская | Лабиринт - книги. Источник: Jebb"/>
          <p:cNvPicPr/>
          <p:nvPr/>
        </p:nvPicPr>
        <p:blipFill>
          <a:blip r:embed="rId2"/>
          <a:stretch/>
        </p:blipFill>
        <p:spPr>
          <a:xfrm>
            <a:off x="4788000" y="3789360"/>
            <a:ext cx="3811320" cy="252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Иллюстрация 4 из 27 для Сороконожкины скороговорки - Татьяна Павлова-Зеленская | Лабиринт - книги. Источник: Пирогова  Ольга"/>
          <p:cNvPicPr/>
          <p:nvPr/>
        </p:nvPicPr>
        <p:blipFill>
          <a:blip r:embed="rId3"/>
          <a:stretch/>
        </p:blipFill>
        <p:spPr>
          <a:xfrm>
            <a:off x="684360" y="3573360"/>
            <a:ext cx="3527280" cy="2768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Иллюстрация 1 из 15 для Егоркины скороговорки - Татьяна Павлова-Зеленская | Лабиринт - книги. Источник: Лабиринт"/>
          <p:cNvPicPr/>
          <p:nvPr/>
        </p:nvPicPr>
        <p:blipFill>
          <a:blip r:embed="rId4"/>
          <a:stretch/>
        </p:blipFill>
        <p:spPr>
          <a:xfrm>
            <a:off x="684360" y="907920"/>
            <a:ext cx="38066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725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Бугославская Надежда Владимиров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одилась 2 июня 1967 г. Закончила Московский государственный академический художественный институт имени В.И.Сурикова в 1991 г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Художник-иллюстратор в издательствах Дрофа, Махаон. Создаёт добрые и красивые иллюстрации ко многим детским книгам: стихотворения Бориса Захадера, произведения С.Михалкова, Даниила Хармса и т.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900600" cy="29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190476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6489720" y="404640"/>
            <a:ext cx="1851120" cy="2737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4"/>
          <a:stretch/>
        </p:blipFill>
        <p:spPr>
          <a:xfrm>
            <a:off x="539640" y="3357720"/>
            <a:ext cx="1881360" cy="2614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5"/>
          <a:stretch/>
        </p:blipFill>
        <p:spPr>
          <a:xfrm>
            <a:off x="2519280" y="3357720"/>
            <a:ext cx="2014560" cy="259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6"/>
          <a:stretch/>
        </p:blipFill>
        <p:spPr>
          <a:xfrm>
            <a:off x="4572000" y="3357720"/>
            <a:ext cx="2127240" cy="259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7"/>
          <a:stretch/>
        </p:blipFill>
        <p:spPr>
          <a:xfrm>
            <a:off x="6826320" y="3357720"/>
            <a:ext cx="21366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наит Гардя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286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одилась 12 декабря 1967 г. в городе Ереван. Училась в Армянском педагогическом институте (1987-1992 г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аботала на киностудии «Арменфильм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ейчас живет и работает в Москв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08000" y="4076640"/>
            <a:ext cx="1562040" cy="232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1692360" y="4076640"/>
            <a:ext cx="1752480" cy="2309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3"/>
          <a:stretch/>
        </p:blipFill>
        <p:spPr>
          <a:xfrm>
            <a:off x="3492360" y="4076640"/>
            <a:ext cx="1756080" cy="227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4"/>
          <a:stretch/>
        </p:blipFill>
        <p:spPr>
          <a:xfrm>
            <a:off x="5292720" y="4076640"/>
            <a:ext cx="1905120" cy="226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5"/>
          <a:stretch/>
        </p:blipFill>
        <p:spPr>
          <a:xfrm>
            <a:off x="7236000" y="4076640"/>
            <a:ext cx="1825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13:07:58Z</dcterms:created>
  <dc:creator>User</dc:creator>
  <dc:description/>
  <dc:language>en-US</dc:language>
  <cp:lastModifiedBy>User</cp:lastModifiedBy>
  <dcterms:modified xsi:type="dcterms:W3CDTF">2019-12-29T19:31:41Z</dcterms:modified>
  <cp:revision>18</cp:revision>
  <dc:subject/>
  <dc:title>Современные иллюстрации книг для малышей:</dc:title>
</cp:coreProperties>
</file>