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812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1FD-883A-4FD3-959C-D2891B20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91440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14760"/>
            <a:ext cx="91440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5DD-495E-44E2-B381-305E1DF7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8219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147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5147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BED-0C26-4FB2-956B-E9151CAF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29440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821960"/>
            <a:ext cx="29440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821960"/>
            <a:ext cx="29440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14760"/>
            <a:ext cx="29440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514760"/>
            <a:ext cx="29440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514760"/>
            <a:ext cx="29440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520-9368-4A3E-9F14-B633C340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21960"/>
            <a:ext cx="91440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D56-7F0A-4086-9A4E-48C970E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91440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850-0FCF-43BD-BB85-48CFE4EF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44622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821960"/>
            <a:ext cx="44622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9EC-7672-486A-A36B-562080A8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4CA-551C-4542-A441-A2487BD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12840"/>
            <a:ext cx="91440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7BA-B1BB-4DF2-8B0F-63724213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821960"/>
            <a:ext cx="44622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147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BD9-4100-4C62-8D52-9656D1D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44622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8219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5147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30A-8A98-4FB9-A2E9-F8B29D77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219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821960"/>
            <a:ext cx="44622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14760"/>
            <a:ext cx="914400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8A7-B57E-49D2-B9E4-FA7B823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1284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821960"/>
            <a:ext cx="91440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238880"/>
            <a:ext cx="237024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238880"/>
            <a:ext cx="321624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238880"/>
            <a:ext cx="237024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8509-6610-4E1A-A162-1F9DC3CB1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357200" y="2359080"/>
            <a:ext cx="760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mic Sans MS - 36"/>
              </a:rPr>
              <a:t>ОДЕНЕМ КУКЛУ НА ПРОГУЛ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958880" y="62085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ова С.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онидова Т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36120" y="409248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дактическая игра в 1 младшей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57200" y="2359080"/>
            <a:ext cx="760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 - 36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540160" y="3027240"/>
            <a:ext cx="50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yandex.ru/video/preview/?filmId=18339896603557284018&amp;text=%D0%97%D0%98%D0%9C%D0%9D%D0%AF%D0%AF+%D0%9F%D0%A0%D0%9E%D0%93%D0%A3%D0%9B%D0%9A%D0%90+%D0%9C%D0%A3%D0%9B%D0%AC%D0%A2%D0%A4%D0%98%D0%9B%D0%AC%D0%9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27720" y="2870280"/>
            <a:ext cx="1871640" cy="392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6918480" y="657360"/>
            <a:ext cx="1414440" cy="1992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2120760" y="4462560"/>
            <a:ext cx="1590840" cy="1917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5">
            <a:alphaModFix amt="0"/>
          </a:blip>
          <a:stretch/>
        </p:blipFill>
        <p:spPr>
          <a:xfrm rot="19482600">
            <a:off x="4484520" y="826560"/>
            <a:ext cx="1177920" cy="1054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7689960" y="5727600"/>
            <a:ext cx="13334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"/>
          <p:cNvPicPr/>
          <p:nvPr/>
        </p:nvPicPr>
        <p:blipFill>
          <a:blip r:embed="rId7">
            <a:alphaModFix amt="0"/>
          </a:blip>
          <a:stretch/>
        </p:blipFill>
        <p:spPr>
          <a:xfrm rot="1254000">
            <a:off x="6861240" y="5664240"/>
            <a:ext cx="1333440" cy="1108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8">
            <a:alphaModFix amt="0"/>
          </a:blip>
          <a:srcRect l="0" t="72334" r="0" b="0"/>
          <a:stretch/>
        </p:blipFill>
        <p:spPr>
          <a:xfrm rot="9328200">
            <a:off x="1917000" y="2557440"/>
            <a:ext cx="919080" cy="930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9">
            <a:alphaModFix amt="0"/>
          </a:blip>
          <a:stretch/>
        </p:blipFill>
        <p:spPr>
          <a:xfrm>
            <a:off x="985680" y="1222200"/>
            <a:ext cx="1916280" cy="1648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7329600" y="3056040"/>
            <a:ext cx="2214360" cy="2073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"/>
          <p:cNvPicPr/>
          <p:nvPr/>
        </p:nvPicPr>
        <p:blipFill>
          <a:blip r:embed="rId11">
            <a:alphaModFix amt="0"/>
          </a:blip>
          <a:stretch/>
        </p:blipFill>
        <p:spPr>
          <a:xfrm>
            <a:off x="615960" y="3373560"/>
            <a:ext cx="124308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"/>
          <p:cNvPicPr/>
          <p:nvPr/>
        </p:nvPicPr>
        <p:blipFill>
          <a:blip r:embed="rId12">
            <a:alphaModFix amt="0"/>
          </a:blip>
          <a:srcRect l="-12544" t="65642" r="24931" b="9764"/>
          <a:stretch/>
        </p:blipFill>
        <p:spPr>
          <a:xfrm rot="11497200">
            <a:off x="1541520" y="2841480"/>
            <a:ext cx="80496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4 0.06875 L 0.00594 0.18856 C 0.00594 0.24227 0.09772 0.30858 0.17261 0.30858 L 0.33912 0.30858 E">
                                      <p:cBhvr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8399E-006 7.16029E-007 L -0.28017 0.0002 E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27 3.62083E-006 L 0.02189 0.21867 E">
                                      <p:cBhvr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39 0.06977 C -0.07442 0.0777 -0.06535 0.08584 -0.06144 0.09581 C -0.05738 0.10679 -0.05534 0.11981 -0.05347 0.13283 C -0.05143 0.14585 -0.05347 0.15683 -0.05534 0.16884 C -0.05738 0.17982 -0.06035 0.19182 -0.06738 0.20179 C -0.07332 0.21176 -0.08333 0.21969 -0.09443 0.22579 C -0.10444 0.23169 -0.11632 0.23576 -0.12836 0.23779 C -0.1404 0.23983 -0.15243 0.23983 -0.16338 0.23779 C -0.17542 0.23576 -0.18636 0.23067 -0.19543 0.22274 C -0.20434 0.21583 -0.21232 0.20667 -0.21638 0.19569 C -0.22138 0.18572 -0.22342 0.17168 -0.22342 0.1607 C -0.22435 0.14971 -0.22342 0.1367 -0.21841 0.12571 C -0.21341 0.11574 -0.20434 0.10781 -0.19246 0.10374 C -0.18042 0.10069 -0.16838 0.10476 -0.16041 0.11168 C -0.15337 0.1188 -0.14837 0.12978 -0.14743 0.1428 C -0.14743 0.15582 -0.14837 0.16782 -0.15337 0.17779 C -0.15838 0.18775 -0.15744 0.18979 -0.17745 0.20281 C -0.19543 0.21684 -0.21341 0.21277 -0.22435 0.21379 C -0.23546 0.21379 -0.24437 0.20972 -0.25547 0.20586 C -0.26735 0.20077 -0.27736 0.19182 -0.28439 0.18369 C -0.29143 0.17575 -0.2944 0.16578 -0.29846 0.14971 C -0.30143 0.13385 -0.30143 0.12571 -0.30143 0.11371 C -0.30143 0.10171 -0.30143 0.08971 -0.30143 0.0777 E">
                                      <p:cBhvr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26 -0.01058 L 0.4126 -0.01058 E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14 0.00956 L 0.26814 0.25956 E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72 0.00244 L 0.36289 0.2738 E"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9T09:23:00Z</dcterms:created>
  <dc:creator>win7</dc:creator>
  <dc:description/>
  <dc:language>en-US</dc:language>
  <cp:lastModifiedBy>1</cp:lastModifiedBy>
  <dcterms:modified xsi:type="dcterms:W3CDTF">2019-12-30T03:48:14Z</dcterms:modified>
  <cp:revision>10</cp:revision>
  <dc:subject/>
  <dc:title>Презентация PowerPoint</dc:title>
</cp:coreProperties>
</file>