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diagrams/quickStyle3.xml" ContentType="application/vnd.openxmlformats-officedocument.drawingml.diagramStyle+xml"/>
  <Override PartName="/ppt/diagrams/colors2.xml" ContentType="application/vnd.openxmlformats-officedocument.drawingml.diagramColors+xml"/>
  <Override PartName="/ppt/diagrams/data3.xml" ContentType="application/vnd.openxmlformats-officedocument.drawingml.diagramData+xml"/>
  <Override PartName="/ppt/diagrams/drawing2.xml" ContentType="application/vnd.ms-office.drawingml.diagramDrawing+xml"/>
  <Override PartName="/ppt/diagrams/quickStyle2.xml" ContentType="application/vnd.openxmlformats-officedocument.drawingml.diagramStyle+xml"/>
  <Override PartName="/ppt/diagrams/colors1.xml" ContentType="application/vnd.openxmlformats-officedocument.drawingml.diagramColors+xml"/>
  <Override PartName="/ppt/diagrams/layout3.xml" ContentType="application/vnd.openxmlformats-officedocument.drawingml.diagramLayout+xml"/>
  <Override PartName="/ppt/diagrams/data2.xml" ContentType="application/vnd.openxmlformats-officedocument.drawingml.diagramData+xml"/>
  <Override PartName="/ppt/diagrams/drawing1.xml" ContentType="application/vnd.ms-office.drawingml.diagramDrawing+xml"/>
  <Override PartName="/ppt/diagrams/quickStyle1.xml" ContentType="application/vnd.openxmlformats-officedocument.drawingml.diagramStyle+xml"/>
  <Override PartName="/ppt/diagrams/layout1.xml" ContentType="application/vnd.openxmlformats-officedocument.drawingml.diagramLayout+xml"/>
  <Override PartName="/ppt/diagrams/layout2.xml" ContentType="application/vnd.openxmlformats-officedocument.drawingml.diagramLayout+xml"/>
  <Override PartName="/ppt/diagrams/drawing5.xml" ContentType="application/vnd.ms-office.drawingml.diagramDrawing+xml"/>
  <Override PartName="/ppt/diagrams/colors5.xml" ContentType="application/vnd.openxmlformats-officedocument.drawingml.diagramColors+xml"/>
  <Override PartName="/ppt/diagrams/data1.xml" ContentType="application/vnd.openxmlformats-officedocument.drawingml.diagramData+xml"/>
  <Override PartName="/ppt/diagrams/layout5.xml" ContentType="application/vnd.openxmlformats-officedocument.drawingml.diagramLayout+xml"/>
  <Override PartName="/ppt/diagrams/data4.xml" ContentType="application/vnd.openxmlformats-officedocument.drawingml.diagramData+xml"/>
  <Override PartName="/ppt/diagrams/data5.xml" ContentType="application/vnd.openxmlformats-officedocument.drawingml.diagramData+xml"/>
  <Override PartName="/ppt/diagrams/drawing4.xml" ContentType="application/vnd.ms-office.drawingml.diagramDrawing+xml"/>
  <Override PartName="/ppt/diagrams/quickStyle5.xml" ContentType="application/vnd.openxmlformats-officedocument.drawingml.diagramStyle+xml"/>
  <Override PartName="/ppt/diagrams/colors4.xml" ContentType="application/vnd.openxmlformats-officedocument.drawingml.diagramColors+xml"/>
  <Override PartName="/ppt/diagrams/layout4.xml" ContentType="application/vnd.openxmlformats-officedocument.drawingml.diagramLayout+xml"/>
  <Override PartName="/ppt/diagrams/drawing3.xml" ContentType="application/vnd.ms-office.drawingml.diagramDrawing+xml"/>
  <Override PartName="/ppt/diagrams/quickStyle4.xml" ContentType="application/vnd.openxmlformats-officedocument.drawingml.diagramStyle+xml"/>
  <Override PartName="/ppt/diagrams/colors3.xml" ContentType="application/vnd.openxmlformats-officedocument.drawingml.diagramColors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5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69A75C05-B7E1-4A65-AE46-32E3C87C40A7}" type="doc">
      <dgm:prSet loTypeId="urn:microsoft.com/office/officeart/2005/8/layout/hierarchy4" loCatId="relationship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3E87C8DA-7F5C-494C-A95B-3C9B9E847AFE}">
      <dgm:prSet phldrT="[Текст]"/>
      <dgm:spPr/>
      <dgm:t>
        <a:bodyPr/>
        <a:lstStyle/>
        <a:p>
          <a:r>
            <a:rPr lang="ru-RU" dirty="0" smtClean="0"/>
            <a:t>методы</a:t>
          </a:r>
          <a:endParaRPr lang="ru-RU" dirty="0"/>
        </a:p>
      </dgm:t>
    </dgm:pt>
    <dgm:pt modelId="{B0D96903-A6FB-48F2-BDE5-CAA8DA4EA006}" type="parTrans" cxnId="{EECC1B7C-5EF3-4103-9710-021076C687D7}">
      <dgm:prSet/>
      <dgm:spPr/>
      <dgm:t>
        <a:bodyPr/>
        <a:lstStyle/>
        <a:p>
          <a:endParaRPr lang="ru-RU"/>
        </a:p>
      </dgm:t>
    </dgm:pt>
    <dgm:pt modelId="{62E58A3C-48B3-4F6B-A238-ED63E61E8BBC}" type="sibTrans" cxnId="{EECC1B7C-5EF3-4103-9710-021076C687D7}">
      <dgm:prSet/>
      <dgm:spPr/>
      <dgm:t>
        <a:bodyPr/>
        <a:lstStyle/>
        <a:p>
          <a:endParaRPr lang="ru-RU"/>
        </a:p>
      </dgm:t>
    </dgm:pt>
    <dgm:pt modelId="{E8757F63-E746-4FE8-857E-47234E37B6AB}">
      <dgm:prSet phldrT="[Текст]"/>
      <dgm:spPr/>
      <dgm:t>
        <a:bodyPr/>
        <a:lstStyle/>
        <a:p>
          <a:r>
            <a:rPr lang="ru-RU" dirty="0" smtClean="0"/>
            <a:t>обеспечивающие</a:t>
          </a:r>
          <a:endParaRPr lang="ru-RU" dirty="0"/>
        </a:p>
      </dgm:t>
    </dgm:pt>
    <dgm:pt modelId="{C360A372-2F23-4A74-9FE2-F336DA065087}" type="parTrans" cxnId="{DDF24443-5119-45F5-B39F-4AE8BB798AAE}">
      <dgm:prSet/>
      <dgm:spPr/>
      <dgm:t>
        <a:bodyPr/>
        <a:lstStyle/>
        <a:p>
          <a:endParaRPr lang="ru-RU"/>
        </a:p>
      </dgm:t>
    </dgm:pt>
    <dgm:pt modelId="{8A381CFD-4904-4DBB-A2BF-B4D3002067AC}" type="sibTrans" cxnId="{DDF24443-5119-45F5-B39F-4AE8BB798AAE}">
      <dgm:prSet/>
      <dgm:spPr/>
      <dgm:t>
        <a:bodyPr/>
        <a:lstStyle/>
        <a:p>
          <a:endParaRPr lang="ru-RU"/>
        </a:p>
      </dgm:t>
    </dgm:pt>
    <dgm:pt modelId="{2CA9BB95-E884-4F7B-87A8-A3B1E6922594}">
      <dgm:prSet phldrT="[Текст]"/>
      <dgm:spPr/>
      <dgm:t>
        <a:bodyPr/>
        <a:lstStyle/>
        <a:p>
          <a:r>
            <a:rPr lang="ru-RU" dirty="0" smtClean="0"/>
            <a:t>реконструирующие</a:t>
          </a:r>
          <a:endParaRPr lang="ru-RU" dirty="0"/>
        </a:p>
      </dgm:t>
    </dgm:pt>
    <dgm:pt modelId="{F08E371C-0E9F-485B-9A67-FEA7A47CE7E9}" type="parTrans" cxnId="{7E7CD33D-E8A3-4DED-8A87-BB468F56F612}">
      <dgm:prSet/>
      <dgm:spPr/>
      <dgm:t>
        <a:bodyPr/>
        <a:lstStyle/>
        <a:p>
          <a:endParaRPr lang="ru-RU"/>
        </a:p>
      </dgm:t>
    </dgm:pt>
    <dgm:pt modelId="{15EDB025-0C77-4944-952B-8766804617BD}" type="sibTrans" cxnId="{7E7CD33D-E8A3-4DED-8A87-BB468F56F612}">
      <dgm:prSet/>
      <dgm:spPr/>
      <dgm:t>
        <a:bodyPr/>
        <a:lstStyle/>
        <a:p>
          <a:endParaRPr lang="ru-RU"/>
        </a:p>
      </dgm:t>
    </dgm:pt>
    <dgm:pt modelId="{D844DCC1-DB77-4342-A009-354ADEA654A1}">
      <dgm:prSet/>
      <dgm:spPr/>
      <dgm:t>
        <a:bodyPr/>
        <a:lstStyle/>
        <a:p>
          <a:r>
            <a:rPr lang="ru-RU" dirty="0" smtClean="0"/>
            <a:t>обеспечивают необходимые условия проведения образовательного процесса</a:t>
          </a:r>
          <a:endParaRPr lang="ru-RU" dirty="0"/>
        </a:p>
      </dgm:t>
    </dgm:pt>
    <dgm:pt modelId="{B1C2F460-3F31-4655-AAE5-9ACAF2580C83}" type="parTrans" cxnId="{D6E5750C-3137-41D1-B149-0BE0929C324E}">
      <dgm:prSet/>
      <dgm:spPr/>
      <dgm:t>
        <a:bodyPr/>
        <a:lstStyle/>
        <a:p>
          <a:endParaRPr lang="ru-RU"/>
        </a:p>
      </dgm:t>
    </dgm:pt>
    <dgm:pt modelId="{B67BE84F-E632-4274-8364-9AFE58BB70CD}" type="sibTrans" cxnId="{D6E5750C-3137-41D1-B149-0BE0929C324E}">
      <dgm:prSet/>
      <dgm:spPr/>
      <dgm:t>
        <a:bodyPr/>
        <a:lstStyle/>
        <a:p>
          <a:endParaRPr lang="ru-RU"/>
        </a:p>
      </dgm:t>
    </dgm:pt>
    <dgm:pt modelId="{48786A91-47E2-48B4-A1F8-09008682D6AC}">
      <dgm:prSet/>
      <dgm:spPr/>
      <dgm:t>
        <a:bodyPr/>
        <a:lstStyle/>
        <a:p>
          <a:r>
            <a:rPr lang="ru-RU" dirty="0" smtClean="0"/>
            <a:t>нацелены на привнесение новых элементов, условий, не предусмотренных нормативными актами</a:t>
          </a:r>
          <a:endParaRPr lang="ru-RU" dirty="0"/>
        </a:p>
      </dgm:t>
    </dgm:pt>
    <dgm:pt modelId="{19C688A6-A0E5-4392-916B-8C5282EA1AB6}" type="parTrans" cxnId="{31E29C45-B3E9-406C-B145-8D30AAE22401}">
      <dgm:prSet/>
      <dgm:spPr/>
      <dgm:t>
        <a:bodyPr/>
        <a:lstStyle/>
        <a:p>
          <a:endParaRPr lang="ru-RU"/>
        </a:p>
      </dgm:t>
    </dgm:pt>
    <dgm:pt modelId="{8B3217AD-0B52-4E47-B2C3-789709881950}" type="sibTrans" cxnId="{31E29C45-B3E9-406C-B145-8D30AAE22401}">
      <dgm:prSet/>
      <dgm:spPr/>
      <dgm:t>
        <a:bodyPr/>
        <a:lstStyle/>
        <a:p>
          <a:endParaRPr lang="ru-RU"/>
        </a:p>
      </dgm:t>
    </dgm:pt>
    <dgm:pt modelId="{CFDC7240-2312-40FC-920A-57A1F9217294}" type="pres">
      <dgm:prSet presAssocID="{69A75C05-B7E1-4A65-AE46-32E3C87C40A7}" presName="Name0" presStyleCnt="0">
        <dgm:presLayoutVars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C7E8795C-13AB-4CFA-B111-E6C2DF3A6D88}" type="pres">
      <dgm:prSet presAssocID="{3E87C8DA-7F5C-494C-A95B-3C9B9E847AFE}" presName="vertOne" presStyleCnt="0"/>
      <dgm:spPr/>
    </dgm:pt>
    <dgm:pt modelId="{7FA6B36B-CDA4-4296-AA98-FC190347C413}" type="pres">
      <dgm:prSet presAssocID="{3E87C8DA-7F5C-494C-A95B-3C9B9E847AFE}" presName="txOne" presStyleLbl="node0" presStyleIdx="0" presStyleCnt="1" custScaleY="76896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3989A066-F79B-44AC-ADEA-3ADD41E708C4}" type="pres">
      <dgm:prSet presAssocID="{3E87C8DA-7F5C-494C-A95B-3C9B9E847AFE}" presName="parTransOne" presStyleCnt="0"/>
      <dgm:spPr/>
    </dgm:pt>
    <dgm:pt modelId="{7859843A-8827-411F-B8BE-D929ADA5A554}" type="pres">
      <dgm:prSet presAssocID="{3E87C8DA-7F5C-494C-A95B-3C9B9E847AFE}" presName="horzOne" presStyleCnt="0"/>
      <dgm:spPr/>
    </dgm:pt>
    <dgm:pt modelId="{51A7A6CB-5AEA-440A-873E-5576767418D8}" type="pres">
      <dgm:prSet presAssocID="{E8757F63-E746-4FE8-857E-47234E37B6AB}" presName="vertTwo" presStyleCnt="0"/>
      <dgm:spPr/>
    </dgm:pt>
    <dgm:pt modelId="{8F35FC55-5B7C-44EE-AFFA-F14346811844}" type="pres">
      <dgm:prSet presAssocID="{E8757F63-E746-4FE8-857E-47234E37B6AB}" presName="txTwo" presStyleLbl="node2" presStyleIdx="0" presStyleCnt="2" custScaleX="97111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0CA057A2-3B5B-4F48-8190-492BDB048503}" type="pres">
      <dgm:prSet presAssocID="{E8757F63-E746-4FE8-857E-47234E37B6AB}" presName="parTransTwo" presStyleCnt="0"/>
      <dgm:spPr/>
    </dgm:pt>
    <dgm:pt modelId="{A9A96FFB-C911-41B9-8266-1B387F80D365}" type="pres">
      <dgm:prSet presAssocID="{E8757F63-E746-4FE8-857E-47234E37B6AB}" presName="horzTwo" presStyleCnt="0"/>
      <dgm:spPr/>
    </dgm:pt>
    <dgm:pt modelId="{5EA221B0-27C1-4FDD-AFD2-23E988BF777B}" type="pres">
      <dgm:prSet presAssocID="{D844DCC1-DB77-4342-A009-354ADEA654A1}" presName="vertThree" presStyleCnt="0"/>
      <dgm:spPr/>
    </dgm:pt>
    <dgm:pt modelId="{F4927228-FABF-4568-9A0A-9CBA97223526}" type="pres">
      <dgm:prSet presAssocID="{D844DCC1-DB77-4342-A009-354ADEA654A1}" presName="txThree" presStyleLbl="node3" presStyleIdx="0" presStyleCnt="2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D72FB5FD-4A44-42E5-A33C-5BB20C4C5AE5}" type="pres">
      <dgm:prSet presAssocID="{D844DCC1-DB77-4342-A009-354ADEA654A1}" presName="horzThree" presStyleCnt="0"/>
      <dgm:spPr/>
    </dgm:pt>
    <dgm:pt modelId="{A25099D2-AB20-4A70-8244-64F0AC3F04AA}" type="pres">
      <dgm:prSet presAssocID="{8A381CFD-4904-4DBB-A2BF-B4D3002067AC}" presName="sibSpaceTwo" presStyleCnt="0"/>
      <dgm:spPr/>
    </dgm:pt>
    <dgm:pt modelId="{412571E8-6053-497F-BA7D-1030269EA8D6}" type="pres">
      <dgm:prSet presAssocID="{2CA9BB95-E884-4F7B-87A8-A3B1E6922594}" presName="vertTwo" presStyleCnt="0"/>
      <dgm:spPr/>
    </dgm:pt>
    <dgm:pt modelId="{AD1F72D1-F0F3-4F91-85EC-FB6B9FEDF400}" type="pres">
      <dgm:prSet presAssocID="{2CA9BB95-E884-4F7B-87A8-A3B1E6922594}" presName="txTwo" presStyleLbl="node2" presStyleIdx="1" presStyleCnt="2" custScaleX="112364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69DF38E7-930F-4908-BDD0-ECA0AA2078C6}" type="pres">
      <dgm:prSet presAssocID="{2CA9BB95-E884-4F7B-87A8-A3B1E6922594}" presName="parTransTwo" presStyleCnt="0"/>
      <dgm:spPr/>
    </dgm:pt>
    <dgm:pt modelId="{0A4489A4-1B57-4767-802A-D55513F89309}" type="pres">
      <dgm:prSet presAssocID="{2CA9BB95-E884-4F7B-87A8-A3B1E6922594}" presName="horzTwo" presStyleCnt="0"/>
      <dgm:spPr/>
    </dgm:pt>
    <dgm:pt modelId="{6B86B7EC-4961-4CBC-AC68-8AB717752267}" type="pres">
      <dgm:prSet presAssocID="{48786A91-47E2-48B4-A1F8-09008682D6AC}" presName="vertThree" presStyleCnt="0"/>
      <dgm:spPr/>
    </dgm:pt>
    <dgm:pt modelId="{008B8549-7BCC-4EA9-9C2D-8974F0421DC9}" type="pres">
      <dgm:prSet presAssocID="{48786A91-47E2-48B4-A1F8-09008682D6AC}" presName="txThree" presStyleLbl="node3" presStyleIdx="1" presStyleCnt="2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D314583F-27EE-45B5-892E-D0A834B89399}" type="pres">
      <dgm:prSet presAssocID="{48786A91-47E2-48B4-A1F8-09008682D6AC}" presName="horzThree" presStyleCnt="0"/>
      <dgm:spPr/>
    </dgm:pt>
  </dgm:ptLst>
  <dgm:cxnLst>
    <dgm:cxn modelId="{917AE43A-5FF6-4A02-BBFA-8C7E56FD8EEC}" type="presOf" srcId="{D844DCC1-DB77-4342-A009-354ADEA654A1}" destId="{F4927228-FABF-4568-9A0A-9CBA97223526}" srcOrd="0" destOrd="0" presId="urn:microsoft.com/office/officeart/2005/8/layout/hierarchy4"/>
    <dgm:cxn modelId="{65503581-7FDC-4216-8C61-5F24684956E1}" type="presOf" srcId="{48786A91-47E2-48B4-A1F8-09008682D6AC}" destId="{008B8549-7BCC-4EA9-9C2D-8974F0421DC9}" srcOrd="0" destOrd="0" presId="urn:microsoft.com/office/officeart/2005/8/layout/hierarchy4"/>
    <dgm:cxn modelId="{31E29C45-B3E9-406C-B145-8D30AAE22401}" srcId="{2CA9BB95-E884-4F7B-87A8-A3B1E6922594}" destId="{48786A91-47E2-48B4-A1F8-09008682D6AC}" srcOrd="0" destOrd="0" parTransId="{19C688A6-A0E5-4392-916B-8C5282EA1AB6}" sibTransId="{8B3217AD-0B52-4E47-B2C3-789709881950}"/>
    <dgm:cxn modelId="{D6E5750C-3137-41D1-B149-0BE0929C324E}" srcId="{E8757F63-E746-4FE8-857E-47234E37B6AB}" destId="{D844DCC1-DB77-4342-A009-354ADEA654A1}" srcOrd="0" destOrd="0" parTransId="{B1C2F460-3F31-4655-AAE5-9ACAF2580C83}" sibTransId="{B67BE84F-E632-4274-8364-9AFE58BB70CD}"/>
    <dgm:cxn modelId="{EECC1B7C-5EF3-4103-9710-021076C687D7}" srcId="{69A75C05-B7E1-4A65-AE46-32E3C87C40A7}" destId="{3E87C8DA-7F5C-494C-A95B-3C9B9E847AFE}" srcOrd="0" destOrd="0" parTransId="{B0D96903-A6FB-48F2-BDE5-CAA8DA4EA006}" sibTransId="{62E58A3C-48B3-4F6B-A238-ED63E61E8BBC}"/>
    <dgm:cxn modelId="{3D78355A-5D86-403E-B7B0-9B83C4F59CD3}" type="presOf" srcId="{E8757F63-E746-4FE8-857E-47234E37B6AB}" destId="{8F35FC55-5B7C-44EE-AFFA-F14346811844}" srcOrd="0" destOrd="0" presId="urn:microsoft.com/office/officeart/2005/8/layout/hierarchy4"/>
    <dgm:cxn modelId="{7CC561A0-2CF3-4442-B1BA-D7F7F0DF9E83}" type="presOf" srcId="{2CA9BB95-E884-4F7B-87A8-A3B1E6922594}" destId="{AD1F72D1-F0F3-4F91-85EC-FB6B9FEDF400}" srcOrd="0" destOrd="0" presId="urn:microsoft.com/office/officeart/2005/8/layout/hierarchy4"/>
    <dgm:cxn modelId="{E2D842C2-0172-456F-9C3C-3CFC0CDF3DD2}" type="presOf" srcId="{69A75C05-B7E1-4A65-AE46-32E3C87C40A7}" destId="{CFDC7240-2312-40FC-920A-57A1F9217294}" srcOrd="0" destOrd="0" presId="urn:microsoft.com/office/officeart/2005/8/layout/hierarchy4"/>
    <dgm:cxn modelId="{7E7CD33D-E8A3-4DED-8A87-BB468F56F612}" srcId="{3E87C8DA-7F5C-494C-A95B-3C9B9E847AFE}" destId="{2CA9BB95-E884-4F7B-87A8-A3B1E6922594}" srcOrd="1" destOrd="0" parTransId="{F08E371C-0E9F-485B-9A67-FEA7A47CE7E9}" sibTransId="{15EDB025-0C77-4944-952B-8766804617BD}"/>
    <dgm:cxn modelId="{BC45FF88-A0D9-4F13-B214-BFDCBC3F3C1F}" type="presOf" srcId="{3E87C8DA-7F5C-494C-A95B-3C9B9E847AFE}" destId="{7FA6B36B-CDA4-4296-AA98-FC190347C413}" srcOrd="0" destOrd="0" presId="urn:microsoft.com/office/officeart/2005/8/layout/hierarchy4"/>
    <dgm:cxn modelId="{DDF24443-5119-45F5-B39F-4AE8BB798AAE}" srcId="{3E87C8DA-7F5C-494C-A95B-3C9B9E847AFE}" destId="{E8757F63-E746-4FE8-857E-47234E37B6AB}" srcOrd="0" destOrd="0" parTransId="{C360A372-2F23-4A74-9FE2-F336DA065087}" sibTransId="{8A381CFD-4904-4DBB-A2BF-B4D3002067AC}"/>
    <dgm:cxn modelId="{CFCBB9A2-834A-4178-80DE-45C2CE415E4B}" type="presParOf" srcId="{CFDC7240-2312-40FC-920A-57A1F9217294}" destId="{C7E8795C-13AB-4CFA-B111-E6C2DF3A6D88}" srcOrd="0" destOrd="0" presId="urn:microsoft.com/office/officeart/2005/8/layout/hierarchy4"/>
    <dgm:cxn modelId="{5EB6FD7C-4A48-45BE-99D0-4567371236CC}" type="presParOf" srcId="{C7E8795C-13AB-4CFA-B111-E6C2DF3A6D88}" destId="{7FA6B36B-CDA4-4296-AA98-FC190347C413}" srcOrd="0" destOrd="0" presId="urn:microsoft.com/office/officeart/2005/8/layout/hierarchy4"/>
    <dgm:cxn modelId="{0EE02225-9F70-4540-A12D-B11A1F9C8495}" type="presParOf" srcId="{C7E8795C-13AB-4CFA-B111-E6C2DF3A6D88}" destId="{3989A066-F79B-44AC-ADEA-3ADD41E708C4}" srcOrd="1" destOrd="0" presId="urn:microsoft.com/office/officeart/2005/8/layout/hierarchy4"/>
    <dgm:cxn modelId="{563EB8FD-9974-42DA-ADF2-B53E93338B9E}" type="presParOf" srcId="{C7E8795C-13AB-4CFA-B111-E6C2DF3A6D88}" destId="{7859843A-8827-411F-B8BE-D929ADA5A554}" srcOrd="2" destOrd="0" presId="urn:microsoft.com/office/officeart/2005/8/layout/hierarchy4"/>
    <dgm:cxn modelId="{CF5E78DA-2860-401C-ABE6-B3D60C8AB305}" type="presParOf" srcId="{7859843A-8827-411F-B8BE-D929ADA5A554}" destId="{51A7A6CB-5AEA-440A-873E-5576767418D8}" srcOrd="0" destOrd="0" presId="urn:microsoft.com/office/officeart/2005/8/layout/hierarchy4"/>
    <dgm:cxn modelId="{E458E08A-82C4-4F38-9968-8FEF43194E86}" type="presParOf" srcId="{51A7A6CB-5AEA-440A-873E-5576767418D8}" destId="{8F35FC55-5B7C-44EE-AFFA-F14346811844}" srcOrd="0" destOrd="0" presId="urn:microsoft.com/office/officeart/2005/8/layout/hierarchy4"/>
    <dgm:cxn modelId="{711A3BF7-FE8B-4E0D-89EE-2141BCE3202D}" type="presParOf" srcId="{51A7A6CB-5AEA-440A-873E-5576767418D8}" destId="{0CA057A2-3B5B-4F48-8190-492BDB048503}" srcOrd="1" destOrd="0" presId="urn:microsoft.com/office/officeart/2005/8/layout/hierarchy4"/>
    <dgm:cxn modelId="{32FB5E27-0181-47B5-B87A-08A5294F244B}" type="presParOf" srcId="{51A7A6CB-5AEA-440A-873E-5576767418D8}" destId="{A9A96FFB-C911-41B9-8266-1B387F80D365}" srcOrd="2" destOrd="0" presId="urn:microsoft.com/office/officeart/2005/8/layout/hierarchy4"/>
    <dgm:cxn modelId="{34817622-7196-4ADF-80A2-392894A2F770}" type="presParOf" srcId="{A9A96FFB-C911-41B9-8266-1B387F80D365}" destId="{5EA221B0-27C1-4FDD-AFD2-23E988BF777B}" srcOrd="0" destOrd="0" presId="urn:microsoft.com/office/officeart/2005/8/layout/hierarchy4"/>
    <dgm:cxn modelId="{AF0AA065-9CD1-4FD1-A02D-926E73A9C8FC}" type="presParOf" srcId="{5EA221B0-27C1-4FDD-AFD2-23E988BF777B}" destId="{F4927228-FABF-4568-9A0A-9CBA97223526}" srcOrd="0" destOrd="0" presId="urn:microsoft.com/office/officeart/2005/8/layout/hierarchy4"/>
    <dgm:cxn modelId="{65EAB1A3-1D49-4EAC-9570-4CD441C2AA75}" type="presParOf" srcId="{5EA221B0-27C1-4FDD-AFD2-23E988BF777B}" destId="{D72FB5FD-4A44-42E5-A33C-5BB20C4C5AE5}" srcOrd="1" destOrd="0" presId="urn:microsoft.com/office/officeart/2005/8/layout/hierarchy4"/>
    <dgm:cxn modelId="{FF77A8D5-DD8E-4418-BA2E-774D5DE287F2}" type="presParOf" srcId="{7859843A-8827-411F-B8BE-D929ADA5A554}" destId="{A25099D2-AB20-4A70-8244-64F0AC3F04AA}" srcOrd="1" destOrd="0" presId="urn:microsoft.com/office/officeart/2005/8/layout/hierarchy4"/>
    <dgm:cxn modelId="{44ADABCF-AB28-4204-927A-5BE228D798F1}" type="presParOf" srcId="{7859843A-8827-411F-B8BE-D929ADA5A554}" destId="{412571E8-6053-497F-BA7D-1030269EA8D6}" srcOrd="2" destOrd="0" presId="urn:microsoft.com/office/officeart/2005/8/layout/hierarchy4"/>
    <dgm:cxn modelId="{D8E898E7-8E4C-44F2-A434-1DA6027CF23A}" type="presParOf" srcId="{412571E8-6053-497F-BA7D-1030269EA8D6}" destId="{AD1F72D1-F0F3-4F91-85EC-FB6B9FEDF400}" srcOrd="0" destOrd="0" presId="urn:microsoft.com/office/officeart/2005/8/layout/hierarchy4"/>
    <dgm:cxn modelId="{A01C8148-6DEF-4BCD-A04A-27EC86579989}" type="presParOf" srcId="{412571E8-6053-497F-BA7D-1030269EA8D6}" destId="{69DF38E7-930F-4908-BDD0-ECA0AA2078C6}" srcOrd="1" destOrd="0" presId="urn:microsoft.com/office/officeart/2005/8/layout/hierarchy4"/>
    <dgm:cxn modelId="{C0C00519-CE7E-4CDB-92C5-7725AA4AAF28}" type="presParOf" srcId="{412571E8-6053-497F-BA7D-1030269EA8D6}" destId="{0A4489A4-1B57-4767-802A-D55513F89309}" srcOrd="2" destOrd="0" presId="urn:microsoft.com/office/officeart/2005/8/layout/hierarchy4"/>
    <dgm:cxn modelId="{C27A302D-5CC5-4321-8713-4BD3A12C5DA6}" type="presParOf" srcId="{0A4489A4-1B57-4767-802A-D55513F89309}" destId="{6B86B7EC-4961-4CBC-AC68-8AB717752267}" srcOrd="0" destOrd="0" presId="urn:microsoft.com/office/officeart/2005/8/layout/hierarchy4"/>
    <dgm:cxn modelId="{FC3CB4FE-05EA-47B6-84F8-924479CFB1CD}" type="presParOf" srcId="{6B86B7EC-4961-4CBC-AC68-8AB717752267}" destId="{008B8549-7BCC-4EA9-9C2D-8974F0421DC9}" srcOrd="0" destOrd="0" presId="urn:microsoft.com/office/officeart/2005/8/layout/hierarchy4"/>
    <dgm:cxn modelId="{557A1371-0B66-4399-8234-08301CFBF39C}" type="presParOf" srcId="{6B86B7EC-4961-4CBC-AC68-8AB717752267}" destId="{D314583F-27EE-45B5-892E-D0A834B89399}" srcOrd="1" destOrd="0" presId="urn:microsoft.com/office/officeart/2005/8/layout/hierarchy4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69A75C05-B7E1-4A65-AE46-32E3C87C40A7}" type="doc">
      <dgm:prSet loTypeId="urn:microsoft.com/office/officeart/2005/8/layout/hierarchy4" loCatId="relationship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3E87C8DA-7F5C-494C-A95B-3C9B9E847AFE}">
      <dgm:prSet phldrT="[Текст]"/>
      <dgm:spPr/>
      <dgm:t>
        <a:bodyPr/>
        <a:lstStyle/>
        <a:p>
          <a:r>
            <a:rPr lang="ru-RU" dirty="0" smtClean="0"/>
            <a:t>методы</a:t>
          </a:r>
          <a:endParaRPr lang="ru-RU" dirty="0"/>
        </a:p>
      </dgm:t>
    </dgm:pt>
    <dgm:pt modelId="{B0D96903-A6FB-48F2-BDE5-CAA8DA4EA006}" type="parTrans" cxnId="{EECC1B7C-5EF3-4103-9710-021076C687D7}">
      <dgm:prSet/>
      <dgm:spPr/>
      <dgm:t>
        <a:bodyPr/>
        <a:lstStyle/>
        <a:p>
          <a:endParaRPr lang="ru-RU"/>
        </a:p>
      </dgm:t>
    </dgm:pt>
    <dgm:pt modelId="{62E58A3C-48B3-4F6B-A238-ED63E61E8BBC}" type="sibTrans" cxnId="{EECC1B7C-5EF3-4103-9710-021076C687D7}">
      <dgm:prSet/>
      <dgm:spPr/>
      <dgm:t>
        <a:bodyPr/>
        <a:lstStyle/>
        <a:p>
          <a:endParaRPr lang="ru-RU"/>
        </a:p>
      </dgm:t>
    </dgm:pt>
    <dgm:pt modelId="{E8757F63-E746-4FE8-857E-47234E37B6AB}">
      <dgm:prSet phldrT="[Текст]"/>
      <dgm:spPr/>
      <dgm:t>
        <a:bodyPr/>
        <a:lstStyle/>
        <a:p>
          <a:r>
            <a:rPr lang="ru-RU" dirty="0" smtClean="0"/>
            <a:t>специфические</a:t>
          </a:r>
          <a:endParaRPr lang="ru-RU" dirty="0"/>
        </a:p>
      </dgm:t>
    </dgm:pt>
    <dgm:pt modelId="{C360A372-2F23-4A74-9FE2-F336DA065087}" type="parTrans" cxnId="{DDF24443-5119-45F5-B39F-4AE8BB798AAE}">
      <dgm:prSet/>
      <dgm:spPr/>
      <dgm:t>
        <a:bodyPr/>
        <a:lstStyle/>
        <a:p>
          <a:endParaRPr lang="ru-RU"/>
        </a:p>
      </dgm:t>
    </dgm:pt>
    <dgm:pt modelId="{8A381CFD-4904-4DBB-A2BF-B4D3002067AC}" type="sibTrans" cxnId="{DDF24443-5119-45F5-B39F-4AE8BB798AAE}">
      <dgm:prSet/>
      <dgm:spPr/>
      <dgm:t>
        <a:bodyPr/>
        <a:lstStyle/>
        <a:p>
          <a:endParaRPr lang="ru-RU"/>
        </a:p>
      </dgm:t>
    </dgm:pt>
    <dgm:pt modelId="{2CA9BB95-E884-4F7B-87A8-A3B1E6922594}">
      <dgm:prSet phldrT="[Текст]"/>
      <dgm:spPr/>
      <dgm:t>
        <a:bodyPr/>
        <a:lstStyle/>
        <a:p>
          <a:r>
            <a:rPr lang="ru-RU" dirty="0" smtClean="0"/>
            <a:t>общепедагогические</a:t>
          </a:r>
          <a:endParaRPr lang="ru-RU" dirty="0"/>
        </a:p>
      </dgm:t>
    </dgm:pt>
    <dgm:pt modelId="{F08E371C-0E9F-485B-9A67-FEA7A47CE7E9}" type="parTrans" cxnId="{7E7CD33D-E8A3-4DED-8A87-BB468F56F612}">
      <dgm:prSet/>
      <dgm:spPr/>
      <dgm:t>
        <a:bodyPr/>
        <a:lstStyle/>
        <a:p>
          <a:endParaRPr lang="ru-RU"/>
        </a:p>
      </dgm:t>
    </dgm:pt>
    <dgm:pt modelId="{15EDB025-0C77-4944-952B-8766804617BD}" type="sibTrans" cxnId="{7E7CD33D-E8A3-4DED-8A87-BB468F56F612}">
      <dgm:prSet/>
      <dgm:spPr/>
      <dgm:t>
        <a:bodyPr/>
        <a:lstStyle/>
        <a:p>
          <a:endParaRPr lang="ru-RU"/>
        </a:p>
      </dgm:t>
    </dgm:pt>
    <dgm:pt modelId="{A16BB649-F065-4E2B-84EC-757BB6D4839B}">
      <dgm:prSet/>
      <dgm:spPr/>
      <dgm:t>
        <a:bodyPr/>
        <a:lstStyle/>
        <a:p>
          <a:r>
            <a:rPr lang="ru-RU" dirty="0" smtClean="0"/>
            <a:t>характерные только для процесса    педагогики    оздоровления</a:t>
          </a:r>
          <a:endParaRPr lang="ru-RU" dirty="0"/>
        </a:p>
      </dgm:t>
    </dgm:pt>
    <dgm:pt modelId="{751BD268-4440-41D5-A00E-4E2C350F9340}" type="parTrans" cxnId="{2ABBBCE7-72D6-4A06-AFD1-9874AE162ECC}">
      <dgm:prSet/>
      <dgm:spPr/>
      <dgm:t>
        <a:bodyPr/>
        <a:lstStyle/>
        <a:p>
          <a:endParaRPr lang="ru-RU"/>
        </a:p>
      </dgm:t>
    </dgm:pt>
    <dgm:pt modelId="{40A6D6EE-71FF-4648-BCAA-DB6BE60D5D6B}" type="sibTrans" cxnId="{2ABBBCE7-72D6-4A06-AFD1-9874AE162ECC}">
      <dgm:prSet/>
      <dgm:spPr/>
      <dgm:t>
        <a:bodyPr/>
        <a:lstStyle/>
        <a:p>
          <a:endParaRPr lang="ru-RU"/>
        </a:p>
      </dgm:t>
    </dgm:pt>
    <dgm:pt modelId="{EE53FC74-DE51-4E44-8E7B-7215D0AE2498}">
      <dgm:prSet/>
      <dgm:spPr/>
      <dgm:t>
        <a:bodyPr/>
        <a:lstStyle/>
        <a:p>
          <a:r>
            <a:rPr lang="ru-RU" smtClean="0"/>
            <a:t>применяемые во   всех  случаях       обучения и  воспитания</a:t>
          </a:r>
          <a:endParaRPr lang="ru-RU"/>
        </a:p>
      </dgm:t>
    </dgm:pt>
    <dgm:pt modelId="{7425EE39-DD28-4DAF-9C5F-C9579FC3FFEA}" type="parTrans" cxnId="{8DE13CFC-88E7-45E4-ACD4-55F35B3438EF}">
      <dgm:prSet/>
      <dgm:spPr/>
      <dgm:t>
        <a:bodyPr/>
        <a:lstStyle/>
        <a:p>
          <a:endParaRPr lang="ru-RU"/>
        </a:p>
      </dgm:t>
    </dgm:pt>
    <dgm:pt modelId="{F8B43427-6A58-4DE0-9C20-2FE0911E62BA}" type="sibTrans" cxnId="{8DE13CFC-88E7-45E4-ACD4-55F35B3438EF}">
      <dgm:prSet/>
      <dgm:spPr/>
      <dgm:t>
        <a:bodyPr/>
        <a:lstStyle/>
        <a:p>
          <a:endParaRPr lang="ru-RU"/>
        </a:p>
      </dgm:t>
    </dgm:pt>
    <dgm:pt modelId="{CFDC7240-2312-40FC-920A-57A1F9217294}" type="pres">
      <dgm:prSet presAssocID="{69A75C05-B7E1-4A65-AE46-32E3C87C40A7}" presName="Name0" presStyleCnt="0">
        <dgm:presLayoutVars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C7E8795C-13AB-4CFA-B111-E6C2DF3A6D88}" type="pres">
      <dgm:prSet presAssocID="{3E87C8DA-7F5C-494C-A95B-3C9B9E847AFE}" presName="vertOne" presStyleCnt="0"/>
      <dgm:spPr/>
    </dgm:pt>
    <dgm:pt modelId="{7FA6B36B-CDA4-4296-AA98-FC190347C413}" type="pres">
      <dgm:prSet presAssocID="{3E87C8DA-7F5C-494C-A95B-3C9B9E847AFE}" presName="txOne" presStyleLbl="node0" presStyleIdx="0" presStyleCnt="1" custScaleY="76896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3989A066-F79B-44AC-ADEA-3ADD41E708C4}" type="pres">
      <dgm:prSet presAssocID="{3E87C8DA-7F5C-494C-A95B-3C9B9E847AFE}" presName="parTransOne" presStyleCnt="0"/>
      <dgm:spPr/>
    </dgm:pt>
    <dgm:pt modelId="{7859843A-8827-411F-B8BE-D929ADA5A554}" type="pres">
      <dgm:prSet presAssocID="{3E87C8DA-7F5C-494C-A95B-3C9B9E847AFE}" presName="horzOne" presStyleCnt="0"/>
      <dgm:spPr/>
    </dgm:pt>
    <dgm:pt modelId="{51A7A6CB-5AEA-440A-873E-5576767418D8}" type="pres">
      <dgm:prSet presAssocID="{E8757F63-E746-4FE8-857E-47234E37B6AB}" presName="vertTwo" presStyleCnt="0"/>
      <dgm:spPr/>
    </dgm:pt>
    <dgm:pt modelId="{8F35FC55-5B7C-44EE-AFFA-F14346811844}" type="pres">
      <dgm:prSet presAssocID="{E8757F63-E746-4FE8-857E-47234E37B6AB}" presName="txTwo" presStyleLbl="node2" presStyleIdx="0" presStyleCnt="2" custScaleX="97111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0CA057A2-3B5B-4F48-8190-492BDB048503}" type="pres">
      <dgm:prSet presAssocID="{E8757F63-E746-4FE8-857E-47234E37B6AB}" presName="parTransTwo" presStyleCnt="0"/>
      <dgm:spPr/>
    </dgm:pt>
    <dgm:pt modelId="{A9A96FFB-C911-41B9-8266-1B387F80D365}" type="pres">
      <dgm:prSet presAssocID="{E8757F63-E746-4FE8-857E-47234E37B6AB}" presName="horzTwo" presStyleCnt="0"/>
      <dgm:spPr/>
    </dgm:pt>
    <dgm:pt modelId="{19EF8F12-8F58-47C0-B796-0890E7A94B15}" type="pres">
      <dgm:prSet presAssocID="{A16BB649-F065-4E2B-84EC-757BB6D4839B}" presName="vertThree" presStyleCnt="0"/>
      <dgm:spPr/>
    </dgm:pt>
    <dgm:pt modelId="{2CABDC4C-ECD6-4A31-890A-94B87988CF53}" type="pres">
      <dgm:prSet presAssocID="{A16BB649-F065-4E2B-84EC-757BB6D4839B}" presName="txThree" presStyleLbl="node3" presStyleIdx="0" presStyleCnt="2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0175202F-2EBA-4BC9-BFCE-41C247DBDF05}" type="pres">
      <dgm:prSet presAssocID="{A16BB649-F065-4E2B-84EC-757BB6D4839B}" presName="horzThree" presStyleCnt="0"/>
      <dgm:spPr/>
    </dgm:pt>
    <dgm:pt modelId="{A25099D2-AB20-4A70-8244-64F0AC3F04AA}" type="pres">
      <dgm:prSet presAssocID="{8A381CFD-4904-4DBB-A2BF-B4D3002067AC}" presName="sibSpaceTwo" presStyleCnt="0"/>
      <dgm:spPr/>
    </dgm:pt>
    <dgm:pt modelId="{412571E8-6053-497F-BA7D-1030269EA8D6}" type="pres">
      <dgm:prSet presAssocID="{2CA9BB95-E884-4F7B-87A8-A3B1E6922594}" presName="vertTwo" presStyleCnt="0"/>
      <dgm:spPr/>
    </dgm:pt>
    <dgm:pt modelId="{AD1F72D1-F0F3-4F91-85EC-FB6B9FEDF400}" type="pres">
      <dgm:prSet presAssocID="{2CA9BB95-E884-4F7B-87A8-A3B1E6922594}" presName="txTwo" presStyleLbl="node2" presStyleIdx="1" presStyleCnt="2" custScaleX="112364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69DF38E7-930F-4908-BDD0-ECA0AA2078C6}" type="pres">
      <dgm:prSet presAssocID="{2CA9BB95-E884-4F7B-87A8-A3B1E6922594}" presName="parTransTwo" presStyleCnt="0"/>
      <dgm:spPr/>
    </dgm:pt>
    <dgm:pt modelId="{0A4489A4-1B57-4767-802A-D55513F89309}" type="pres">
      <dgm:prSet presAssocID="{2CA9BB95-E884-4F7B-87A8-A3B1E6922594}" presName="horzTwo" presStyleCnt="0"/>
      <dgm:spPr/>
    </dgm:pt>
    <dgm:pt modelId="{9BA9541C-11E3-4E8F-9B11-D77802883215}" type="pres">
      <dgm:prSet presAssocID="{EE53FC74-DE51-4E44-8E7B-7215D0AE2498}" presName="vertThree" presStyleCnt="0"/>
      <dgm:spPr/>
    </dgm:pt>
    <dgm:pt modelId="{D95E825F-D13C-46FC-85B2-24ED53155A6B}" type="pres">
      <dgm:prSet presAssocID="{EE53FC74-DE51-4E44-8E7B-7215D0AE2498}" presName="txThree" presStyleLbl="node3" presStyleIdx="1" presStyleCnt="2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CF6D9940-65F4-4573-82DA-75AC351EFA75}" type="pres">
      <dgm:prSet presAssocID="{EE53FC74-DE51-4E44-8E7B-7215D0AE2498}" presName="horzThree" presStyleCnt="0"/>
      <dgm:spPr/>
    </dgm:pt>
  </dgm:ptLst>
  <dgm:cxnLst>
    <dgm:cxn modelId="{2ABBBCE7-72D6-4A06-AFD1-9874AE162ECC}" srcId="{E8757F63-E746-4FE8-857E-47234E37B6AB}" destId="{A16BB649-F065-4E2B-84EC-757BB6D4839B}" srcOrd="0" destOrd="0" parTransId="{751BD268-4440-41D5-A00E-4E2C350F9340}" sibTransId="{40A6D6EE-71FF-4648-BCAA-DB6BE60D5D6B}"/>
    <dgm:cxn modelId="{7C908F47-AC03-4D43-A874-CCF9C13C5699}" type="presOf" srcId="{EE53FC74-DE51-4E44-8E7B-7215D0AE2498}" destId="{D95E825F-D13C-46FC-85B2-24ED53155A6B}" srcOrd="0" destOrd="0" presId="urn:microsoft.com/office/officeart/2005/8/layout/hierarchy4"/>
    <dgm:cxn modelId="{EECC1B7C-5EF3-4103-9710-021076C687D7}" srcId="{69A75C05-B7E1-4A65-AE46-32E3C87C40A7}" destId="{3E87C8DA-7F5C-494C-A95B-3C9B9E847AFE}" srcOrd="0" destOrd="0" parTransId="{B0D96903-A6FB-48F2-BDE5-CAA8DA4EA006}" sibTransId="{62E58A3C-48B3-4F6B-A238-ED63E61E8BBC}"/>
    <dgm:cxn modelId="{3D78355A-5D86-403E-B7B0-9B83C4F59CD3}" type="presOf" srcId="{E8757F63-E746-4FE8-857E-47234E37B6AB}" destId="{8F35FC55-5B7C-44EE-AFFA-F14346811844}" srcOrd="0" destOrd="0" presId="urn:microsoft.com/office/officeart/2005/8/layout/hierarchy4"/>
    <dgm:cxn modelId="{7CC561A0-2CF3-4442-B1BA-D7F7F0DF9E83}" type="presOf" srcId="{2CA9BB95-E884-4F7B-87A8-A3B1E6922594}" destId="{AD1F72D1-F0F3-4F91-85EC-FB6B9FEDF400}" srcOrd="0" destOrd="0" presId="urn:microsoft.com/office/officeart/2005/8/layout/hierarchy4"/>
    <dgm:cxn modelId="{E2D842C2-0172-456F-9C3C-3CFC0CDF3DD2}" type="presOf" srcId="{69A75C05-B7E1-4A65-AE46-32E3C87C40A7}" destId="{CFDC7240-2312-40FC-920A-57A1F9217294}" srcOrd="0" destOrd="0" presId="urn:microsoft.com/office/officeart/2005/8/layout/hierarchy4"/>
    <dgm:cxn modelId="{2FE91A4E-B54B-4D09-A4B1-6C4D58E7D981}" type="presOf" srcId="{A16BB649-F065-4E2B-84EC-757BB6D4839B}" destId="{2CABDC4C-ECD6-4A31-890A-94B87988CF53}" srcOrd="0" destOrd="0" presId="urn:microsoft.com/office/officeart/2005/8/layout/hierarchy4"/>
    <dgm:cxn modelId="{7E7CD33D-E8A3-4DED-8A87-BB468F56F612}" srcId="{3E87C8DA-7F5C-494C-A95B-3C9B9E847AFE}" destId="{2CA9BB95-E884-4F7B-87A8-A3B1E6922594}" srcOrd="1" destOrd="0" parTransId="{F08E371C-0E9F-485B-9A67-FEA7A47CE7E9}" sibTransId="{15EDB025-0C77-4944-952B-8766804617BD}"/>
    <dgm:cxn modelId="{BC45FF88-A0D9-4F13-B214-BFDCBC3F3C1F}" type="presOf" srcId="{3E87C8DA-7F5C-494C-A95B-3C9B9E847AFE}" destId="{7FA6B36B-CDA4-4296-AA98-FC190347C413}" srcOrd="0" destOrd="0" presId="urn:microsoft.com/office/officeart/2005/8/layout/hierarchy4"/>
    <dgm:cxn modelId="{8DE13CFC-88E7-45E4-ACD4-55F35B3438EF}" srcId="{2CA9BB95-E884-4F7B-87A8-A3B1E6922594}" destId="{EE53FC74-DE51-4E44-8E7B-7215D0AE2498}" srcOrd="0" destOrd="0" parTransId="{7425EE39-DD28-4DAF-9C5F-C9579FC3FFEA}" sibTransId="{F8B43427-6A58-4DE0-9C20-2FE0911E62BA}"/>
    <dgm:cxn modelId="{DDF24443-5119-45F5-B39F-4AE8BB798AAE}" srcId="{3E87C8DA-7F5C-494C-A95B-3C9B9E847AFE}" destId="{E8757F63-E746-4FE8-857E-47234E37B6AB}" srcOrd="0" destOrd="0" parTransId="{C360A372-2F23-4A74-9FE2-F336DA065087}" sibTransId="{8A381CFD-4904-4DBB-A2BF-B4D3002067AC}"/>
    <dgm:cxn modelId="{CFCBB9A2-834A-4178-80DE-45C2CE415E4B}" type="presParOf" srcId="{CFDC7240-2312-40FC-920A-57A1F9217294}" destId="{C7E8795C-13AB-4CFA-B111-E6C2DF3A6D88}" srcOrd="0" destOrd="0" presId="urn:microsoft.com/office/officeart/2005/8/layout/hierarchy4"/>
    <dgm:cxn modelId="{5EB6FD7C-4A48-45BE-99D0-4567371236CC}" type="presParOf" srcId="{C7E8795C-13AB-4CFA-B111-E6C2DF3A6D88}" destId="{7FA6B36B-CDA4-4296-AA98-FC190347C413}" srcOrd="0" destOrd="0" presId="urn:microsoft.com/office/officeart/2005/8/layout/hierarchy4"/>
    <dgm:cxn modelId="{0EE02225-9F70-4540-A12D-B11A1F9C8495}" type="presParOf" srcId="{C7E8795C-13AB-4CFA-B111-E6C2DF3A6D88}" destId="{3989A066-F79B-44AC-ADEA-3ADD41E708C4}" srcOrd="1" destOrd="0" presId="urn:microsoft.com/office/officeart/2005/8/layout/hierarchy4"/>
    <dgm:cxn modelId="{563EB8FD-9974-42DA-ADF2-B53E93338B9E}" type="presParOf" srcId="{C7E8795C-13AB-4CFA-B111-E6C2DF3A6D88}" destId="{7859843A-8827-411F-B8BE-D929ADA5A554}" srcOrd="2" destOrd="0" presId="urn:microsoft.com/office/officeart/2005/8/layout/hierarchy4"/>
    <dgm:cxn modelId="{CF5E78DA-2860-401C-ABE6-B3D60C8AB305}" type="presParOf" srcId="{7859843A-8827-411F-B8BE-D929ADA5A554}" destId="{51A7A6CB-5AEA-440A-873E-5576767418D8}" srcOrd="0" destOrd="0" presId="urn:microsoft.com/office/officeart/2005/8/layout/hierarchy4"/>
    <dgm:cxn modelId="{E458E08A-82C4-4F38-9968-8FEF43194E86}" type="presParOf" srcId="{51A7A6CB-5AEA-440A-873E-5576767418D8}" destId="{8F35FC55-5B7C-44EE-AFFA-F14346811844}" srcOrd="0" destOrd="0" presId="urn:microsoft.com/office/officeart/2005/8/layout/hierarchy4"/>
    <dgm:cxn modelId="{711A3BF7-FE8B-4E0D-89EE-2141BCE3202D}" type="presParOf" srcId="{51A7A6CB-5AEA-440A-873E-5576767418D8}" destId="{0CA057A2-3B5B-4F48-8190-492BDB048503}" srcOrd="1" destOrd="0" presId="urn:microsoft.com/office/officeart/2005/8/layout/hierarchy4"/>
    <dgm:cxn modelId="{32FB5E27-0181-47B5-B87A-08A5294F244B}" type="presParOf" srcId="{51A7A6CB-5AEA-440A-873E-5576767418D8}" destId="{A9A96FFB-C911-41B9-8266-1B387F80D365}" srcOrd="2" destOrd="0" presId="urn:microsoft.com/office/officeart/2005/8/layout/hierarchy4"/>
    <dgm:cxn modelId="{0FE2F36C-7ED4-4126-A106-6F40C4E6D8B4}" type="presParOf" srcId="{A9A96FFB-C911-41B9-8266-1B387F80D365}" destId="{19EF8F12-8F58-47C0-B796-0890E7A94B15}" srcOrd="0" destOrd="0" presId="urn:microsoft.com/office/officeart/2005/8/layout/hierarchy4"/>
    <dgm:cxn modelId="{DFC266BE-578E-497C-8517-85393406FC60}" type="presParOf" srcId="{19EF8F12-8F58-47C0-B796-0890E7A94B15}" destId="{2CABDC4C-ECD6-4A31-890A-94B87988CF53}" srcOrd="0" destOrd="0" presId="urn:microsoft.com/office/officeart/2005/8/layout/hierarchy4"/>
    <dgm:cxn modelId="{27A602FF-5DB8-4789-978A-EB0FF0C085BF}" type="presParOf" srcId="{19EF8F12-8F58-47C0-B796-0890E7A94B15}" destId="{0175202F-2EBA-4BC9-BFCE-41C247DBDF05}" srcOrd="1" destOrd="0" presId="urn:microsoft.com/office/officeart/2005/8/layout/hierarchy4"/>
    <dgm:cxn modelId="{FF77A8D5-DD8E-4418-BA2E-774D5DE287F2}" type="presParOf" srcId="{7859843A-8827-411F-B8BE-D929ADA5A554}" destId="{A25099D2-AB20-4A70-8244-64F0AC3F04AA}" srcOrd="1" destOrd="0" presId="urn:microsoft.com/office/officeart/2005/8/layout/hierarchy4"/>
    <dgm:cxn modelId="{44ADABCF-AB28-4204-927A-5BE228D798F1}" type="presParOf" srcId="{7859843A-8827-411F-B8BE-D929ADA5A554}" destId="{412571E8-6053-497F-BA7D-1030269EA8D6}" srcOrd="2" destOrd="0" presId="urn:microsoft.com/office/officeart/2005/8/layout/hierarchy4"/>
    <dgm:cxn modelId="{D8E898E7-8E4C-44F2-A434-1DA6027CF23A}" type="presParOf" srcId="{412571E8-6053-497F-BA7D-1030269EA8D6}" destId="{AD1F72D1-F0F3-4F91-85EC-FB6B9FEDF400}" srcOrd="0" destOrd="0" presId="urn:microsoft.com/office/officeart/2005/8/layout/hierarchy4"/>
    <dgm:cxn modelId="{A01C8148-6DEF-4BCD-A04A-27EC86579989}" type="presParOf" srcId="{412571E8-6053-497F-BA7D-1030269EA8D6}" destId="{69DF38E7-930F-4908-BDD0-ECA0AA2078C6}" srcOrd="1" destOrd="0" presId="urn:microsoft.com/office/officeart/2005/8/layout/hierarchy4"/>
    <dgm:cxn modelId="{C0C00519-CE7E-4CDB-92C5-7725AA4AAF28}" type="presParOf" srcId="{412571E8-6053-497F-BA7D-1030269EA8D6}" destId="{0A4489A4-1B57-4767-802A-D55513F89309}" srcOrd="2" destOrd="0" presId="urn:microsoft.com/office/officeart/2005/8/layout/hierarchy4"/>
    <dgm:cxn modelId="{90ED1DEF-AEEF-4A0A-819B-AB0F9C26FF40}" type="presParOf" srcId="{0A4489A4-1B57-4767-802A-D55513F89309}" destId="{9BA9541C-11E3-4E8F-9B11-D77802883215}" srcOrd="0" destOrd="0" presId="urn:microsoft.com/office/officeart/2005/8/layout/hierarchy4"/>
    <dgm:cxn modelId="{CB074D3C-41FB-4332-BD76-56DA58D7B976}" type="presParOf" srcId="{9BA9541C-11E3-4E8F-9B11-D77802883215}" destId="{D95E825F-D13C-46FC-85B2-24ED53155A6B}" srcOrd="0" destOrd="0" presId="urn:microsoft.com/office/officeart/2005/8/layout/hierarchy4"/>
    <dgm:cxn modelId="{C131CDF0-173E-43A7-A96C-6EACA60D48D8}" type="presParOf" srcId="{9BA9541C-11E3-4E8F-9B11-D77802883215}" destId="{CF6D9940-65F4-4573-82DA-75AC351EFA75}" srcOrd="1" destOrd="0" presId="urn:microsoft.com/office/officeart/2005/8/layout/hierarchy4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7EE24CC4-F2B6-495B-B4ED-FD54FF7D061D}" type="doc">
      <dgm:prSet loTypeId="urn:microsoft.com/office/officeart/2005/8/layout/lProcess3" loCatId="process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A79BED6B-0C71-4D67-BCA6-48A01AB25BDA}">
      <dgm:prSet/>
      <dgm:spPr/>
      <dgm:t>
        <a:bodyPr/>
        <a:lstStyle/>
        <a:p>
          <a:pPr rtl="0"/>
          <a:r>
            <a:rPr lang="ru-RU" baseline="0" dirty="0" smtClean="0"/>
            <a:t>защитно-профилактические </a:t>
          </a:r>
          <a:br>
            <a:rPr lang="ru-RU" baseline="0" dirty="0" smtClean="0"/>
          </a:br>
          <a:r>
            <a:rPr lang="ru-RU" baseline="0" dirty="0" smtClean="0"/>
            <a:t>  (личная гигиена и гигиена обучения);</a:t>
          </a:r>
          <a:endParaRPr lang="ru-RU" dirty="0"/>
        </a:p>
      </dgm:t>
    </dgm:pt>
    <dgm:pt modelId="{342B862C-B6E9-41AD-B267-930126CB1A37}" type="parTrans" cxnId="{E7E1B842-6D20-41A9-A1C0-918D1EAAE62F}">
      <dgm:prSet/>
      <dgm:spPr/>
      <dgm:t>
        <a:bodyPr/>
        <a:lstStyle/>
        <a:p>
          <a:endParaRPr lang="ru-RU"/>
        </a:p>
      </dgm:t>
    </dgm:pt>
    <dgm:pt modelId="{124FFE47-1447-426D-92B3-44B3FF0FFD10}" type="sibTrans" cxnId="{E7E1B842-6D20-41A9-A1C0-918D1EAAE62F}">
      <dgm:prSet/>
      <dgm:spPr/>
      <dgm:t>
        <a:bodyPr/>
        <a:lstStyle/>
        <a:p>
          <a:endParaRPr lang="ru-RU"/>
        </a:p>
      </dgm:t>
    </dgm:pt>
    <dgm:pt modelId="{54821EB3-E571-42C3-B4BC-AA44BCCF5AEF}">
      <dgm:prSet/>
      <dgm:spPr/>
      <dgm:t>
        <a:bodyPr/>
        <a:lstStyle/>
        <a:p>
          <a:pPr rtl="0"/>
          <a:r>
            <a:rPr lang="ru-RU" baseline="0" smtClean="0"/>
            <a:t>компенсаторно-нейтрализующие</a:t>
          </a:r>
          <a:br>
            <a:rPr lang="ru-RU" baseline="0" smtClean="0"/>
          </a:br>
          <a:r>
            <a:rPr lang="ru-RU" baseline="0" smtClean="0"/>
            <a:t>  (физкультминутки, гимнастика, массаж);</a:t>
          </a:r>
          <a:endParaRPr lang="ru-RU"/>
        </a:p>
      </dgm:t>
    </dgm:pt>
    <dgm:pt modelId="{904D6A66-030B-46CE-AAB0-45C3D48909E1}" type="parTrans" cxnId="{8640070F-7347-462F-8B90-16B29B8E3434}">
      <dgm:prSet/>
      <dgm:spPr/>
      <dgm:t>
        <a:bodyPr/>
        <a:lstStyle/>
        <a:p>
          <a:endParaRPr lang="ru-RU"/>
        </a:p>
      </dgm:t>
    </dgm:pt>
    <dgm:pt modelId="{38935541-F195-4BE7-9318-69FBCBC14472}" type="sibTrans" cxnId="{8640070F-7347-462F-8B90-16B29B8E3434}">
      <dgm:prSet/>
      <dgm:spPr/>
      <dgm:t>
        <a:bodyPr/>
        <a:lstStyle/>
        <a:p>
          <a:endParaRPr lang="ru-RU"/>
        </a:p>
      </dgm:t>
    </dgm:pt>
    <dgm:pt modelId="{CE275116-FE82-4CE2-9E3F-17A200DD1A3D}" type="pres">
      <dgm:prSet presAssocID="{7EE24CC4-F2B6-495B-B4ED-FD54FF7D061D}" presName="Name0" presStyleCnt="0">
        <dgm:presLayoutVars>
          <dgm:chPref val="3"/>
          <dgm:dir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6982789E-4B7D-45F3-B17C-33F3D3CDB7D0}" type="pres">
      <dgm:prSet presAssocID="{A79BED6B-0C71-4D67-BCA6-48A01AB25BDA}" presName="horFlow" presStyleCnt="0"/>
      <dgm:spPr/>
    </dgm:pt>
    <dgm:pt modelId="{6F72367A-68BD-4D0C-87A3-400365502282}" type="pres">
      <dgm:prSet presAssocID="{A79BED6B-0C71-4D67-BCA6-48A01AB25BDA}" presName="bigChev" presStyleLbl="node1" presStyleIdx="0" presStyleCnt="2"/>
      <dgm:spPr/>
      <dgm:t>
        <a:bodyPr/>
        <a:lstStyle/>
        <a:p>
          <a:endParaRPr lang="ru-RU"/>
        </a:p>
      </dgm:t>
    </dgm:pt>
    <dgm:pt modelId="{C29DBF12-688B-45F4-B8AF-31A2989BE011}" type="pres">
      <dgm:prSet presAssocID="{A79BED6B-0C71-4D67-BCA6-48A01AB25BDA}" presName="vSp" presStyleCnt="0"/>
      <dgm:spPr/>
    </dgm:pt>
    <dgm:pt modelId="{165E5B65-4316-4C62-8552-49317C93AA07}" type="pres">
      <dgm:prSet presAssocID="{54821EB3-E571-42C3-B4BC-AA44BCCF5AEF}" presName="horFlow" presStyleCnt="0"/>
      <dgm:spPr/>
    </dgm:pt>
    <dgm:pt modelId="{D01A2150-8DDB-403E-AD92-D730AD4F3ACB}" type="pres">
      <dgm:prSet presAssocID="{54821EB3-E571-42C3-B4BC-AA44BCCF5AEF}" presName="bigChev" presStyleLbl="node1" presStyleIdx="1" presStyleCnt="2"/>
      <dgm:spPr/>
      <dgm:t>
        <a:bodyPr/>
        <a:lstStyle/>
        <a:p>
          <a:endParaRPr lang="ru-RU"/>
        </a:p>
      </dgm:t>
    </dgm:pt>
  </dgm:ptLst>
  <dgm:cxnLst>
    <dgm:cxn modelId="{B9EE8577-F433-4144-BE64-C35B1E13B41B}" type="presOf" srcId="{A79BED6B-0C71-4D67-BCA6-48A01AB25BDA}" destId="{6F72367A-68BD-4D0C-87A3-400365502282}" srcOrd="0" destOrd="0" presId="urn:microsoft.com/office/officeart/2005/8/layout/lProcess3"/>
    <dgm:cxn modelId="{E4866A78-6393-4123-B56D-F4944EF6C8C5}" type="presOf" srcId="{7EE24CC4-F2B6-495B-B4ED-FD54FF7D061D}" destId="{CE275116-FE82-4CE2-9E3F-17A200DD1A3D}" srcOrd="0" destOrd="0" presId="urn:microsoft.com/office/officeart/2005/8/layout/lProcess3"/>
    <dgm:cxn modelId="{8640070F-7347-462F-8B90-16B29B8E3434}" srcId="{7EE24CC4-F2B6-495B-B4ED-FD54FF7D061D}" destId="{54821EB3-E571-42C3-B4BC-AA44BCCF5AEF}" srcOrd="1" destOrd="0" parTransId="{904D6A66-030B-46CE-AAB0-45C3D48909E1}" sibTransId="{38935541-F195-4BE7-9318-69FBCBC14472}"/>
    <dgm:cxn modelId="{E7E1B842-6D20-41A9-A1C0-918D1EAAE62F}" srcId="{7EE24CC4-F2B6-495B-B4ED-FD54FF7D061D}" destId="{A79BED6B-0C71-4D67-BCA6-48A01AB25BDA}" srcOrd="0" destOrd="0" parTransId="{342B862C-B6E9-41AD-B267-930126CB1A37}" sibTransId="{124FFE47-1447-426D-92B3-44B3FF0FFD10}"/>
    <dgm:cxn modelId="{AFE2F5D4-964E-41E8-A004-2B3CE9404C1B}" type="presOf" srcId="{54821EB3-E571-42C3-B4BC-AA44BCCF5AEF}" destId="{D01A2150-8DDB-403E-AD92-D730AD4F3ACB}" srcOrd="0" destOrd="0" presId="urn:microsoft.com/office/officeart/2005/8/layout/lProcess3"/>
    <dgm:cxn modelId="{C341D398-0226-425C-BBAF-69A0C4F4E9F0}" type="presParOf" srcId="{CE275116-FE82-4CE2-9E3F-17A200DD1A3D}" destId="{6982789E-4B7D-45F3-B17C-33F3D3CDB7D0}" srcOrd="0" destOrd="0" presId="urn:microsoft.com/office/officeart/2005/8/layout/lProcess3"/>
    <dgm:cxn modelId="{978506D9-B948-40CE-A027-2D5E95DCE486}" type="presParOf" srcId="{6982789E-4B7D-45F3-B17C-33F3D3CDB7D0}" destId="{6F72367A-68BD-4D0C-87A3-400365502282}" srcOrd="0" destOrd="0" presId="urn:microsoft.com/office/officeart/2005/8/layout/lProcess3"/>
    <dgm:cxn modelId="{A82FF4CD-A282-4D7F-8526-951EFD8BA180}" type="presParOf" srcId="{CE275116-FE82-4CE2-9E3F-17A200DD1A3D}" destId="{C29DBF12-688B-45F4-B8AF-31A2989BE011}" srcOrd="1" destOrd="0" presId="urn:microsoft.com/office/officeart/2005/8/layout/lProcess3"/>
    <dgm:cxn modelId="{E4568926-6752-4E3D-8B82-420FAA287D2D}" type="presParOf" srcId="{CE275116-FE82-4CE2-9E3F-17A200DD1A3D}" destId="{165E5B65-4316-4C62-8552-49317C93AA07}" srcOrd="2" destOrd="0" presId="urn:microsoft.com/office/officeart/2005/8/layout/lProcess3"/>
    <dgm:cxn modelId="{ED4A3F6B-D108-442F-AC46-DE7312C038E7}" type="presParOf" srcId="{165E5B65-4316-4C62-8552-49317C93AA07}" destId="{D01A2150-8DDB-403E-AD92-D730AD4F3ACB}" srcOrd="0" destOrd="0" presId="urn:microsoft.com/office/officeart/2005/8/layout/lProcess3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4.xml><?xml version="1.0" encoding="utf-8"?>
<dgm:dataModel xmlns:dgm="http://schemas.openxmlformats.org/drawingml/2006/diagram" xmlns:a="http://schemas.openxmlformats.org/drawingml/2006/main">
  <dgm:ptLst>
    <dgm:pt modelId="{7EE24CC4-F2B6-495B-B4ED-FD54FF7D061D}" type="doc">
      <dgm:prSet loTypeId="urn:microsoft.com/office/officeart/2005/8/layout/lProcess3" loCatId="process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DC9439B7-78AB-461F-8C79-1994600EA66A}">
      <dgm:prSet/>
      <dgm:spPr/>
      <dgm:t>
        <a:bodyPr/>
        <a:lstStyle/>
        <a:p>
          <a:pPr rtl="0"/>
          <a:r>
            <a:rPr lang="ru-RU" baseline="0" smtClean="0"/>
            <a:t>стимулирующие </a:t>
          </a:r>
          <a:br>
            <a:rPr lang="ru-RU" baseline="0" smtClean="0"/>
          </a:br>
          <a:r>
            <a:rPr lang="ru-RU" baseline="0" smtClean="0"/>
            <a:t>  (элементы закаливания, физические нагрузки);</a:t>
          </a:r>
          <a:endParaRPr lang="ru-RU"/>
        </a:p>
      </dgm:t>
    </dgm:pt>
    <dgm:pt modelId="{FF687EC8-0915-4E00-BCE1-A567F4A22245}" type="parTrans" cxnId="{DB159509-7F41-4BBA-A345-678F72266658}">
      <dgm:prSet/>
      <dgm:spPr/>
      <dgm:t>
        <a:bodyPr/>
        <a:lstStyle/>
        <a:p>
          <a:endParaRPr lang="ru-RU"/>
        </a:p>
      </dgm:t>
    </dgm:pt>
    <dgm:pt modelId="{E2E34C25-001A-4FC1-B706-1136EC819C65}" type="sibTrans" cxnId="{DB159509-7F41-4BBA-A345-678F72266658}">
      <dgm:prSet/>
      <dgm:spPr/>
      <dgm:t>
        <a:bodyPr/>
        <a:lstStyle/>
        <a:p>
          <a:endParaRPr lang="ru-RU"/>
        </a:p>
      </dgm:t>
    </dgm:pt>
    <dgm:pt modelId="{78CDE5C8-3431-4CA6-BFE1-C932CBD4BAE4}">
      <dgm:prSet/>
      <dgm:spPr/>
      <dgm:t>
        <a:bodyPr/>
        <a:lstStyle/>
        <a:p>
          <a:pPr rtl="0"/>
          <a:r>
            <a:rPr lang="ru-RU" baseline="0" smtClean="0"/>
            <a:t>информационно-обучающие </a:t>
          </a:r>
          <a:br>
            <a:rPr lang="ru-RU" baseline="0" smtClean="0"/>
          </a:br>
          <a:r>
            <a:rPr lang="ru-RU" baseline="0" smtClean="0"/>
            <a:t>  (письма, адресованные родителям, учащимся, педагогам).</a:t>
          </a:r>
          <a:endParaRPr lang="ru-RU"/>
        </a:p>
      </dgm:t>
    </dgm:pt>
    <dgm:pt modelId="{AD2D0EC1-E444-4D36-80F8-1ACCE2730781}" type="parTrans" cxnId="{DB97F214-A427-406C-B99B-C31CBCE5F3B6}">
      <dgm:prSet/>
      <dgm:spPr/>
      <dgm:t>
        <a:bodyPr/>
        <a:lstStyle/>
        <a:p>
          <a:endParaRPr lang="ru-RU"/>
        </a:p>
      </dgm:t>
    </dgm:pt>
    <dgm:pt modelId="{9063D1F5-70E9-473D-8EFF-4DCF6833C87C}" type="sibTrans" cxnId="{DB97F214-A427-406C-B99B-C31CBCE5F3B6}">
      <dgm:prSet/>
      <dgm:spPr/>
      <dgm:t>
        <a:bodyPr/>
        <a:lstStyle/>
        <a:p>
          <a:endParaRPr lang="ru-RU"/>
        </a:p>
      </dgm:t>
    </dgm:pt>
    <dgm:pt modelId="{CE275116-FE82-4CE2-9E3F-17A200DD1A3D}" type="pres">
      <dgm:prSet presAssocID="{7EE24CC4-F2B6-495B-B4ED-FD54FF7D061D}" presName="Name0" presStyleCnt="0">
        <dgm:presLayoutVars>
          <dgm:chPref val="3"/>
          <dgm:dir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9B50C98C-82D7-4D41-AA38-F5366C62CC66}" type="pres">
      <dgm:prSet presAssocID="{DC9439B7-78AB-461F-8C79-1994600EA66A}" presName="horFlow" presStyleCnt="0"/>
      <dgm:spPr/>
    </dgm:pt>
    <dgm:pt modelId="{1E3A0AB7-7AFB-42D2-891D-1A33A06A4E05}" type="pres">
      <dgm:prSet presAssocID="{DC9439B7-78AB-461F-8C79-1994600EA66A}" presName="bigChev" presStyleLbl="node1" presStyleIdx="0" presStyleCnt="2"/>
      <dgm:spPr/>
      <dgm:t>
        <a:bodyPr/>
        <a:lstStyle/>
        <a:p>
          <a:endParaRPr lang="ru-RU"/>
        </a:p>
      </dgm:t>
    </dgm:pt>
    <dgm:pt modelId="{08041E0D-8129-407A-8E97-6685598CA90F}" type="pres">
      <dgm:prSet presAssocID="{DC9439B7-78AB-461F-8C79-1994600EA66A}" presName="vSp" presStyleCnt="0"/>
      <dgm:spPr/>
    </dgm:pt>
    <dgm:pt modelId="{16E0E056-E50E-4944-B932-E660FB9EE66A}" type="pres">
      <dgm:prSet presAssocID="{78CDE5C8-3431-4CA6-BFE1-C932CBD4BAE4}" presName="horFlow" presStyleCnt="0"/>
      <dgm:spPr/>
    </dgm:pt>
    <dgm:pt modelId="{54FA1B89-E71A-409F-AFD0-22DADB35D2C6}" type="pres">
      <dgm:prSet presAssocID="{78CDE5C8-3431-4CA6-BFE1-C932CBD4BAE4}" presName="bigChev" presStyleLbl="node1" presStyleIdx="1" presStyleCnt="2"/>
      <dgm:spPr/>
      <dgm:t>
        <a:bodyPr/>
        <a:lstStyle/>
        <a:p>
          <a:endParaRPr lang="ru-RU"/>
        </a:p>
      </dgm:t>
    </dgm:pt>
  </dgm:ptLst>
  <dgm:cxnLst>
    <dgm:cxn modelId="{4FB7DB05-3BC1-40AF-8740-567742C167E9}" type="presOf" srcId="{DC9439B7-78AB-461F-8C79-1994600EA66A}" destId="{1E3A0AB7-7AFB-42D2-891D-1A33A06A4E05}" srcOrd="0" destOrd="0" presId="urn:microsoft.com/office/officeart/2005/8/layout/lProcess3"/>
    <dgm:cxn modelId="{E4866A78-6393-4123-B56D-F4944EF6C8C5}" type="presOf" srcId="{7EE24CC4-F2B6-495B-B4ED-FD54FF7D061D}" destId="{CE275116-FE82-4CE2-9E3F-17A200DD1A3D}" srcOrd="0" destOrd="0" presId="urn:microsoft.com/office/officeart/2005/8/layout/lProcess3"/>
    <dgm:cxn modelId="{DB97F214-A427-406C-B99B-C31CBCE5F3B6}" srcId="{7EE24CC4-F2B6-495B-B4ED-FD54FF7D061D}" destId="{78CDE5C8-3431-4CA6-BFE1-C932CBD4BAE4}" srcOrd="1" destOrd="0" parTransId="{AD2D0EC1-E444-4D36-80F8-1ACCE2730781}" sibTransId="{9063D1F5-70E9-473D-8EFF-4DCF6833C87C}"/>
    <dgm:cxn modelId="{CD1A667B-8B12-49AF-A3E4-B92650E62EB3}" type="presOf" srcId="{78CDE5C8-3431-4CA6-BFE1-C932CBD4BAE4}" destId="{54FA1B89-E71A-409F-AFD0-22DADB35D2C6}" srcOrd="0" destOrd="0" presId="urn:microsoft.com/office/officeart/2005/8/layout/lProcess3"/>
    <dgm:cxn modelId="{DB159509-7F41-4BBA-A345-678F72266658}" srcId="{7EE24CC4-F2B6-495B-B4ED-FD54FF7D061D}" destId="{DC9439B7-78AB-461F-8C79-1994600EA66A}" srcOrd="0" destOrd="0" parTransId="{FF687EC8-0915-4E00-BCE1-A567F4A22245}" sibTransId="{E2E34C25-001A-4FC1-B706-1136EC819C65}"/>
    <dgm:cxn modelId="{C43836E1-6432-408A-AA26-AA0C44D95025}" type="presParOf" srcId="{CE275116-FE82-4CE2-9E3F-17A200DD1A3D}" destId="{9B50C98C-82D7-4D41-AA38-F5366C62CC66}" srcOrd="0" destOrd="0" presId="urn:microsoft.com/office/officeart/2005/8/layout/lProcess3"/>
    <dgm:cxn modelId="{6BB27823-7F74-48DB-A2BB-A7441FB8E6EA}" type="presParOf" srcId="{9B50C98C-82D7-4D41-AA38-F5366C62CC66}" destId="{1E3A0AB7-7AFB-42D2-891D-1A33A06A4E05}" srcOrd="0" destOrd="0" presId="urn:microsoft.com/office/officeart/2005/8/layout/lProcess3"/>
    <dgm:cxn modelId="{2F8DF52D-9B4E-48A7-A5F3-BD63A4389EAF}" type="presParOf" srcId="{CE275116-FE82-4CE2-9E3F-17A200DD1A3D}" destId="{08041E0D-8129-407A-8E97-6685598CA90F}" srcOrd="1" destOrd="0" presId="urn:microsoft.com/office/officeart/2005/8/layout/lProcess3"/>
    <dgm:cxn modelId="{E2B2142D-9FBE-48C6-9720-CC9FA9B471BB}" type="presParOf" srcId="{CE275116-FE82-4CE2-9E3F-17A200DD1A3D}" destId="{16E0E056-E50E-4944-B932-E660FB9EE66A}" srcOrd="2" destOrd="0" presId="urn:microsoft.com/office/officeart/2005/8/layout/lProcess3"/>
    <dgm:cxn modelId="{76CB80CC-C010-416F-8985-C1F1A04E3E86}" type="presParOf" srcId="{16E0E056-E50E-4944-B932-E660FB9EE66A}" destId="{54FA1B89-E71A-409F-AFD0-22DADB35D2C6}" srcOrd="0" destOrd="0" presId="urn:microsoft.com/office/officeart/2005/8/layout/lProcess3"/>
  </dgm:cxnLst>
  <dgm:bg/>
  <dgm:whole/>
  <dgm:extLst>
    <a:ext uri="http://schemas.microsoft.com/office/drawing/2008/diagram">
      <dsp:dataModelExt xmlns:dsp="http://schemas.microsoft.com/office/drawing/2008/diagram" relId="rId10" minVer="http://schemas.openxmlformats.org/drawingml/2006/diagram"/>
    </a:ext>
  </dgm:extLst>
</dgm:dataModel>
</file>

<file path=ppt/diagrams/data5.xml><?xml version="1.0" encoding="utf-8"?>
<dgm:dataModel xmlns:dgm="http://schemas.openxmlformats.org/drawingml/2006/diagram" xmlns:a="http://schemas.openxmlformats.org/drawingml/2006/main">
  <dgm:ptLst>
    <dgm:pt modelId="{6253A9CC-1283-42AE-97C8-AC9D02B0CFD6}" type="doc">
      <dgm:prSet loTypeId="urn:microsoft.com/office/officeart/2005/8/layout/pyramid2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99F8AC4F-98B9-482F-AFD9-C8BFCB4E6DA3}">
      <dgm:prSet custT="1"/>
      <dgm:spPr/>
      <dgm:t>
        <a:bodyPr/>
        <a:lstStyle/>
        <a:p>
          <a:pPr rtl="0"/>
          <a:r>
            <a:rPr lang="ru-RU" sz="2800" b="1" baseline="0" dirty="0" smtClean="0"/>
            <a:t>от профессионализма педагога</a:t>
          </a:r>
          <a:endParaRPr lang="ru-RU" sz="2800" dirty="0"/>
        </a:p>
      </dgm:t>
    </dgm:pt>
    <dgm:pt modelId="{91120264-8C71-4B13-AF87-5C6AB3A266B9}" type="parTrans" cxnId="{A6C833E0-4D0C-4784-BB36-2976A5225EF0}">
      <dgm:prSet/>
      <dgm:spPr/>
      <dgm:t>
        <a:bodyPr/>
        <a:lstStyle/>
        <a:p>
          <a:endParaRPr lang="ru-RU" sz="4000"/>
        </a:p>
      </dgm:t>
    </dgm:pt>
    <dgm:pt modelId="{D0A42E21-5B99-40A0-809C-1D4387D8FC2F}" type="sibTrans" cxnId="{A6C833E0-4D0C-4784-BB36-2976A5225EF0}">
      <dgm:prSet/>
      <dgm:spPr/>
      <dgm:t>
        <a:bodyPr/>
        <a:lstStyle/>
        <a:p>
          <a:endParaRPr lang="ru-RU" sz="4000"/>
        </a:p>
      </dgm:t>
    </dgm:pt>
    <dgm:pt modelId="{DCF449C6-4362-4301-8571-2791059C5CC8}">
      <dgm:prSet custT="1"/>
      <dgm:spPr/>
      <dgm:t>
        <a:bodyPr/>
        <a:lstStyle/>
        <a:p>
          <a:pPr rtl="0"/>
          <a:r>
            <a:rPr lang="ru-RU" sz="2800" b="1" baseline="0" dirty="0" smtClean="0"/>
            <a:t> от его личной заинтересованности</a:t>
          </a:r>
          <a:endParaRPr lang="ru-RU" sz="2800" dirty="0"/>
        </a:p>
      </dgm:t>
    </dgm:pt>
    <dgm:pt modelId="{9B961C89-D498-45EE-98D3-ED50BE859D86}" type="parTrans" cxnId="{2A7C2B9E-58AC-4F6F-9E92-73EF5C724E57}">
      <dgm:prSet/>
      <dgm:spPr/>
      <dgm:t>
        <a:bodyPr/>
        <a:lstStyle/>
        <a:p>
          <a:endParaRPr lang="ru-RU" sz="4000"/>
        </a:p>
      </dgm:t>
    </dgm:pt>
    <dgm:pt modelId="{0946A20F-AC2B-460C-BA90-229CDE54CD36}" type="sibTrans" cxnId="{2A7C2B9E-58AC-4F6F-9E92-73EF5C724E57}">
      <dgm:prSet/>
      <dgm:spPr/>
      <dgm:t>
        <a:bodyPr/>
        <a:lstStyle/>
        <a:p>
          <a:endParaRPr lang="ru-RU" sz="4000"/>
        </a:p>
      </dgm:t>
    </dgm:pt>
    <dgm:pt modelId="{ACCC154B-327C-442F-8159-EBB43FBAFD9D}">
      <dgm:prSet custT="1"/>
      <dgm:spPr/>
      <dgm:t>
        <a:bodyPr/>
        <a:lstStyle/>
        <a:p>
          <a:pPr algn="ctr" rtl="0"/>
          <a:r>
            <a:rPr lang="ru-RU" sz="2800" b="1" baseline="0" dirty="0" smtClean="0"/>
            <a:t>от уровня, на котором используется  технология</a:t>
          </a:r>
          <a:endParaRPr lang="ru-RU" sz="2800" dirty="0"/>
        </a:p>
      </dgm:t>
    </dgm:pt>
    <dgm:pt modelId="{5CBF4721-54D0-4890-94B9-B8BC89C8796B}" type="parTrans" cxnId="{9002F9FA-5845-45E5-9ACC-1CE11FEA0CBB}">
      <dgm:prSet/>
      <dgm:spPr/>
      <dgm:t>
        <a:bodyPr/>
        <a:lstStyle/>
        <a:p>
          <a:endParaRPr lang="ru-RU" sz="4000"/>
        </a:p>
      </dgm:t>
    </dgm:pt>
    <dgm:pt modelId="{94B2D2B2-EBAD-485B-AFED-C8D8E26C5D25}" type="sibTrans" cxnId="{9002F9FA-5845-45E5-9ACC-1CE11FEA0CBB}">
      <dgm:prSet/>
      <dgm:spPr/>
      <dgm:t>
        <a:bodyPr/>
        <a:lstStyle/>
        <a:p>
          <a:endParaRPr lang="ru-RU" sz="4000"/>
        </a:p>
      </dgm:t>
    </dgm:pt>
    <dgm:pt modelId="{D2E36418-692D-4AC7-836E-4AB8C2386234}">
      <dgm:prSet custT="1"/>
      <dgm:spPr/>
      <dgm:t>
        <a:bodyPr/>
        <a:lstStyle/>
        <a:p>
          <a:pPr algn="ctr" rtl="0"/>
          <a:endParaRPr lang="ru-RU" sz="2000"/>
        </a:p>
      </dgm:t>
    </dgm:pt>
    <dgm:pt modelId="{B64368D1-D6A0-4BD5-B4FB-DE45553E7D58}" type="parTrans" cxnId="{EB595774-42F1-475C-A7D7-F83CF891C7A4}">
      <dgm:prSet/>
      <dgm:spPr/>
      <dgm:t>
        <a:bodyPr/>
        <a:lstStyle/>
        <a:p>
          <a:endParaRPr lang="ru-RU" sz="4000"/>
        </a:p>
      </dgm:t>
    </dgm:pt>
    <dgm:pt modelId="{06E5C1E4-776F-4DF8-A2BB-60D21105BF93}" type="sibTrans" cxnId="{EB595774-42F1-475C-A7D7-F83CF891C7A4}">
      <dgm:prSet/>
      <dgm:spPr/>
      <dgm:t>
        <a:bodyPr/>
        <a:lstStyle/>
        <a:p>
          <a:endParaRPr lang="ru-RU" sz="4000"/>
        </a:p>
      </dgm:t>
    </dgm:pt>
    <dgm:pt modelId="{65AF6C52-79D1-4333-B5EF-832666B197E4}">
      <dgm:prSet custT="1"/>
      <dgm:spPr/>
      <dgm:t>
        <a:bodyPr/>
        <a:lstStyle/>
        <a:p>
          <a:pPr algn="ctr" rtl="0"/>
          <a:endParaRPr lang="ru-RU" sz="2000"/>
        </a:p>
      </dgm:t>
    </dgm:pt>
    <dgm:pt modelId="{672D9AD2-679B-4349-A89A-0408C8285B94}" type="parTrans" cxnId="{59BD53B6-4E7B-4232-B5D0-D0CD2B2F589B}">
      <dgm:prSet/>
      <dgm:spPr/>
      <dgm:t>
        <a:bodyPr/>
        <a:lstStyle/>
        <a:p>
          <a:endParaRPr lang="ru-RU" sz="4000"/>
        </a:p>
      </dgm:t>
    </dgm:pt>
    <dgm:pt modelId="{1D04C591-EF82-4952-AFCA-4B91A46A0B42}" type="sibTrans" cxnId="{59BD53B6-4E7B-4232-B5D0-D0CD2B2F589B}">
      <dgm:prSet/>
      <dgm:spPr/>
      <dgm:t>
        <a:bodyPr/>
        <a:lstStyle/>
        <a:p>
          <a:endParaRPr lang="ru-RU" sz="4000"/>
        </a:p>
      </dgm:t>
    </dgm:pt>
    <dgm:pt modelId="{B8E8CAF2-92D3-4004-A630-DA27E8F75560}" type="pres">
      <dgm:prSet presAssocID="{6253A9CC-1283-42AE-97C8-AC9D02B0CFD6}" presName="compositeShape" presStyleCnt="0">
        <dgm:presLayoutVars>
          <dgm:dir/>
          <dgm:resizeHandles/>
        </dgm:presLayoutVars>
      </dgm:prSet>
      <dgm:spPr/>
      <dgm:t>
        <a:bodyPr/>
        <a:lstStyle/>
        <a:p>
          <a:endParaRPr lang="ru-RU"/>
        </a:p>
      </dgm:t>
    </dgm:pt>
    <dgm:pt modelId="{0FACC9BA-394E-4452-BB57-0B7CE71DED82}" type="pres">
      <dgm:prSet presAssocID="{6253A9CC-1283-42AE-97C8-AC9D02B0CFD6}" presName="pyramid" presStyleLbl="node1" presStyleIdx="0" presStyleCnt="1"/>
      <dgm:spPr/>
    </dgm:pt>
    <dgm:pt modelId="{9F898C8D-D0FB-4AD5-98B8-3D05E8A6ECFD}" type="pres">
      <dgm:prSet presAssocID="{6253A9CC-1283-42AE-97C8-AC9D02B0CFD6}" presName="theList" presStyleCnt="0"/>
      <dgm:spPr/>
    </dgm:pt>
    <dgm:pt modelId="{FEE149FD-4646-4422-B989-F8EEED7E8DFF}" type="pres">
      <dgm:prSet presAssocID="{99F8AC4F-98B9-482F-AFD9-C8BFCB4E6DA3}" presName="aNode" presStyleLbl="fgAcc1" presStyleIdx="0" presStyleCnt="3" custScaleX="329327" custScaleY="153637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08B0905-A77C-4D9E-8A69-472EBFA01CBC}" type="pres">
      <dgm:prSet presAssocID="{99F8AC4F-98B9-482F-AFD9-C8BFCB4E6DA3}" presName="aSpace" presStyleCnt="0"/>
      <dgm:spPr/>
    </dgm:pt>
    <dgm:pt modelId="{88914A91-73D2-49F0-B216-E97AE9725348}" type="pres">
      <dgm:prSet presAssocID="{DCF449C6-4362-4301-8571-2791059C5CC8}" presName="aNode" presStyleLbl="fgAcc1" presStyleIdx="1" presStyleCnt="3" custScaleX="329327" custScaleY="157046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34723FE8-5804-408F-A910-5443F8CF3992}" type="pres">
      <dgm:prSet presAssocID="{DCF449C6-4362-4301-8571-2791059C5CC8}" presName="aSpace" presStyleCnt="0"/>
      <dgm:spPr/>
    </dgm:pt>
    <dgm:pt modelId="{007ED411-CEBE-446A-8C42-602B5B87F4BC}" type="pres">
      <dgm:prSet presAssocID="{ACCC154B-327C-442F-8159-EBB43FBAFD9D}" presName="aNode" presStyleLbl="fgAcc1" presStyleIdx="2" presStyleCnt="3" custScaleX="331889" custScaleY="229527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63D4BD69-DE17-458D-B002-7D52158D7389}" type="pres">
      <dgm:prSet presAssocID="{ACCC154B-327C-442F-8159-EBB43FBAFD9D}" presName="aSpace" presStyleCnt="0"/>
      <dgm:spPr/>
    </dgm:pt>
  </dgm:ptLst>
  <dgm:cxnLst>
    <dgm:cxn modelId="{7ECF22FD-AACC-4EC7-94AA-D030683CEDE0}" type="presOf" srcId="{99F8AC4F-98B9-482F-AFD9-C8BFCB4E6DA3}" destId="{FEE149FD-4646-4422-B989-F8EEED7E8DFF}" srcOrd="0" destOrd="0" presId="urn:microsoft.com/office/officeart/2005/8/layout/pyramid2"/>
    <dgm:cxn modelId="{D69C930C-88F0-455C-B6FC-8D7B3CDB3C7D}" type="presOf" srcId="{ACCC154B-327C-442F-8159-EBB43FBAFD9D}" destId="{007ED411-CEBE-446A-8C42-602B5B87F4BC}" srcOrd="0" destOrd="0" presId="urn:microsoft.com/office/officeart/2005/8/layout/pyramid2"/>
    <dgm:cxn modelId="{81A0787B-F251-41D3-A827-61153E0008AF}" type="presOf" srcId="{6253A9CC-1283-42AE-97C8-AC9D02B0CFD6}" destId="{B8E8CAF2-92D3-4004-A630-DA27E8F75560}" srcOrd="0" destOrd="0" presId="urn:microsoft.com/office/officeart/2005/8/layout/pyramid2"/>
    <dgm:cxn modelId="{EB595774-42F1-475C-A7D7-F83CF891C7A4}" srcId="{ACCC154B-327C-442F-8159-EBB43FBAFD9D}" destId="{D2E36418-692D-4AC7-836E-4AB8C2386234}" srcOrd="0" destOrd="0" parTransId="{B64368D1-D6A0-4BD5-B4FB-DE45553E7D58}" sibTransId="{06E5C1E4-776F-4DF8-A2BB-60D21105BF93}"/>
    <dgm:cxn modelId="{59BD53B6-4E7B-4232-B5D0-D0CD2B2F589B}" srcId="{ACCC154B-327C-442F-8159-EBB43FBAFD9D}" destId="{65AF6C52-79D1-4333-B5EF-832666B197E4}" srcOrd="1" destOrd="0" parTransId="{672D9AD2-679B-4349-A89A-0408C8285B94}" sibTransId="{1D04C591-EF82-4952-AFCA-4B91A46A0B42}"/>
    <dgm:cxn modelId="{2A7C2B9E-58AC-4F6F-9E92-73EF5C724E57}" srcId="{6253A9CC-1283-42AE-97C8-AC9D02B0CFD6}" destId="{DCF449C6-4362-4301-8571-2791059C5CC8}" srcOrd="1" destOrd="0" parTransId="{9B961C89-D498-45EE-98D3-ED50BE859D86}" sibTransId="{0946A20F-AC2B-460C-BA90-229CDE54CD36}"/>
    <dgm:cxn modelId="{A6C833E0-4D0C-4784-BB36-2976A5225EF0}" srcId="{6253A9CC-1283-42AE-97C8-AC9D02B0CFD6}" destId="{99F8AC4F-98B9-482F-AFD9-C8BFCB4E6DA3}" srcOrd="0" destOrd="0" parTransId="{91120264-8C71-4B13-AF87-5C6AB3A266B9}" sibTransId="{D0A42E21-5B99-40A0-809C-1D4387D8FC2F}"/>
    <dgm:cxn modelId="{9002F9FA-5845-45E5-9ACC-1CE11FEA0CBB}" srcId="{6253A9CC-1283-42AE-97C8-AC9D02B0CFD6}" destId="{ACCC154B-327C-442F-8159-EBB43FBAFD9D}" srcOrd="2" destOrd="0" parTransId="{5CBF4721-54D0-4890-94B9-B8BC89C8796B}" sibTransId="{94B2D2B2-EBAD-485B-AFED-C8D8E26C5D25}"/>
    <dgm:cxn modelId="{63E2CA69-6EA7-4EDE-BB16-29859267CC09}" type="presOf" srcId="{D2E36418-692D-4AC7-836E-4AB8C2386234}" destId="{007ED411-CEBE-446A-8C42-602B5B87F4BC}" srcOrd="0" destOrd="1" presId="urn:microsoft.com/office/officeart/2005/8/layout/pyramid2"/>
    <dgm:cxn modelId="{957D478A-2DA1-475F-B025-3C1C84921315}" type="presOf" srcId="{DCF449C6-4362-4301-8571-2791059C5CC8}" destId="{88914A91-73D2-49F0-B216-E97AE9725348}" srcOrd="0" destOrd="0" presId="urn:microsoft.com/office/officeart/2005/8/layout/pyramid2"/>
    <dgm:cxn modelId="{1E9627BD-F8BE-461C-BCDD-C4EFC19D3CF4}" type="presOf" srcId="{65AF6C52-79D1-4333-B5EF-832666B197E4}" destId="{007ED411-CEBE-446A-8C42-602B5B87F4BC}" srcOrd="0" destOrd="2" presId="urn:microsoft.com/office/officeart/2005/8/layout/pyramid2"/>
    <dgm:cxn modelId="{789B003B-971B-491A-9CBA-F11587104EFB}" type="presParOf" srcId="{B8E8CAF2-92D3-4004-A630-DA27E8F75560}" destId="{0FACC9BA-394E-4452-BB57-0B7CE71DED82}" srcOrd="0" destOrd="0" presId="urn:microsoft.com/office/officeart/2005/8/layout/pyramid2"/>
    <dgm:cxn modelId="{A6F451BE-AF7D-455F-9406-7986F688363E}" type="presParOf" srcId="{B8E8CAF2-92D3-4004-A630-DA27E8F75560}" destId="{9F898C8D-D0FB-4AD5-98B8-3D05E8A6ECFD}" srcOrd="1" destOrd="0" presId="urn:microsoft.com/office/officeart/2005/8/layout/pyramid2"/>
    <dgm:cxn modelId="{C95C5A56-A021-4DF6-A342-2AF49A8CA8B0}" type="presParOf" srcId="{9F898C8D-D0FB-4AD5-98B8-3D05E8A6ECFD}" destId="{FEE149FD-4646-4422-B989-F8EEED7E8DFF}" srcOrd="0" destOrd="0" presId="urn:microsoft.com/office/officeart/2005/8/layout/pyramid2"/>
    <dgm:cxn modelId="{0E27957E-D2A2-4558-A90B-885F2C197B0F}" type="presParOf" srcId="{9F898C8D-D0FB-4AD5-98B8-3D05E8A6ECFD}" destId="{508B0905-A77C-4D9E-8A69-472EBFA01CBC}" srcOrd="1" destOrd="0" presId="urn:microsoft.com/office/officeart/2005/8/layout/pyramid2"/>
    <dgm:cxn modelId="{37EC9DDA-12CB-48F0-8B84-CC28FC2A656A}" type="presParOf" srcId="{9F898C8D-D0FB-4AD5-98B8-3D05E8A6ECFD}" destId="{88914A91-73D2-49F0-B216-E97AE9725348}" srcOrd="2" destOrd="0" presId="urn:microsoft.com/office/officeart/2005/8/layout/pyramid2"/>
    <dgm:cxn modelId="{7DDCBFEC-8838-45CB-A1E2-536DB75500FA}" type="presParOf" srcId="{9F898C8D-D0FB-4AD5-98B8-3D05E8A6ECFD}" destId="{34723FE8-5804-408F-A910-5443F8CF3992}" srcOrd="3" destOrd="0" presId="urn:microsoft.com/office/officeart/2005/8/layout/pyramid2"/>
    <dgm:cxn modelId="{99D964D1-56FF-4DF5-B38D-44E2E4293B8F}" type="presParOf" srcId="{9F898C8D-D0FB-4AD5-98B8-3D05E8A6ECFD}" destId="{007ED411-CEBE-446A-8C42-602B5B87F4BC}" srcOrd="4" destOrd="0" presId="urn:microsoft.com/office/officeart/2005/8/layout/pyramid2"/>
    <dgm:cxn modelId="{8D50DBB7-D07A-4890-9C42-149B0144B0B8}" type="presParOf" srcId="{9F898C8D-D0FB-4AD5-98B8-3D05E8A6ECFD}" destId="{63D4BD69-DE17-458D-B002-7D52158D7389}" srcOrd="5" destOrd="0" presId="urn:microsoft.com/office/officeart/2005/8/layout/pyramid2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7FA6B36B-CDA4-4296-AA98-FC190347C413}">
      <dsp:nvSpPr>
        <dsp:cNvPr id="0" name=""/>
        <dsp:cNvSpPr/>
      </dsp:nvSpPr>
      <dsp:spPr>
        <a:xfrm>
          <a:off x="3201" y="1110"/>
          <a:ext cx="8634556" cy="1211396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98120" tIns="198120" rIns="198120" bIns="198120" numCol="1" spcCol="1270" anchor="ctr" anchorCtr="0">
          <a:noAutofit/>
        </a:bodyPr>
        <a:lstStyle/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5200" kern="1200" dirty="0" smtClean="0"/>
            <a:t>методы</a:t>
          </a:r>
          <a:endParaRPr lang="ru-RU" sz="5200" kern="1200" dirty="0"/>
        </a:p>
      </dsp:txBody>
      <dsp:txXfrm>
        <a:off x="38682" y="36591"/>
        <a:ext cx="8563594" cy="1140434"/>
      </dsp:txXfrm>
    </dsp:sp>
    <dsp:sp modelId="{8F35FC55-5B7C-44EE-AFFA-F14346811844}">
      <dsp:nvSpPr>
        <dsp:cNvPr id="0" name=""/>
        <dsp:cNvSpPr/>
      </dsp:nvSpPr>
      <dsp:spPr>
        <a:xfrm>
          <a:off x="68017" y="1375065"/>
          <a:ext cx="3790805" cy="1575370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25730" tIns="125730" rIns="125730" bIns="125730" numCol="1" spcCol="1270" anchor="ctr" anchorCtr="0">
          <a:noAutofit/>
        </a:bodyPr>
        <a:lstStyle/>
        <a:p>
          <a:pPr lvl="0" algn="ctr" defTabSz="14668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3300" kern="1200" dirty="0" smtClean="0"/>
            <a:t>обеспечивающие</a:t>
          </a:r>
          <a:endParaRPr lang="ru-RU" sz="3300" kern="1200" dirty="0"/>
        </a:p>
      </dsp:txBody>
      <dsp:txXfrm>
        <a:off x="114158" y="1421206"/>
        <a:ext cx="3698523" cy="1483088"/>
      </dsp:txXfrm>
    </dsp:sp>
    <dsp:sp modelId="{F4927228-FABF-4568-9A0A-9CBA97223526}">
      <dsp:nvSpPr>
        <dsp:cNvPr id="0" name=""/>
        <dsp:cNvSpPr/>
      </dsp:nvSpPr>
      <dsp:spPr>
        <a:xfrm>
          <a:off x="11629" y="3112993"/>
          <a:ext cx="3903580" cy="1575370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87630" tIns="87630" rIns="87630" bIns="87630" numCol="1" spcCol="1270" anchor="ctr" anchorCtr="0">
          <a:noAutofit/>
        </a:bodyPr>
        <a:lstStyle/>
        <a:p>
          <a:pPr lvl="0" algn="ctr" defTabSz="10223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300" kern="1200" dirty="0" smtClean="0"/>
            <a:t>обеспечивают необходимые условия проведения образовательного процесса</a:t>
          </a:r>
          <a:endParaRPr lang="ru-RU" sz="2300" kern="1200" dirty="0"/>
        </a:p>
      </dsp:txBody>
      <dsp:txXfrm>
        <a:off x="57770" y="3159134"/>
        <a:ext cx="3811298" cy="1483088"/>
      </dsp:txXfrm>
    </dsp:sp>
    <dsp:sp modelId="{AD1F72D1-F0F3-4F91-85EC-FB6B9FEDF400}">
      <dsp:nvSpPr>
        <dsp:cNvPr id="0" name=""/>
        <dsp:cNvSpPr/>
      </dsp:nvSpPr>
      <dsp:spPr>
        <a:xfrm>
          <a:off x="4243111" y="1375065"/>
          <a:ext cx="4386219" cy="1575370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25730" tIns="125730" rIns="125730" bIns="125730" numCol="1" spcCol="1270" anchor="ctr" anchorCtr="0">
          <a:noAutofit/>
        </a:bodyPr>
        <a:lstStyle/>
        <a:p>
          <a:pPr lvl="0" algn="ctr" defTabSz="14668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3300" kern="1200" dirty="0" smtClean="0"/>
            <a:t>реконструирующие</a:t>
          </a:r>
          <a:endParaRPr lang="ru-RU" sz="3300" kern="1200" dirty="0"/>
        </a:p>
      </dsp:txBody>
      <dsp:txXfrm>
        <a:off x="4289252" y="1421206"/>
        <a:ext cx="4293937" cy="1483088"/>
      </dsp:txXfrm>
    </dsp:sp>
    <dsp:sp modelId="{008B8549-7BCC-4EA9-9C2D-8974F0421DC9}">
      <dsp:nvSpPr>
        <dsp:cNvPr id="0" name=""/>
        <dsp:cNvSpPr/>
      </dsp:nvSpPr>
      <dsp:spPr>
        <a:xfrm>
          <a:off x="4484430" y="3112993"/>
          <a:ext cx="3903580" cy="1575370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87630" tIns="87630" rIns="87630" bIns="87630" numCol="1" spcCol="1270" anchor="ctr" anchorCtr="0">
          <a:noAutofit/>
        </a:bodyPr>
        <a:lstStyle/>
        <a:p>
          <a:pPr lvl="0" algn="ctr" defTabSz="10223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300" kern="1200" dirty="0" smtClean="0"/>
            <a:t>нацелены на привнесение новых элементов, условий, не предусмотренных нормативными актами</a:t>
          </a:r>
          <a:endParaRPr lang="ru-RU" sz="2300" kern="1200" dirty="0"/>
        </a:p>
      </dsp:txBody>
      <dsp:txXfrm>
        <a:off x="4530571" y="3159134"/>
        <a:ext cx="3811298" cy="1483088"/>
      </dsp:txXfrm>
    </dsp:sp>
  </dsp:spTree>
</dsp:drawing>
</file>

<file path=ppt/diagrams/drawing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7FA6B36B-CDA4-4296-AA98-FC190347C413}">
      <dsp:nvSpPr>
        <dsp:cNvPr id="0" name=""/>
        <dsp:cNvSpPr/>
      </dsp:nvSpPr>
      <dsp:spPr>
        <a:xfrm>
          <a:off x="3201" y="1110"/>
          <a:ext cx="8634556" cy="1211396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98120" tIns="198120" rIns="198120" bIns="198120" numCol="1" spcCol="1270" anchor="ctr" anchorCtr="0">
          <a:noAutofit/>
        </a:bodyPr>
        <a:lstStyle/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5200" kern="1200" dirty="0" smtClean="0"/>
            <a:t>методы</a:t>
          </a:r>
          <a:endParaRPr lang="ru-RU" sz="5200" kern="1200" dirty="0"/>
        </a:p>
      </dsp:txBody>
      <dsp:txXfrm>
        <a:off x="38682" y="36591"/>
        <a:ext cx="8563594" cy="1140434"/>
      </dsp:txXfrm>
    </dsp:sp>
    <dsp:sp modelId="{8F35FC55-5B7C-44EE-AFFA-F14346811844}">
      <dsp:nvSpPr>
        <dsp:cNvPr id="0" name=""/>
        <dsp:cNvSpPr/>
      </dsp:nvSpPr>
      <dsp:spPr>
        <a:xfrm>
          <a:off x="68017" y="1375065"/>
          <a:ext cx="3790805" cy="1575370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21920" tIns="121920" rIns="121920" bIns="121920" numCol="1" spcCol="1270" anchor="ctr" anchorCtr="0">
          <a:noAutofit/>
        </a:bodyPr>
        <a:lstStyle/>
        <a:p>
          <a:pPr lvl="0" algn="ctr" defTabSz="1422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3200" kern="1200" dirty="0" smtClean="0"/>
            <a:t>специфические</a:t>
          </a:r>
          <a:endParaRPr lang="ru-RU" sz="3200" kern="1200" dirty="0"/>
        </a:p>
      </dsp:txBody>
      <dsp:txXfrm>
        <a:off x="114158" y="1421206"/>
        <a:ext cx="3698523" cy="1483088"/>
      </dsp:txXfrm>
    </dsp:sp>
    <dsp:sp modelId="{2CABDC4C-ECD6-4A31-890A-94B87988CF53}">
      <dsp:nvSpPr>
        <dsp:cNvPr id="0" name=""/>
        <dsp:cNvSpPr/>
      </dsp:nvSpPr>
      <dsp:spPr>
        <a:xfrm>
          <a:off x="11629" y="3112993"/>
          <a:ext cx="3903580" cy="1575370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99060" tIns="99060" rIns="99060" bIns="99060" numCol="1" spcCol="1270" anchor="ctr" anchorCtr="0">
          <a:noAutofit/>
        </a:bodyPr>
        <a:lstStyle/>
        <a:p>
          <a:pPr lvl="0" algn="ctr" defTabSz="11557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600" kern="1200" dirty="0" smtClean="0"/>
            <a:t>характерные только для процесса    педагогики    оздоровления</a:t>
          </a:r>
          <a:endParaRPr lang="ru-RU" sz="2600" kern="1200" dirty="0"/>
        </a:p>
      </dsp:txBody>
      <dsp:txXfrm>
        <a:off x="57770" y="3159134"/>
        <a:ext cx="3811298" cy="1483088"/>
      </dsp:txXfrm>
    </dsp:sp>
    <dsp:sp modelId="{AD1F72D1-F0F3-4F91-85EC-FB6B9FEDF400}">
      <dsp:nvSpPr>
        <dsp:cNvPr id="0" name=""/>
        <dsp:cNvSpPr/>
      </dsp:nvSpPr>
      <dsp:spPr>
        <a:xfrm>
          <a:off x="4243111" y="1375065"/>
          <a:ext cx="4386219" cy="1575370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21920" tIns="121920" rIns="121920" bIns="121920" numCol="1" spcCol="1270" anchor="ctr" anchorCtr="0">
          <a:noAutofit/>
        </a:bodyPr>
        <a:lstStyle/>
        <a:p>
          <a:pPr lvl="0" algn="ctr" defTabSz="1422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3200" kern="1200" dirty="0" smtClean="0"/>
            <a:t>общепедагогические</a:t>
          </a:r>
          <a:endParaRPr lang="ru-RU" sz="3200" kern="1200" dirty="0"/>
        </a:p>
      </dsp:txBody>
      <dsp:txXfrm>
        <a:off x="4289252" y="1421206"/>
        <a:ext cx="4293937" cy="1483088"/>
      </dsp:txXfrm>
    </dsp:sp>
    <dsp:sp modelId="{D95E825F-D13C-46FC-85B2-24ED53155A6B}">
      <dsp:nvSpPr>
        <dsp:cNvPr id="0" name=""/>
        <dsp:cNvSpPr/>
      </dsp:nvSpPr>
      <dsp:spPr>
        <a:xfrm>
          <a:off x="4484430" y="3112993"/>
          <a:ext cx="3903580" cy="1575370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99060" tIns="99060" rIns="99060" bIns="99060" numCol="1" spcCol="1270" anchor="ctr" anchorCtr="0">
          <a:noAutofit/>
        </a:bodyPr>
        <a:lstStyle/>
        <a:p>
          <a:pPr lvl="0" algn="ctr" defTabSz="11557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600" kern="1200" smtClean="0"/>
            <a:t>применяемые во   всех  случаях       обучения и  воспитания</a:t>
          </a:r>
          <a:endParaRPr lang="ru-RU" sz="2600" kern="1200"/>
        </a:p>
      </dsp:txBody>
      <dsp:txXfrm>
        <a:off x="4530571" y="3159134"/>
        <a:ext cx="3811298" cy="1483088"/>
      </dsp:txXfrm>
    </dsp:sp>
  </dsp:spTree>
</dsp:drawing>
</file>

<file path=ppt/diagrams/drawing3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6F72367A-68BD-4D0C-87A3-400365502282}">
      <dsp:nvSpPr>
        <dsp:cNvPr id="0" name=""/>
        <dsp:cNvSpPr/>
      </dsp:nvSpPr>
      <dsp:spPr>
        <a:xfrm>
          <a:off x="1964234" y="278"/>
          <a:ext cx="3867561" cy="1547024"/>
        </a:xfrm>
        <a:prstGeom prst="chevron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5400" tIns="12700" rIns="0" bIns="12700" numCol="1" spcCol="1270" anchor="ctr" anchorCtr="0">
          <a:noAutofit/>
        </a:bodyPr>
        <a:lstStyle/>
        <a:p>
          <a:pPr lvl="0" algn="ctr" defTabSz="8890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kern="1200" baseline="0" dirty="0" smtClean="0"/>
            <a:t>защитно-профилактические </a:t>
          </a:r>
          <a:br>
            <a:rPr lang="ru-RU" sz="2000" kern="1200" baseline="0" dirty="0" smtClean="0"/>
          </a:br>
          <a:r>
            <a:rPr lang="ru-RU" sz="2000" kern="1200" baseline="0" dirty="0" smtClean="0"/>
            <a:t>  (личная гигиена и гигиена обучения);</a:t>
          </a:r>
          <a:endParaRPr lang="ru-RU" sz="2000" kern="1200" dirty="0"/>
        </a:p>
      </dsp:txBody>
      <dsp:txXfrm>
        <a:off x="2737746" y="278"/>
        <a:ext cx="2320537" cy="1547024"/>
      </dsp:txXfrm>
    </dsp:sp>
    <dsp:sp modelId="{D01A2150-8DDB-403E-AD92-D730AD4F3ACB}">
      <dsp:nvSpPr>
        <dsp:cNvPr id="0" name=""/>
        <dsp:cNvSpPr/>
      </dsp:nvSpPr>
      <dsp:spPr>
        <a:xfrm>
          <a:off x="1964234" y="1763886"/>
          <a:ext cx="3867561" cy="1547024"/>
        </a:xfrm>
        <a:prstGeom prst="chevron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5400" tIns="12700" rIns="0" bIns="12700" numCol="1" spcCol="1270" anchor="ctr" anchorCtr="0">
          <a:noAutofit/>
        </a:bodyPr>
        <a:lstStyle/>
        <a:p>
          <a:pPr lvl="0" algn="ctr" defTabSz="8890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kern="1200" baseline="0" smtClean="0"/>
            <a:t>компенсаторно-нейтрализующие</a:t>
          </a:r>
          <a:br>
            <a:rPr lang="ru-RU" sz="2000" kern="1200" baseline="0" smtClean="0"/>
          </a:br>
          <a:r>
            <a:rPr lang="ru-RU" sz="2000" kern="1200" baseline="0" smtClean="0"/>
            <a:t>  (физкультминутки, гимнастика, массаж);</a:t>
          </a:r>
          <a:endParaRPr lang="ru-RU" sz="2000" kern="1200"/>
        </a:p>
      </dsp:txBody>
      <dsp:txXfrm>
        <a:off x="2737746" y="1763886"/>
        <a:ext cx="2320537" cy="1547024"/>
      </dsp:txXfrm>
    </dsp:sp>
  </dsp:spTree>
</dsp:drawing>
</file>

<file path=ppt/diagrams/drawing4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E3A0AB7-7AFB-42D2-891D-1A33A06A4E05}">
      <dsp:nvSpPr>
        <dsp:cNvPr id="0" name=""/>
        <dsp:cNvSpPr/>
      </dsp:nvSpPr>
      <dsp:spPr>
        <a:xfrm>
          <a:off x="1964234" y="278"/>
          <a:ext cx="3867561" cy="1547024"/>
        </a:xfrm>
        <a:prstGeom prst="chevron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2860" tIns="11430" rIns="0" bIns="11430" numCol="1" spcCol="1270" anchor="ctr" anchorCtr="0">
          <a:noAutofit/>
        </a:bodyPr>
        <a:lstStyle/>
        <a:p>
          <a:pPr lvl="0" algn="ctr" defTabSz="8001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800" kern="1200" baseline="0" smtClean="0"/>
            <a:t>стимулирующие </a:t>
          </a:r>
          <a:br>
            <a:rPr lang="ru-RU" sz="1800" kern="1200" baseline="0" smtClean="0"/>
          </a:br>
          <a:r>
            <a:rPr lang="ru-RU" sz="1800" kern="1200" baseline="0" smtClean="0"/>
            <a:t>  (элементы закаливания, физические нагрузки);</a:t>
          </a:r>
          <a:endParaRPr lang="ru-RU" sz="1800" kern="1200"/>
        </a:p>
      </dsp:txBody>
      <dsp:txXfrm>
        <a:off x="2737746" y="278"/>
        <a:ext cx="2320537" cy="1547024"/>
      </dsp:txXfrm>
    </dsp:sp>
    <dsp:sp modelId="{54FA1B89-E71A-409F-AFD0-22DADB35D2C6}">
      <dsp:nvSpPr>
        <dsp:cNvPr id="0" name=""/>
        <dsp:cNvSpPr/>
      </dsp:nvSpPr>
      <dsp:spPr>
        <a:xfrm>
          <a:off x="1964234" y="1763886"/>
          <a:ext cx="3867561" cy="1547024"/>
        </a:xfrm>
        <a:prstGeom prst="chevron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2860" tIns="11430" rIns="0" bIns="11430" numCol="1" spcCol="1270" anchor="ctr" anchorCtr="0">
          <a:noAutofit/>
        </a:bodyPr>
        <a:lstStyle/>
        <a:p>
          <a:pPr lvl="0" algn="ctr" defTabSz="8001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800" kern="1200" baseline="0" smtClean="0"/>
            <a:t>информационно-обучающие </a:t>
          </a:r>
          <a:br>
            <a:rPr lang="ru-RU" sz="1800" kern="1200" baseline="0" smtClean="0"/>
          </a:br>
          <a:r>
            <a:rPr lang="ru-RU" sz="1800" kern="1200" baseline="0" smtClean="0"/>
            <a:t>  (письма, адресованные родителям, учащимся, педагогам).</a:t>
          </a:r>
          <a:endParaRPr lang="ru-RU" sz="1800" kern="1200"/>
        </a:p>
      </dsp:txBody>
      <dsp:txXfrm>
        <a:off x="2737746" y="1763886"/>
        <a:ext cx="2320537" cy="1547024"/>
      </dsp:txXfrm>
    </dsp:sp>
  </dsp:spTree>
</dsp:drawing>
</file>

<file path=ppt/diagrams/drawing5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0FACC9BA-394E-4452-BB57-0B7CE71DED82}">
      <dsp:nvSpPr>
        <dsp:cNvPr id="0" name=""/>
        <dsp:cNvSpPr/>
      </dsp:nvSpPr>
      <dsp:spPr>
        <a:xfrm>
          <a:off x="1166284" y="0"/>
          <a:ext cx="3311189" cy="3311189"/>
        </a:xfrm>
        <a:prstGeom prst="triangle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FEE149FD-4646-4422-B989-F8EEED7E8DFF}">
      <dsp:nvSpPr>
        <dsp:cNvPr id="0" name=""/>
        <dsp:cNvSpPr/>
      </dsp:nvSpPr>
      <dsp:spPr>
        <a:xfrm>
          <a:off x="354007" y="331130"/>
          <a:ext cx="7088015" cy="704459"/>
        </a:xfrm>
        <a:prstGeom prst="round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800" b="1" kern="1200" baseline="0" dirty="0" smtClean="0"/>
            <a:t>от профессионализма педагога</a:t>
          </a:r>
          <a:endParaRPr lang="ru-RU" sz="2800" kern="1200" dirty="0"/>
        </a:p>
      </dsp:txBody>
      <dsp:txXfrm>
        <a:off x="388396" y="365519"/>
        <a:ext cx="7019237" cy="635681"/>
      </dsp:txXfrm>
    </dsp:sp>
    <dsp:sp modelId="{88914A91-73D2-49F0-B216-E97AE9725348}">
      <dsp:nvSpPr>
        <dsp:cNvPr id="0" name=""/>
        <dsp:cNvSpPr/>
      </dsp:nvSpPr>
      <dsp:spPr>
        <a:xfrm>
          <a:off x="354007" y="1092905"/>
          <a:ext cx="7088015" cy="720090"/>
        </a:xfrm>
        <a:prstGeom prst="round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800" b="1" kern="1200" baseline="0" dirty="0" smtClean="0"/>
            <a:t> от его личной заинтересованности</a:t>
          </a:r>
          <a:endParaRPr lang="ru-RU" sz="2800" kern="1200" dirty="0"/>
        </a:p>
      </dsp:txBody>
      <dsp:txXfrm>
        <a:off x="389159" y="1128057"/>
        <a:ext cx="7017711" cy="649786"/>
      </dsp:txXfrm>
    </dsp:sp>
    <dsp:sp modelId="{007ED411-CEBE-446A-8C42-602B5B87F4BC}">
      <dsp:nvSpPr>
        <dsp:cNvPr id="0" name=""/>
        <dsp:cNvSpPr/>
      </dsp:nvSpPr>
      <dsp:spPr>
        <a:xfrm>
          <a:off x="326436" y="1870311"/>
          <a:ext cx="7143156" cy="1052431"/>
        </a:xfrm>
        <a:prstGeom prst="round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06680" tIns="106680" rIns="106680" bIns="106680" numCol="1" spcCol="1270" anchor="t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800" b="1" kern="1200" baseline="0" dirty="0" smtClean="0"/>
            <a:t>от уровня, на котором используется  технология</a:t>
          </a:r>
          <a:endParaRPr lang="ru-RU" sz="2800" kern="1200" dirty="0"/>
        </a:p>
        <a:p>
          <a:pPr marL="228600" lvl="1" indent="-228600" algn="ctr" defTabSz="889000" rtl="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endParaRPr lang="ru-RU" sz="2000" kern="1200"/>
        </a:p>
        <a:p>
          <a:pPr marL="228600" lvl="1" indent="-228600" algn="ctr" defTabSz="889000" rtl="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endParaRPr lang="ru-RU" sz="2000" kern="1200"/>
        </a:p>
      </dsp:txBody>
      <dsp:txXfrm>
        <a:off x="377811" y="1921686"/>
        <a:ext cx="7040406" cy="949681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hierarchy4">
  <dgm:title val=""/>
  <dgm:desc val=""/>
  <dgm:catLst>
    <dgm:cat type="hierarchy" pri="4000"/>
    <dgm:cat type="list" pri="24000"/>
    <dgm:cat type="relationship" pri="10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" destId="22" srcOrd="1" destOrd="0"/>
        <dgm:cxn modelId="33" srcId="3" destId="31" srcOrd="0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</dgm:ptLst>
      <dgm:cxnLst>
        <dgm:cxn modelId="2" srcId="0" destId="1" srcOrd="0" destOrd="0"/>
        <dgm:cxn modelId="13" srcId="1" destId="11" srcOrd="0" destOrd="0"/>
        <dgm:cxn modelId="14" srcId="1" destId="1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21"/>
        <dgm:pt modelId="211"/>
        <dgm:pt modelId="3"/>
        <dgm:pt modelId="31"/>
        <dgm:pt modelId="311"/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1" destId="211" srcOrd="0" destOrd="0"/>
        <dgm:cxn modelId="33" srcId="3" destId="31" srcOrd="0" destOrd="0"/>
        <dgm:cxn modelId="34" srcId="31" destId="311" srcOrd="0" destOrd="0"/>
      </dgm:cxnLst>
      <dgm:bg/>
      <dgm:whole/>
    </dgm:dataModel>
  </dgm:clrData>
  <dgm:layoutNode name="Name0">
    <dgm:varLst>
      <dgm:chPref val="1"/>
      <dgm:dir/>
      <dgm:animOne val="branch"/>
      <dgm:animLvl val="lvl"/>
      <dgm:resizeHandles/>
    </dgm:varLst>
    <dgm:choose name="Name1">
      <dgm:if name="Name2" func="var" arg="dir" op="equ" val="norm">
        <dgm:alg type="lin">
          <dgm:param type="linDir" val="fromL"/>
          <dgm:param type="nodeVertAlign" val="t"/>
        </dgm:alg>
      </dgm:if>
      <dgm:else name="Name3">
        <dgm:alg type="lin">
          <dgm:param type="linDir" val="fromR"/>
          <dgm:param type="nodeVertAlign" val="t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vertOne" refType="w"/>
      <dgm:constr type="w" for="des" forName="horzOne" refType="w"/>
      <dgm:constr type="w" for="des" forName="txOne" refType="w"/>
      <dgm:constr type="w" for="des" forName="vertTwo" refType="w"/>
      <dgm:constr type="w" for="des" forName="horzTwo" refType="w"/>
      <dgm:constr type="w" for="des" forName="txTwo" refType="w"/>
      <dgm:constr type="w" for="des" forName="vertThree" refType="w"/>
      <dgm:constr type="w" for="des" forName="horzThree" refType="w"/>
      <dgm:constr type="w" for="des" forName="txThree" refType="w"/>
      <dgm:constr type="w" for="des" forName="vertFour" refType="w"/>
      <dgm:constr type="w" for="des" forName="horzFour" refType="w"/>
      <dgm:constr type="w" for="des" forName="txFour" refType="w"/>
      <dgm:constr type="h" for="des" ptType="node" op="equ"/>
      <dgm:constr type="h" for="des" forName="txOne" refType="h"/>
      <dgm:constr type="userH" for="des" ptType="node" refType="h" refFor="des" refForName="txOne"/>
      <dgm:constr type="primFontSz" for="des" forName="txOne" val="65"/>
      <dgm:constr type="primFontSz" for="des" forName="txTwo" val="65"/>
      <dgm:constr type="primFontSz" for="des" forName="txTwo" refType="primFontSz" refFor="des" refForName="txOne" op="lte"/>
      <dgm:constr type="primFontSz" for="des" forName="txThree" val="65"/>
      <dgm:constr type="primFontSz" for="des" forName="txThree" refType="primFontSz" refFor="des" refForName="txOne" op="lte"/>
      <dgm:constr type="primFontSz" for="des" forName="txThree" refType="primFontSz" refFor="des" refForName="txTwo" op="lte"/>
      <dgm:constr type="primFontSz" for="des" forName="txFour" val="65"/>
      <dgm:constr type="primFontSz" for="des" forName="txFour" refType="primFontSz" refFor="des" refForName="txOne" op="lte"/>
      <dgm:constr type="primFontSz" for="des" forName="txFour" refType="primFontSz" refFor="des" refForName="txTwo" op="lte"/>
      <dgm:constr type="primFontSz" for="des" forName="txFour" refType="primFontSz" refFor="des" refForName="txThree" op="lte"/>
      <dgm:constr type="w" for="des" forName="sibSpaceOne" refType="w" fact="0.168"/>
      <dgm:constr type="w" for="des" forName="sibSpaceTwo" refType="w" refFor="des" refForName="sibSpaceOne" op="equ" fact="0.5"/>
      <dgm:constr type="w" for="des" forName="sibSpaceThree" refType="w" refFor="des" refForName="sibSpaceTwo" op="equ" fact="0.5"/>
      <dgm:constr type="w" for="des" forName="sibSpaceFour" refType="w" refFor="des" refForName="sibSpaceThree" op="equ" fact="0.5"/>
      <dgm:constr type="h" for="des" forName="parTransOne" refType="w" fact="0.056"/>
      <dgm:constr type="h" for="des" forName="parTransTwo" refType="h" refFor="des" refForName="parTransOne" op="equ"/>
      <dgm:constr type="h" for="des" forName="parTransThree" refType="h" refFor="des" refForName="parTransTwo" op="equ"/>
      <dgm:constr type="h" for="des" forName="parTransFour" refType="h" refFor="des" refForName="parTransThree" op="equ"/>
    </dgm:constrLst>
    <dgm:ruleLst/>
    <dgm:forEach name="Name4" axis="ch" ptType="node">
      <dgm:layoutNode name="vertOne">
        <dgm:alg type="lin">
          <dgm:param type="linDir" val="fromT"/>
        </dgm:alg>
        <dgm:shape xmlns:r="http://schemas.openxmlformats.org/officeDocument/2006/relationships" r:blip="">
          <dgm:adjLst/>
        </dgm:shape>
        <dgm:presOf/>
        <dgm:constrLst>
          <dgm:constr type="w" for="ch" forName="txOne" refType="w" refFor="ch" refForName="horzOne" op="gte"/>
        </dgm:constrLst>
        <dgm:ruleLst/>
        <dgm:layoutNode name="txOne" styleLbl="node0">
          <dgm:varLst>
            <dgm:chPref val="3"/>
          </dgm:varLst>
          <dgm:alg type="tx"/>
          <dgm:shape xmlns:r="http://schemas.openxmlformats.org/officeDocument/2006/relationships" type="roundRect" r:blip="">
            <dgm:adjLst>
              <dgm:adj idx="1" val="0.1"/>
            </dgm:adjLst>
          </dgm:shape>
          <dgm:presOf axis="self"/>
          <dgm:constrLst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choose name="Name5">
          <dgm:if name="Name6" axis="des" ptType="node" func="cnt" op="gt" val="0">
            <dgm:layoutNode name="parTransOne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if>
          <dgm:else name="Name7"/>
        </dgm:choose>
        <dgm:layoutNode name="horzOne">
          <dgm:choose name="Name8">
            <dgm:if name="Name9" func="var" arg="dir" op="equ" val="norm">
              <dgm:alg type="lin">
                <dgm:param type="linDir" val="fromL"/>
                <dgm:param type="nodeVertAlign" val="t"/>
              </dgm:alg>
            </dgm:if>
            <dgm:else name="Name10">
              <dgm:alg type="lin">
                <dgm:param type="linDir" val="fromR"/>
                <dgm:param type="nodeVertAlign" val="t"/>
              </dgm:alg>
            </dgm:else>
          </dgm:choose>
          <dgm:shape xmlns:r="http://schemas.openxmlformats.org/officeDocument/2006/relationships" r:blip="">
            <dgm:adjLst/>
          </dgm:shape>
          <dgm:presOf/>
          <dgm:constrLst/>
          <dgm:ruleLst>
            <dgm:rule type="w" val="INF" fact="NaN" max="NaN"/>
          </dgm:ruleLst>
          <dgm:forEach name="Name11" axis="ch" ptType="node">
            <dgm:layoutNode name="vertTwo">
              <dgm:alg type="lin">
                <dgm:param type="linDir" val="fromT"/>
              </dgm:alg>
              <dgm:shape xmlns:r="http://schemas.openxmlformats.org/officeDocument/2006/relationships" r:blip="">
                <dgm:adjLst/>
              </dgm:shape>
              <dgm:presOf/>
              <dgm:constrLst>
                <dgm:constr type="w" for="ch" forName="txTwo" refType="w" refFor="ch" refForName="horzTwo" op="gte"/>
              </dgm:constrLst>
              <dgm:ruleLst/>
              <dgm:layoutNode name="txTwo">
                <dgm:varLst>
                  <dgm:chPref val="3"/>
                </dgm:varLst>
                <dgm:alg type="tx"/>
                <dgm:shape xmlns:r="http://schemas.openxmlformats.org/officeDocument/2006/relationships" type="roundRect" r:blip="">
                  <dgm:adjLst>
                    <dgm:adj idx="1" val="0.1"/>
                  </dgm:adjLst>
                </dgm:shape>
                <dgm:presOf axis="self"/>
                <dgm:constrLst>
                  <dgm:constr type="userH"/>
                  <dgm:constr type="h" refType="userH"/>
                  <dgm:constr type="tMarg" refType="primFontSz" fact="0.3"/>
                  <dgm:constr type="bMarg" refType="primFontSz" fact="0.3"/>
                  <dgm:constr type="lMarg" refType="primFontSz" fact="0.3"/>
                  <dgm:constr type="rMarg" refType="primFontSz" fact="0.3"/>
                </dgm:constrLst>
                <dgm:ruleLst>
                  <dgm:rule type="primFontSz" val="5" fact="NaN" max="NaN"/>
                </dgm:ruleLst>
              </dgm:layoutNode>
              <dgm:choose name="Name12">
                <dgm:if name="Name13" axis="des" ptType="node" func="cnt" op="gt" val="0">
                  <dgm:layoutNode name="parTransTwo">
                    <dgm:alg type="sp"/>
                    <dgm:shape xmlns:r="http://schemas.openxmlformats.org/officeDocument/2006/relationships" r:blip="">
                      <dgm:adjLst/>
                    </dgm:shape>
                    <dgm:presOf/>
                    <dgm:constrLst/>
                    <dgm:ruleLst/>
                  </dgm:layoutNode>
                </dgm:if>
                <dgm:else name="Name14"/>
              </dgm:choose>
              <dgm:layoutNode name="horzTwo">
                <dgm:choose name="Name15">
                  <dgm:if name="Name16" func="var" arg="dir" op="equ" val="norm">
                    <dgm:alg type="lin">
                      <dgm:param type="linDir" val="fromL"/>
                      <dgm:param type="nodeVertAlign" val="t"/>
                    </dgm:alg>
                  </dgm:if>
                  <dgm:else name="Name17">
                    <dgm:alg type="lin">
                      <dgm:param type="linDir" val="fromR"/>
                      <dgm:param type="nodeVertAlign" val="t"/>
                    </dgm:alg>
                  </dgm:else>
                </dgm:choose>
                <dgm:shape xmlns:r="http://schemas.openxmlformats.org/officeDocument/2006/relationships" r:blip="">
                  <dgm:adjLst/>
                </dgm:shape>
                <dgm:presOf/>
                <dgm:constrLst/>
                <dgm:ruleLst>
                  <dgm:rule type="w" val="INF" fact="NaN" max="NaN"/>
                </dgm:ruleLst>
                <dgm:forEach name="Name18" axis="ch" ptType="node">
                  <dgm:layoutNode name="vertThree">
                    <dgm:alg type="lin">
                      <dgm:param type="linDir" val="fromT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w" for="ch" forName="txThree" refType="w" refFor="ch" refForName="horzThree" op="gte"/>
                    </dgm:constrLst>
                    <dgm:ruleLst/>
                    <dgm:layoutNode name="txThree">
                      <dgm:varLst>
                        <dgm:chPref val="3"/>
                      </dgm:varLst>
                      <dgm:alg type="tx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self"/>
                      <dgm:constrLst>
                        <dgm:constr type="userH"/>
                        <dgm:constr type="h" refType="userH"/>
                        <dgm:constr type="tMarg" refType="primFontSz" fact="0.3"/>
                        <dgm:constr type="bMarg" refType="primFontSz" fact="0.3"/>
                        <dgm:constr type="lMarg" refType="primFontSz" fact="0.3"/>
                        <dgm:constr type="r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  <dgm:choose name="Name19">
                      <dgm:if name="Name20" axis="des" ptType="node" func="cnt" op="gt" val="0">
                        <dgm:layoutNode name="parTransThree">
                          <dgm:alg type="sp"/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/>
                          <dgm:ruleLst/>
                        </dgm:layoutNode>
                      </dgm:if>
                      <dgm:else name="Name21"/>
                    </dgm:choose>
                    <dgm:layoutNode name="horzThree">
                      <dgm:choose name="Name22">
                        <dgm:if name="Name23" func="var" arg="dir" op="equ" val="norm">
                          <dgm:alg type="lin">
                            <dgm:param type="linDir" val="fromL"/>
                            <dgm:param type="nodeVertAlign" val="t"/>
                          </dgm:alg>
                        </dgm:if>
                        <dgm:else name="Name24">
                          <dgm:alg type="lin">
                            <dgm:param type="linDir" val="fromR"/>
                            <dgm:param type="nodeVertAlign" val="t"/>
                          </dgm:alg>
                        </dgm:else>
                      </dgm:choose>
                      <dgm:shape xmlns:r="http://schemas.openxmlformats.org/officeDocument/2006/relationships" r:blip="">
                        <dgm:adjLst/>
                      </dgm:shape>
                      <dgm:presOf/>
                      <dgm:constrLst/>
                      <dgm:ruleLst>
                        <dgm:rule type="w" val="INF" fact="NaN" max="NaN"/>
                      </dgm:ruleLst>
                      <dgm:forEach name="repeat" axis="ch" ptType="node">
                        <dgm:layoutNode name="vertFour">
                          <dgm:varLst>
                            <dgm:chPref val="3"/>
                          </dgm:varLst>
                          <dgm:alg type="lin">
                            <dgm:param type="linDir" val="fromT"/>
                          </dgm:alg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>
                            <dgm:constr type="w" for="ch" forName="txFour" refType="w" refFor="ch" refForName="horzFour" op="gte"/>
                          </dgm:constrLst>
                          <dgm:ruleLst/>
                          <dgm:layoutNode name="txFour">
                            <dgm:varLst>
                              <dgm:chPref val="3"/>
                            </dgm:varLst>
                            <dgm:alg type="tx"/>
                            <dgm:shape xmlns:r="http://schemas.openxmlformats.org/officeDocument/2006/relationships" type="roundRect" r:blip="">
                              <dgm:adjLst>
                                <dgm:adj idx="1" val="0.1"/>
                              </dgm:adjLst>
                            </dgm:shape>
                            <dgm:presOf axis="self"/>
                            <dgm:constrLst>
                              <dgm:constr type="userH"/>
                              <dgm:constr type="h" refType="userH"/>
                              <dgm:constr type="tMarg" refType="primFontSz" fact="0.3"/>
                              <dgm:constr type="bMarg" refType="primFontSz" fact="0.3"/>
                              <dgm:constr type="lMarg" refType="primFontSz" fact="0.3"/>
                              <dgm:constr type="rMarg" refType="primFontSz" fact="0.3"/>
                            </dgm:constrLst>
                            <dgm:ruleLst>
                              <dgm:rule type="primFontSz" val="5" fact="NaN" max="NaN"/>
                            </dgm:ruleLst>
                          </dgm:layoutNode>
                          <dgm:choose name="Name25">
                            <dgm:if name="Name26" axis="des" ptType="node" func="cnt" op="gt" val="0">
                              <dgm:layoutNode name="parTransFour">
                                <dgm:alg type="sp"/>
                                <dgm:shape xmlns:r="http://schemas.openxmlformats.org/officeDocument/2006/relationships" r:blip="">
                                  <dgm:adjLst/>
                                </dgm:shape>
                                <dgm:presOf/>
                                <dgm:constrLst/>
                                <dgm:ruleLst/>
                              </dgm:layoutNode>
                            </dgm:if>
                            <dgm:else name="Name27"/>
                          </dgm:choose>
                          <dgm:layoutNode name="horzFour">
                            <dgm:choose name="Name28">
                              <dgm:if name="Name29" func="var" arg="dir" op="equ" val="norm">
                                <dgm:alg type="lin">
                                  <dgm:param type="linDir" val="fromL"/>
                                  <dgm:param type="nodeVertAlign" val="t"/>
                                </dgm:alg>
                              </dgm:if>
                              <dgm:else name="Name30">
                                <dgm:alg type="lin">
                                  <dgm:param type="linDir" val="fromR"/>
                                  <dgm:param type="nodeVertAlign" val="t"/>
                                </dgm:alg>
                              </dgm:else>
                            </dgm:choose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/>
                            <dgm:ruleLst>
                              <dgm:rule type="w" val="INF" fact="NaN" max="NaN"/>
                            </dgm:ruleLst>
                            <dgm:forEach name="Name31" ref="repeat"/>
                          </dgm:layoutNode>
                        </dgm:layoutNode>
                        <dgm:choose name="Name32">
                          <dgm:if name="Name33" axis="self" ptType="node" func="revPos" op="gte" val="2">
                            <dgm:forEach name="Name34" axis="followSib" ptType="sibTrans" cnt="1">
                              <dgm:layoutNode name="sibSpaceFour">
                                <dgm:alg type="sp"/>
                                <dgm:shape xmlns:r="http://schemas.openxmlformats.org/officeDocument/2006/relationships" r:blip="">
                                  <dgm:adjLst/>
                                </dgm:shape>
                                <dgm:presOf/>
                                <dgm:constrLst/>
                                <dgm:ruleLst/>
                              </dgm:layoutNode>
                            </dgm:forEach>
                          </dgm:if>
                          <dgm:else name="Name35"/>
                        </dgm:choose>
                      </dgm:forEach>
                    </dgm:layoutNode>
                  </dgm:layoutNode>
                  <dgm:choose name="Name36">
                    <dgm:if name="Name37" axis="self" ptType="node" func="revPos" op="gte" val="2">
                      <dgm:forEach name="Name38" axis="followSib" ptType="sibTrans" cnt="1">
                        <dgm:layoutNode name="sibSpaceThree">
                          <dgm:alg type="sp"/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/>
                          <dgm:ruleLst/>
                        </dgm:layoutNode>
                      </dgm:forEach>
                    </dgm:if>
                    <dgm:else name="Name39"/>
                  </dgm:choose>
                </dgm:forEach>
              </dgm:layoutNode>
            </dgm:layoutNode>
            <dgm:choose name="Name40">
              <dgm:if name="Name41" axis="self" ptType="node" func="revPos" op="gte" val="2">
                <dgm:forEach name="Name42" axis="followSib" ptType="sibTrans" cnt="1">
                  <dgm:layoutNode name="sibSpaceTwo">
                    <dgm:alg type="sp"/>
                    <dgm:shape xmlns:r="http://schemas.openxmlformats.org/officeDocument/2006/relationships" r:blip="">
                      <dgm:adjLst/>
                    </dgm:shape>
                    <dgm:presOf/>
                    <dgm:constrLst/>
                    <dgm:ruleLst/>
                  </dgm:layoutNode>
                </dgm:forEach>
              </dgm:if>
              <dgm:else name="Name43"/>
            </dgm:choose>
          </dgm:forEach>
        </dgm:layoutNode>
      </dgm:layoutNode>
      <dgm:choose name="Name44">
        <dgm:if name="Name45" axis="self" ptType="node" func="revPos" op="gte" val="2">
          <dgm:forEach name="Name46" axis="followSib" ptType="sibTrans" cnt="1">
            <dgm:layoutNode name="sibSpaceOne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forEach>
        </dgm:if>
        <dgm:else name="Name47"/>
      </dgm:choose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hierarchy4">
  <dgm:title val=""/>
  <dgm:desc val=""/>
  <dgm:catLst>
    <dgm:cat type="hierarchy" pri="4000"/>
    <dgm:cat type="list" pri="24000"/>
    <dgm:cat type="relationship" pri="10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" destId="22" srcOrd="1" destOrd="0"/>
        <dgm:cxn modelId="33" srcId="3" destId="31" srcOrd="0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</dgm:ptLst>
      <dgm:cxnLst>
        <dgm:cxn modelId="2" srcId="0" destId="1" srcOrd="0" destOrd="0"/>
        <dgm:cxn modelId="13" srcId="1" destId="11" srcOrd="0" destOrd="0"/>
        <dgm:cxn modelId="14" srcId="1" destId="1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21"/>
        <dgm:pt modelId="211"/>
        <dgm:pt modelId="3"/>
        <dgm:pt modelId="31"/>
        <dgm:pt modelId="311"/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1" destId="211" srcOrd="0" destOrd="0"/>
        <dgm:cxn modelId="33" srcId="3" destId="31" srcOrd="0" destOrd="0"/>
        <dgm:cxn modelId="34" srcId="31" destId="311" srcOrd="0" destOrd="0"/>
      </dgm:cxnLst>
      <dgm:bg/>
      <dgm:whole/>
    </dgm:dataModel>
  </dgm:clrData>
  <dgm:layoutNode name="Name0">
    <dgm:varLst>
      <dgm:chPref val="1"/>
      <dgm:dir/>
      <dgm:animOne val="branch"/>
      <dgm:animLvl val="lvl"/>
      <dgm:resizeHandles/>
    </dgm:varLst>
    <dgm:choose name="Name1">
      <dgm:if name="Name2" func="var" arg="dir" op="equ" val="norm">
        <dgm:alg type="lin">
          <dgm:param type="linDir" val="fromL"/>
          <dgm:param type="nodeVertAlign" val="t"/>
        </dgm:alg>
      </dgm:if>
      <dgm:else name="Name3">
        <dgm:alg type="lin">
          <dgm:param type="linDir" val="fromR"/>
          <dgm:param type="nodeVertAlign" val="t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vertOne" refType="w"/>
      <dgm:constr type="w" for="des" forName="horzOne" refType="w"/>
      <dgm:constr type="w" for="des" forName="txOne" refType="w"/>
      <dgm:constr type="w" for="des" forName="vertTwo" refType="w"/>
      <dgm:constr type="w" for="des" forName="horzTwo" refType="w"/>
      <dgm:constr type="w" for="des" forName="txTwo" refType="w"/>
      <dgm:constr type="w" for="des" forName="vertThree" refType="w"/>
      <dgm:constr type="w" for="des" forName="horzThree" refType="w"/>
      <dgm:constr type="w" for="des" forName="txThree" refType="w"/>
      <dgm:constr type="w" for="des" forName="vertFour" refType="w"/>
      <dgm:constr type="w" for="des" forName="horzFour" refType="w"/>
      <dgm:constr type="w" for="des" forName="txFour" refType="w"/>
      <dgm:constr type="h" for="des" ptType="node" op="equ"/>
      <dgm:constr type="h" for="des" forName="txOne" refType="h"/>
      <dgm:constr type="userH" for="des" ptType="node" refType="h" refFor="des" refForName="txOne"/>
      <dgm:constr type="primFontSz" for="des" forName="txOne" val="65"/>
      <dgm:constr type="primFontSz" for="des" forName="txTwo" val="65"/>
      <dgm:constr type="primFontSz" for="des" forName="txTwo" refType="primFontSz" refFor="des" refForName="txOne" op="lte"/>
      <dgm:constr type="primFontSz" for="des" forName="txThree" val="65"/>
      <dgm:constr type="primFontSz" for="des" forName="txThree" refType="primFontSz" refFor="des" refForName="txOne" op="lte"/>
      <dgm:constr type="primFontSz" for="des" forName="txThree" refType="primFontSz" refFor="des" refForName="txTwo" op="lte"/>
      <dgm:constr type="primFontSz" for="des" forName="txFour" val="65"/>
      <dgm:constr type="primFontSz" for="des" forName="txFour" refType="primFontSz" refFor="des" refForName="txOne" op="lte"/>
      <dgm:constr type="primFontSz" for="des" forName="txFour" refType="primFontSz" refFor="des" refForName="txTwo" op="lte"/>
      <dgm:constr type="primFontSz" for="des" forName="txFour" refType="primFontSz" refFor="des" refForName="txThree" op="lte"/>
      <dgm:constr type="w" for="des" forName="sibSpaceOne" refType="w" fact="0.168"/>
      <dgm:constr type="w" for="des" forName="sibSpaceTwo" refType="w" refFor="des" refForName="sibSpaceOne" op="equ" fact="0.5"/>
      <dgm:constr type="w" for="des" forName="sibSpaceThree" refType="w" refFor="des" refForName="sibSpaceTwo" op="equ" fact="0.5"/>
      <dgm:constr type="w" for="des" forName="sibSpaceFour" refType="w" refFor="des" refForName="sibSpaceThree" op="equ" fact="0.5"/>
      <dgm:constr type="h" for="des" forName="parTransOne" refType="w" fact="0.056"/>
      <dgm:constr type="h" for="des" forName="parTransTwo" refType="h" refFor="des" refForName="parTransOne" op="equ"/>
      <dgm:constr type="h" for="des" forName="parTransThree" refType="h" refFor="des" refForName="parTransTwo" op="equ"/>
      <dgm:constr type="h" for="des" forName="parTransFour" refType="h" refFor="des" refForName="parTransThree" op="equ"/>
    </dgm:constrLst>
    <dgm:ruleLst/>
    <dgm:forEach name="Name4" axis="ch" ptType="node">
      <dgm:layoutNode name="vertOne">
        <dgm:alg type="lin">
          <dgm:param type="linDir" val="fromT"/>
        </dgm:alg>
        <dgm:shape xmlns:r="http://schemas.openxmlformats.org/officeDocument/2006/relationships" r:blip="">
          <dgm:adjLst/>
        </dgm:shape>
        <dgm:presOf/>
        <dgm:constrLst>
          <dgm:constr type="w" for="ch" forName="txOne" refType="w" refFor="ch" refForName="horzOne" op="gte"/>
        </dgm:constrLst>
        <dgm:ruleLst/>
        <dgm:layoutNode name="txOne" styleLbl="node0">
          <dgm:varLst>
            <dgm:chPref val="3"/>
          </dgm:varLst>
          <dgm:alg type="tx"/>
          <dgm:shape xmlns:r="http://schemas.openxmlformats.org/officeDocument/2006/relationships" type="roundRect" r:blip="">
            <dgm:adjLst>
              <dgm:adj idx="1" val="0.1"/>
            </dgm:adjLst>
          </dgm:shape>
          <dgm:presOf axis="self"/>
          <dgm:constrLst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choose name="Name5">
          <dgm:if name="Name6" axis="des" ptType="node" func="cnt" op="gt" val="0">
            <dgm:layoutNode name="parTransOne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if>
          <dgm:else name="Name7"/>
        </dgm:choose>
        <dgm:layoutNode name="horzOne">
          <dgm:choose name="Name8">
            <dgm:if name="Name9" func="var" arg="dir" op="equ" val="norm">
              <dgm:alg type="lin">
                <dgm:param type="linDir" val="fromL"/>
                <dgm:param type="nodeVertAlign" val="t"/>
              </dgm:alg>
            </dgm:if>
            <dgm:else name="Name10">
              <dgm:alg type="lin">
                <dgm:param type="linDir" val="fromR"/>
                <dgm:param type="nodeVertAlign" val="t"/>
              </dgm:alg>
            </dgm:else>
          </dgm:choose>
          <dgm:shape xmlns:r="http://schemas.openxmlformats.org/officeDocument/2006/relationships" r:blip="">
            <dgm:adjLst/>
          </dgm:shape>
          <dgm:presOf/>
          <dgm:constrLst/>
          <dgm:ruleLst>
            <dgm:rule type="w" val="INF" fact="NaN" max="NaN"/>
          </dgm:ruleLst>
          <dgm:forEach name="Name11" axis="ch" ptType="node">
            <dgm:layoutNode name="vertTwo">
              <dgm:alg type="lin">
                <dgm:param type="linDir" val="fromT"/>
              </dgm:alg>
              <dgm:shape xmlns:r="http://schemas.openxmlformats.org/officeDocument/2006/relationships" r:blip="">
                <dgm:adjLst/>
              </dgm:shape>
              <dgm:presOf/>
              <dgm:constrLst>
                <dgm:constr type="w" for="ch" forName="txTwo" refType="w" refFor="ch" refForName="horzTwo" op="gte"/>
              </dgm:constrLst>
              <dgm:ruleLst/>
              <dgm:layoutNode name="txTwo">
                <dgm:varLst>
                  <dgm:chPref val="3"/>
                </dgm:varLst>
                <dgm:alg type="tx"/>
                <dgm:shape xmlns:r="http://schemas.openxmlformats.org/officeDocument/2006/relationships" type="roundRect" r:blip="">
                  <dgm:adjLst>
                    <dgm:adj idx="1" val="0.1"/>
                  </dgm:adjLst>
                </dgm:shape>
                <dgm:presOf axis="self"/>
                <dgm:constrLst>
                  <dgm:constr type="userH"/>
                  <dgm:constr type="h" refType="userH"/>
                  <dgm:constr type="tMarg" refType="primFontSz" fact="0.3"/>
                  <dgm:constr type="bMarg" refType="primFontSz" fact="0.3"/>
                  <dgm:constr type="lMarg" refType="primFontSz" fact="0.3"/>
                  <dgm:constr type="rMarg" refType="primFontSz" fact="0.3"/>
                </dgm:constrLst>
                <dgm:ruleLst>
                  <dgm:rule type="primFontSz" val="5" fact="NaN" max="NaN"/>
                </dgm:ruleLst>
              </dgm:layoutNode>
              <dgm:choose name="Name12">
                <dgm:if name="Name13" axis="des" ptType="node" func="cnt" op="gt" val="0">
                  <dgm:layoutNode name="parTransTwo">
                    <dgm:alg type="sp"/>
                    <dgm:shape xmlns:r="http://schemas.openxmlformats.org/officeDocument/2006/relationships" r:blip="">
                      <dgm:adjLst/>
                    </dgm:shape>
                    <dgm:presOf/>
                    <dgm:constrLst/>
                    <dgm:ruleLst/>
                  </dgm:layoutNode>
                </dgm:if>
                <dgm:else name="Name14"/>
              </dgm:choose>
              <dgm:layoutNode name="horzTwo">
                <dgm:choose name="Name15">
                  <dgm:if name="Name16" func="var" arg="dir" op="equ" val="norm">
                    <dgm:alg type="lin">
                      <dgm:param type="linDir" val="fromL"/>
                      <dgm:param type="nodeVertAlign" val="t"/>
                    </dgm:alg>
                  </dgm:if>
                  <dgm:else name="Name17">
                    <dgm:alg type="lin">
                      <dgm:param type="linDir" val="fromR"/>
                      <dgm:param type="nodeVertAlign" val="t"/>
                    </dgm:alg>
                  </dgm:else>
                </dgm:choose>
                <dgm:shape xmlns:r="http://schemas.openxmlformats.org/officeDocument/2006/relationships" r:blip="">
                  <dgm:adjLst/>
                </dgm:shape>
                <dgm:presOf/>
                <dgm:constrLst/>
                <dgm:ruleLst>
                  <dgm:rule type="w" val="INF" fact="NaN" max="NaN"/>
                </dgm:ruleLst>
                <dgm:forEach name="Name18" axis="ch" ptType="node">
                  <dgm:layoutNode name="vertThree">
                    <dgm:alg type="lin">
                      <dgm:param type="linDir" val="fromT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w" for="ch" forName="txThree" refType="w" refFor="ch" refForName="horzThree" op="gte"/>
                    </dgm:constrLst>
                    <dgm:ruleLst/>
                    <dgm:layoutNode name="txThree">
                      <dgm:varLst>
                        <dgm:chPref val="3"/>
                      </dgm:varLst>
                      <dgm:alg type="tx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self"/>
                      <dgm:constrLst>
                        <dgm:constr type="userH"/>
                        <dgm:constr type="h" refType="userH"/>
                        <dgm:constr type="tMarg" refType="primFontSz" fact="0.3"/>
                        <dgm:constr type="bMarg" refType="primFontSz" fact="0.3"/>
                        <dgm:constr type="lMarg" refType="primFontSz" fact="0.3"/>
                        <dgm:constr type="r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  <dgm:choose name="Name19">
                      <dgm:if name="Name20" axis="des" ptType="node" func="cnt" op="gt" val="0">
                        <dgm:layoutNode name="parTransThree">
                          <dgm:alg type="sp"/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/>
                          <dgm:ruleLst/>
                        </dgm:layoutNode>
                      </dgm:if>
                      <dgm:else name="Name21"/>
                    </dgm:choose>
                    <dgm:layoutNode name="horzThree">
                      <dgm:choose name="Name22">
                        <dgm:if name="Name23" func="var" arg="dir" op="equ" val="norm">
                          <dgm:alg type="lin">
                            <dgm:param type="linDir" val="fromL"/>
                            <dgm:param type="nodeVertAlign" val="t"/>
                          </dgm:alg>
                        </dgm:if>
                        <dgm:else name="Name24">
                          <dgm:alg type="lin">
                            <dgm:param type="linDir" val="fromR"/>
                            <dgm:param type="nodeVertAlign" val="t"/>
                          </dgm:alg>
                        </dgm:else>
                      </dgm:choose>
                      <dgm:shape xmlns:r="http://schemas.openxmlformats.org/officeDocument/2006/relationships" r:blip="">
                        <dgm:adjLst/>
                      </dgm:shape>
                      <dgm:presOf/>
                      <dgm:constrLst/>
                      <dgm:ruleLst>
                        <dgm:rule type="w" val="INF" fact="NaN" max="NaN"/>
                      </dgm:ruleLst>
                      <dgm:forEach name="repeat" axis="ch" ptType="node">
                        <dgm:layoutNode name="vertFour">
                          <dgm:varLst>
                            <dgm:chPref val="3"/>
                          </dgm:varLst>
                          <dgm:alg type="lin">
                            <dgm:param type="linDir" val="fromT"/>
                          </dgm:alg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>
                            <dgm:constr type="w" for="ch" forName="txFour" refType="w" refFor="ch" refForName="horzFour" op="gte"/>
                          </dgm:constrLst>
                          <dgm:ruleLst/>
                          <dgm:layoutNode name="txFour">
                            <dgm:varLst>
                              <dgm:chPref val="3"/>
                            </dgm:varLst>
                            <dgm:alg type="tx"/>
                            <dgm:shape xmlns:r="http://schemas.openxmlformats.org/officeDocument/2006/relationships" type="roundRect" r:blip="">
                              <dgm:adjLst>
                                <dgm:adj idx="1" val="0.1"/>
                              </dgm:adjLst>
                            </dgm:shape>
                            <dgm:presOf axis="self"/>
                            <dgm:constrLst>
                              <dgm:constr type="userH"/>
                              <dgm:constr type="h" refType="userH"/>
                              <dgm:constr type="tMarg" refType="primFontSz" fact="0.3"/>
                              <dgm:constr type="bMarg" refType="primFontSz" fact="0.3"/>
                              <dgm:constr type="lMarg" refType="primFontSz" fact="0.3"/>
                              <dgm:constr type="rMarg" refType="primFontSz" fact="0.3"/>
                            </dgm:constrLst>
                            <dgm:ruleLst>
                              <dgm:rule type="primFontSz" val="5" fact="NaN" max="NaN"/>
                            </dgm:ruleLst>
                          </dgm:layoutNode>
                          <dgm:choose name="Name25">
                            <dgm:if name="Name26" axis="des" ptType="node" func="cnt" op="gt" val="0">
                              <dgm:layoutNode name="parTransFour">
                                <dgm:alg type="sp"/>
                                <dgm:shape xmlns:r="http://schemas.openxmlformats.org/officeDocument/2006/relationships" r:blip="">
                                  <dgm:adjLst/>
                                </dgm:shape>
                                <dgm:presOf/>
                                <dgm:constrLst/>
                                <dgm:ruleLst/>
                              </dgm:layoutNode>
                            </dgm:if>
                            <dgm:else name="Name27"/>
                          </dgm:choose>
                          <dgm:layoutNode name="horzFour">
                            <dgm:choose name="Name28">
                              <dgm:if name="Name29" func="var" arg="dir" op="equ" val="norm">
                                <dgm:alg type="lin">
                                  <dgm:param type="linDir" val="fromL"/>
                                  <dgm:param type="nodeVertAlign" val="t"/>
                                </dgm:alg>
                              </dgm:if>
                              <dgm:else name="Name30">
                                <dgm:alg type="lin">
                                  <dgm:param type="linDir" val="fromR"/>
                                  <dgm:param type="nodeVertAlign" val="t"/>
                                </dgm:alg>
                              </dgm:else>
                            </dgm:choose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/>
                            <dgm:ruleLst>
                              <dgm:rule type="w" val="INF" fact="NaN" max="NaN"/>
                            </dgm:ruleLst>
                            <dgm:forEach name="Name31" ref="repeat"/>
                          </dgm:layoutNode>
                        </dgm:layoutNode>
                        <dgm:choose name="Name32">
                          <dgm:if name="Name33" axis="self" ptType="node" func="revPos" op="gte" val="2">
                            <dgm:forEach name="Name34" axis="followSib" ptType="sibTrans" cnt="1">
                              <dgm:layoutNode name="sibSpaceFour">
                                <dgm:alg type="sp"/>
                                <dgm:shape xmlns:r="http://schemas.openxmlformats.org/officeDocument/2006/relationships" r:blip="">
                                  <dgm:adjLst/>
                                </dgm:shape>
                                <dgm:presOf/>
                                <dgm:constrLst/>
                                <dgm:ruleLst/>
                              </dgm:layoutNode>
                            </dgm:forEach>
                          </dgm:if>
                          <dgm:else name="Name35"/>
                        </dgm:choose>
                      </dgm:forEach>
                    </dgm:layoutNode>
                  </dgm:layoutNode>
                  <dgm:choose name="Name36">
                    <dgm:if name="Name37" axis="self" ptType="node" func="revPos" op="gte" val="2">
                      <dgm:forEach name="Name38" axis="followSib" ptType="sibTrans" cnt="1">
                        <dgm:layoutNode name="sibSpaceThree">
                          <dgm:alg type="sp"/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/>
                          <dgm:ruleLst/>
                        </dgm:layoutNode>
                      </dgm:forEach>
                    </dgm:if>
                    <dgm:else name="Name39"/>
                  </dgm:choose>
                </dgm:forEach>
              </dgm:layoutNode>
            </dgm:layoutNode>
            <dgm:choose name="Name40">
              <dgm:if name="Name41" axis="self" ptType="node" func="revPos" op="gte" val="2">
                <dgm:forEach name="Name42" axis="followSib" ptType="sibTrans" cnt="1">
                  <dgm:layoutNode name="sibSpaceTwo">
                    <dgm:alg type="sp"/>
                    <dgm:shape xmlns:r="http://schemas.openxmlformats.org/officeDocument/2006/relationships" r:blip="">
                      <dgm:adjLst/>
                    </dgm:shape>
                    <dgm:presOf/>
                    <dgm:constrLst/>
                    <dgm:ruleLst/>
                  </dgm:layoutNode>
                </dgm:forEach>
              </dgm:if>
              <dgm:else name="Name43"/>
            </dgm:choose>
          </dgm:forEach>
        </dgm:layoutNode>
      </dgm:layoutNode>
      <dgm:choose name="Name44">
        <dgm:if name="Name45" axis="self" ptType="node" func="revPos" op="gte" val="2">
          <dgm:forEach name="Name46" axis="followSib" ptType="sibTrans" cnt="1">
            <dgm:layoutNode name="sibSpaceOne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forEach>
        </dgm:if>
        <dgm:else name="Name47"/>
      </dgm:choose>
    </dgm:forEach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lProcess3">
  <dgm:title val=""/>
  <dgm:desc val=""/>
  <dgm:catLst>
    <dgm:cat type="process" pri="11000"/>
    <dgm:cat type="convert" pri="12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41" srcId="1" destId="11" srcOrd="0" destOrd="0"/>
        <dgm:cxn modelId="42" srcId="1" destId="12" srcOrd="1" destOrd="0"/>
        <dgm:cxn modelId="51" srcId="2" destId="21" srcOrd="0" destOrd="0"/>
        <dgm:cxn modelId="52" srcId="2" destId="22" srcOrd="1" destOrd="0"/>
        <dgm:cxn modelId="61" srcId="3" destId="31" srcOrd="0" destOrd="0"/>
        <dgm:cxn modelId="62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4" srcId="0" destId="1" srcOrd="0" destOrd="0"/>
        <dgm:cxn modelId="5" srcId="1" destId="2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51" srcId="1" destId="11" srcOrd="0" destOrd="0"/>
        <dgm:cxn modelId="61" srcId="2" destId="21" srcOrd="0" destOrd="0"/>
        <dgm:cxn modelId="71" srcId="3" destId="31" srcOrd="0" destOrd="0"/>
        <dgm:cxn modelId="81" srcId="4" destId="41" srcOrd="0" destOrd="0"/>
      </dgm:cxnLst>
      <dgm:bg/>
      <dgm:whole/>
    </dgm:dataModel>
  </dgm:clrData>
  <dgm:layoutNode name="Name0">
    <dgm:varLst>
      <dgm:chPref val="3"/>
      <dgm:dir/>
      <dgm:animLvl val="lvl"/>
      <dgm:resizeHandles/>
    </dgm:varLst>
    <dgm:choose name="Name1">
      <dgm:if name="Name2" func="var" arg="dir" op="equ" val="norm">
        <dgm:alg type="lin">
          <dgm:param type="linDir" val="fromT"/>
          <dgm:param type="vertAlign" val="mid"/>
          <dgm:param type="nodeHorzAlign" val="l"/>
          <dgm:param type="nodeVertAlign" val="t"/>
          <dgm:param type="fallback" val="2D"/>
        </dgm:alg>
      </dgm:if>
      <dgm:else name="Name3">
        <dgm:alg type="lin">
          <dgm:param type="linDir" val="fromT"/>
          <dgm:param type="vertAlign" val="mid"/>
          <dgm:param type="nodeHorzAlign" val="r"/>
          <dgm:param type="nodeVertAlign" val="t"/>
          <dgm:param type="fallback" val="2D"/>
        </dgm:alg>
      </dgm:else>
    </dgm:choose>
    <dgm:shape xmlns:r="http://schemas.openxmlformats.org/officeDocument/2006/relationships" r:blip="">
      <dgm:adjLst/>
    </dgm:shape>
    <dgm:presOf/>
    <dgm:constrLst>
      <dgm:constr type="w" for="des" forName="bigChev" refType="w"/>
      <dgm:constr type="h" for="des" forName="bigChev" refType="w" refFor="des" refForName="bigChev" op="equ" fact="0.4"/>
      <dgm:constr type="w" for="des" forName="node" refType="w" refFor="des" refForName="bigChev" fact="0.83"/>
      <dgm:constr type="h" for="des" forName="node" refType="w" refFor="des" refForName="node" op="equ" fact="0.4"/>
      <dgm:constr type="w" for="des" forName="parTrans" refType="w" refFor="des" refForName="bigChev" op="equ" fact="-0.13"/>
      <dgm:constr type="w" for="des" forName="sibTrans" refType="w" refFor="des" refForName="node" op="equ" fact="-0.14"/>
      <dgm:constr type="h" for="ch" forName="vSp" refType="h" refFor="des" refForName="bigChev" op="equ" fact="0.14"/>
      <dgm:constr type="primFontSz" for="des" forName="node" op="equ"/>
      <dgm:constr type="primFontSz" for="des" forName="bigChev" op="equ"/>
    </dgm:constrLst>
    <dgm:ruleLst/>
    <dgm:forEach name="Name4" axis="ch" ptType="node">
      <dgm:layoutNode name="horFlow">
        <dgm:choose name="Name5">
          <dgm:if name="Name6" func="var" arg="dir" op="equ" val="norm">
            <dgm:alg type="lin">
              <dgm:param type="linDir" val="fromL"/>
              <dgm:param type="nodeHorzAlign" val="l"/>
              <dgm:param type="nodeVertAlign" val="mid"/>
              <dgm:param type="fallback" val="2D"/>
            </dgm:alg>
          </dgm:if>
          <dgm:else name="Name7">
            <dgm:alg type="lin">
              <dgm:param type="linDir" val="fromR"/>
              <dgm:param type="nodeHorzAlign" val="r"/>
              <dgm:param type="nodeVertAlign" val="mid"/>
              <dgm:param type="fallback" val="2D"/>
            </dgm:alg>
          </dgm:else>
        </dgm:choose>
        <dgm:shape xmlns:r="http://schemas.openxmlformats.org/officeDocument/2006/relationships" r:blip="">
          <dgm:adjLst/>
        </dgm:shape>
        <dgm:presOf/>
        <dgm:constrLst/>
        <dgm:ruleLst/>
        <dgm:layoutNode name="bigChev" styleLbl="node1">
          <dgm:alg type="tx"/>
          <dgm:choose name="Name8">
            <dgm:if name="Name9" func="var" arg="dir" op="equ" val="norm">
              <dgm:shape xmlns:r="http://schemas.openxmlformats.org/officeDocument/2006/relationships" type="chevron" r:blip="">
                <dgm:adjLst/>
              </dgm:shape>
              <dgm:presOf axis="self"/>
              <dgm:constrLst>
                <dgm:constr type="primFontSz" val="65"/>
                <dgm:constr type="rMarg"/>
                <dgm:constr type="lMarg" refType="primFontSz" fact="0.1"/>
                <dgm:constr type="tMarg" refType="primFontSz" fact="0.05"/>
                <dgm:constr type="bMarg" refType="primFontSz" fact="0.05"/>
              </dgm:constrLst>
            </dgm:if>
            <dgm:else name="Name10">
              <dgm:shape xmlns:r="http://schemas.openxmlformats.org/officeDocument/2006/relationships" rot="180" type="chevron" r:blip="">
                <dgm:adjLst/>
              </dgm:shape>
              <dgm:presOf axis="self"/>
              <dgm:constrLst>
                <dgm:constr type="primFontSz" val="65"/>
                <dgm:constr type="lMarg"/>
                <dgm:constr type="rMarg" refType="primFontSz" fact="0.1"/>
                <dgm:constr type="tMarg" refType="primFontSz" fact="0.05"/>
                <dgm:constr type="bMarg" refType="primFontSz" fact="0.05"/>
              </dgm:constrLst>
            </dgm:else>
          </dgm:choose>
          <dgm:ruleLst>
            <dgm:rule type="primFontSz" val="5" fact="NaN" max="NaN"/>
          </dgm:ruleLst>
        </dgm:layoutNode>
        <dgm:forEach name="parTransForEach" axis="ch" ptType="parTrans" cnt="1">
          <dgm:layoutNode name="parTrans">
            <dgm:alg type="sp"/>
            <dgm:shape xmlns:r="http://schemas.openxmlformats.org/officeDocument/2006/relationships" r:blip="">
              <dgm:adjLst/>
            </dgm:shape>
            <dgm:presOf/>
            <dgm:constrLst/>
            <dgm:ruleLst/>
          </dgm:layoutNode>
        </dgm:forEach>
        <dgm:forEach name="Name11" axis="ch" ptType="node">
          <dgm:layoutNode name="node" styleLbl="alignAccFollowNode1">
            <dgm:varLst>
              <dgm:bulletEnabled val="1"/>
            </dgm:varLst>
            <dgm:alg type="tx"/>
            <dgm:choose name="Name12">
              <dgm:if name="Name13" func="var" arg="dir" op="equ" val="norm">
                <dgm:shape xmlns:r="http://schemas.openxmlformats.org/officeDocument/2006/relationships" type="chevron" r:blip="">
                  <dgm:adjLst/>
                </dgm:shape>
                <dgm:presOf axis="desOrSelf" ptType="node"/>
                <dgm:constrLst>
                  <dgm:constr type="primFontSz" val="65"/>
                  <dgm:constr type="rMarg"/>
                  <dgm:constr type="lMarg" refType="primFontSz" fact="0.1"/>
                  <dgm:constr type="tMarg" refType="primFontSz" fact="0.05"/>
                  <dgm:constr type="bMarg" refType="primFontSz" fact="0.05"/>
                </dgm:constrLst>
              </dgm:if>
              <dgm:else name="Name14">
                <dgm:shape xmlns:r="http://schemas.openxmlformats.org/officeDocument/2006/relationships" rot="180" type="chevron" r:blip="">
                  <dgm:adjLst/>
                </dgm:shape>
                <dgm:presOf axis="desOrSelf" ptType="node"/>
                <dgm:constrLst>
                  <dgm:constr type="primFontSz" val="65"/>
                  <dgm:constr type="lMarg"/>
                  <dgm:constr type="rMarg" refType="primFontSz" fact="0.1"/>
                  <dgm:constr type="tMarg" refType="primFontSz" fact="0.05"/>
                  <dgm:constr type="bMarg" refType="primFontSz" fact="0.05"/>
                </dgm:constrLst>
              </dgm:else>
            </dgm:choose>
            <dgm:ruleLst>
              <dgm:rule type="primFontSz" val="5" fact="NaN" max="NaN"/>
            </dgm:ruleLst>
          </dgm:layoutNode>
          <dgm:forEach name="sibTransForEach" axis="followSib" ptType="sibTrans" cnt="1">
            <dgm:layoutNode name="sibTrans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forEach>
        </dgm:forEach>
      </dgm:layoutNode>
      <dgm:choose name="Name15">
        <dgm:if name="Name16" axis="self" ptType="node" func="revPos" op="gte" val="2">
          <dgm:layoutNode name="vSp">
            <dgm:alg type="sp"/>
            <dgm:shape xmlns:r="http://schemas.openxmlformats.org/officeDocument/2006/relationships" r:blip="">
              <dgm:adjLst/>
            </dgm:shape>
            <dgm:presOf/>
            <dgm:constrLst/>
            <dgm:ruleLst/>
          </dgm:layoutNode>
        </dgm:if>
        <dgm:else name="Name17"/>
      </dgm:choose>
    </dgm:forEach>
  </dgm:layoutNode>
</dgm:layoutDef>
</file>

<file path=ppt/diagrams/layout4.xml><?xml version="1.0" encoding="utf-8"?>
<dgm:layoutDef xmlns:dgm="http://schemas.openxmlformats.org/drawingml/2006/diagram" xmlns:a="http://schemas.openxmlformats.org/drawingml/2006/main" uniqueId="urn:microsoft.com/office/officeart/2005/8/layout/lProcess3">
  <dgm:title val=""/>
  <dgm:desc val=""/>
  <dgm:catLst>
    <dgm:cat type="process" pri="11000"/>
    <dgm:cat type="convert" pri="12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41" srcId="1" destId="11" srcOrd="0" destOrd="0"/>
        <dgm:cxn modelId="42" srcId="1" destId="12" srcOrd="1" destOrd="0"/>
        <dgm:cxn modelId="51" srcId="2" destId="21" srcOrd="0" destOrd="0"/>
        <dgm:cxn modelId="52" srcId="2" destId="22" srcOrd="1" destOrd="0"/>
        <dgm:cxn modelId="61" srcId="3" destId="31" srcOrd="0" destOrd="0"/>
        <dgm:cxn modelId="62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4" srcId="0" destId="1" srcOrd="0" destOrd="0"/>
        <dgm:cxn modelId="5" srcId="1" destId="2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51" srcId="1" destId="11" srcOrd="0" destOrd="0"/>
        <dgm:cxn modelId="61" srcId="2" destId="21" srcOrd="0" destOrd="0"/>
        <dgm:cxn modelId="71" srcId="3" destId="31" srcOrd="0" destOrd="0"/>
        <dgm:cxn modelId="81" srcId="4" destId="41" srcOrd="0" destOrd="0"/>
      </dgm:cxnLst>
      <dgm:bg/>
      <dgm:whole/>
    </dgm:dataModel>
  </dgm:clrData>
  <dgm:layoutNode name="Name0">
    <dgm:varLst>
      <dgm:chPref val="3"/>
      <dgm:dir/>
      <dgm:animLvl val="lvl"/>
      <dgm:resizeHandles/>
    </dgm:varLst>
    <dgm:choose name="Name1">
      <dgm:if name="Name2" func="var" arg="dir" op="equ" val="norm">
        <dgm:alg type="lin">
          <dgm:param type="linDir" val="fromT"/>
          <dgm:param type="vertAlign" val="mid"/>
          <dgm:param type="nodeHorzAlign" val="l"/>
          <dgm:param type="nodeVertAlign" val="t"/>
          <dgm:param type="fallback" val="2D"/>
        </dgm:alg>
      </dgm:if>
      <dgm:else name="Name3">
        <dgm:alg type="lin">
          <dgm:param type="linDir" val="fromT"/>
          <dgm:param type="vertAlign" val="mid"/>
          <dgm:param type="nodeHorzAlign" val="r"/>
          <dgm:param type="nodeVertAlign" val="t"/>
          <dgm:param type="fallback" val="2D"/>
        </dgm:alg>
      </dgm:else>
    </dgm:choose>
    <dgm:shape xmlns:r="http://schemas.openxmlformats.org/officeDocument/2006/relationships" r:blip="">
      <dgm:adjLst/>
    </dgm:shape>
    <dgm:presOf/>
    <dgm:constrLst>
      <dgm:constr type="w" for="des" forName="bigChev" refType="w"/>
      <dgm:constr type="h" for="des" forName="bigChev" refType="w" refFor="des" refForName="bigChev" op="equ" fact="0.4"/>
      <dgm:constr type="w" for="des" forName="node" refType="w" refFor="des" refForName="bigChev" fact="0.83"/>
      <dgm:constr type="h" for="des" forName="node" refType="w" refFor="des" refForName="node" op="equ" fact="0.4"/>
      <dgm:constr type="w" for="des" forName="parTrans" refType="w" refFor="des" refForName="bigChev" op="equ" fact="-0.13"/>
      <dgm:constr type="w" for="des" forName="sibTrans" refType="w" refFor="des" refForName="node" op="equ" fact="-0.14"/>
      <dgm:constr type="h" for="ch" forName="vSp" refType="h" refFor="des" refForName="bigChev" op="equ" fact="0.14"/>
      <dgm:constr type="primFontSz" for="des" forName="node" op="equ"/>
      <dgm:constr type="primFontSz" for="des" forName="bigChev" op="equ"/>
    </dgm:constrLst>
    <dgm:ruleLst/>
    <dgm:forEach name="Name4" axis="ch" ptType="node">
      <dgm:layoutNode name="horFlow">
        <dgm:choose name="Name5">
          <dgm:if name="Name6" func="var" arg="dir" op="equ" val="norm">
            <dgm:alg type="lin">
              <dgm:param type="linDir" val="fromL"/>
              <dgm:param type="nodeHorzAlign" val="l"/>
              <dgm:param type="nodeVertAlign" val="mid"/>
              <dgm:param type="fallback" val="2D"/>
            </dgm:alg>
          </dgm:if>
          <dgm:else name="Name7">
            <dgm:alg type="lin">
              <dgm:param type="linDir" val="fromR"/>
              <dgm:param type="nodeHorzAlign" val="r"/>
              <dgm:param type="nodeVertAlign" val="mid"/>
              <dgm:param type="fallback" val="2D"/>
            </dgm:alg>
          </dgm:else>
        </dgm:choose>
        <dgm:shape xmlns:r="http://schemas.openxmlformats.org/officeDocument/2006/relationships" r:blip="">
          <dgm:adjLst/>
        </dgm:shape>
        <dgm:presOf/>
        <dgm:constrLst/>
        <dgm:ruleLst/>
        <dgm:layoutNode name="bigChev" styleLbl="node1">
          <dgm:alg type="tx"/>
          <dgm:choose name="Name8">
            <dgm:if name="Name9" func="var" arg="dir" op="equ" val="norm">
              <dgm:shape xmlns:r="http://schemas.openxmlformats.org/officeDocument/2006/relationships" type="chevron" r:blip="">
                <dgm:adjLst/>
              </dgm:shape>
              <dgm:presOf axis="self"/>
              <dgm:constrLst>
                <dgm:constr type="primFontSz" val="65"/>
                <dgm:constr type="rMarg"/>
                <dgm:constr type="lMarg" refType="primFontSz" fact="0.1"/>
                <dgm:constr type="tMarg" refType="primFontSz" fact="0.05"/>
                <dgm:constr type="bMarg" refType="primFontSz" fact="0.05"/>
              </dgm:constrLst>
            </dgm:if>
            <dgm:else name="Name10">
              <dgm:shape xmlns:r="http://schemas.openxmlformats.org/officeDocument/2006/relationships" rot="180" type="chevron" r:blip="">
                <dgm:adjLst/>
              </dgm:shape>
              <dgm:presOf axis="self"/>
              <dgm:constrLst>
                <dgm:constr type="primFontSz" val="65"/>
                <dgm:constr type="lMarg"/>
                <dgm:constr type="rMarg" refType="primFontSz" fact="0.1"/>
                <dgm:constr type="tMarg" refType="primFontSz" fact="0.05"/>
                <dgm:constr type="bMarg" refType="primFontSz" fact="0.05"/>
              </dgm:constrLst>
            </dgm:else>
          </dgm:choose>
          <dgm:ruleLst>
            <dgm:rule type="primFontSz" val="5" fact="NaN" max="NaN"/>
          </dgm:ruleLst>
        </dgm:layoutNode>
        <dgm:forEach name="parTransForEach" axis="ch" ptType="parTrans" cnt="1">
          <dgm:layoutNode name="parTrans">
            <dgm:alg type="sp"/>
            <dgm:shape xmlns:r="http://schemas.openxmlformats.org/officeDocument/2006/relationships" r:blip="">
              <dgm:adjLst/>
            </dgm:shape>
            <dgm:presOf/>
            <dgm:constrLst/>
            <dgm:ruleLst/>
          </dgm:layoutNode>
        </dgm:forEach>
        <dgm:forEach name="Name11" axis="ch" ptType="node">
          <dgm:layoutNode name="node" styleLbl="alignAccFollowNode1">
            <dgm:varLst>
              <dgm:bulletEnabled val="1"/>
            </dgm:varLst>
            <dgm:alg type="tx"/>
            <dgm:choose name="Name12">
              <dgm:if name="Name13" func="var" arg="dir" op="equ" val="norm">
                <dgm:shape xmlns:r="http://schemas.openxmlformats.org/officeDocument/2006/relationships" type="chevron" r:blip="">
                  <dgm:adjLst/>
                </dgm:shape>
                <dgm:presOf axis="desOrSelf" ptType="node"/>
                <dgm:constrLst>
                  <dgm:constr type="primFontSz" val="65"/>
                  <dgm:constr type="rMarg"/>
                  <dgm:constr type="lMarg" refType="primFontSz" fact="0.1"/>
                  <dgm:constr type="tMarg" refType="primFontSz" fact="0.05"/>
                  <dgm:constr type="bMarg" refType="primFontSz" fact="0.05"/>
                </dgm:constrLst>
              </dgm:if>
              <dgm:else name="Name14">
                <dgm:shape xmlns:r="http://schemas.openxmlformats.org/officeDocument/2006/relationships" rot="180" type="chevron" r:blip="">
                  <dgm:adjLst/>
                </dgm:shape>
                <dgm:presOf axis="desOrSelf" ptType="node"/>
                <dgm:constrLst>
                  <dgm:constr type="primFontSz" val="65"/>
                  <dgm:constr type="lMarg"/>
                  <dgm:constr type="rMarg" refType="primFontSz" fact="0.1"/>
                  <dgm:constr type="tMarg" refType="primFontSz" fact="0.05"/>
                  <dgm:constr type="bMarg" refType="primFontSz" fact="0.05"/>
                </dgm:constrLst>
              </dgm:else>
            </dgm:choose>
            <dgm:ruleLst>
              <dgm:rule type="primFontSz" val="5" fact="NaN" max="NaN"/>
            </dgm:ruleLst>
          </dgm:layoutNode>
          <dgm:forEach name="sibTransForEach" axis="followSib" ptType="sibTrans" cnt="1">
            <dgm:layoutNode name="sibTrans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forEach>
        </dgm:forEach>
      </dgm:layoutNode>
      <dgm:choose name="Name15">
        <dgm:if name="Name16" axis="self" ptType="node" func="revPos" op="gte" val="2">
          <dgm:layoutNode name="vSp">
            <dgm:alg type="sp"/>
            <dgm:shape xmlns:r="http://schemas.openxmlformats.org/officeDocument/2006/relationships" r:blip="">
              <dgm:adjLst/>
            </dgm:shape>
            <dgm:presOf/>
            <dgm:constrLst/>
            <dgm:ruleLst/>
          </dgm:layoutNode>
        </dgm:if>
        <dgm:else name="Name17"/>
      </dgm:choose>
    </dgm:forEach>
  </dgm:layoutNode>
</dgm:layoutDef>
</file>

<file path=ppt/diagrams/layout5.xml><?xml version="1.0" encoding="utf-8"?>
<dgm:layoutDef xmlns:dgm="http://schemas.openxmlformats.org/drawingml/2006/diagram" xmlns:a="http://schemas.openxmlformats.org/drawingml/2006/main" uniqueId="urn:microsoft.com/office/officeart/2005/8/layout/pyramid2">
  <dgm:title val=""/>
  <dgm:desc val=""/>
  <dgm:catLst>
    <dgm:cat type="pyramid" pri="3000"/>
    <dgm:cat type="list" pri="21000"/>
    <dgm:cat type="convert" pri="17000"/>
  </dgm:catLst>
  <dgm:sampData useDef="1">
    <dgm:dataModel>
      <dgm:ptLst/>
      <dgm:bg/>
      <dgm:whole/>
    </dgm:dataModel>
  </dgm:sampData>
  <dgm:styleData useDef="1">
    <dgm:dataModel>
      <dgm:ptLst/>
      <dgm:bg/>
      <dgm:whole/>
    </dgm:dataModel>
  </dgm:styleData>
  <dgm:clrData useDef="1">
    <dgm:dataModel>
      <dgm:ptLst/>
      <dgm:bg/>
      <dgm:whole/>
    </dgm:dataModel>
  </dgm:clrData>
  <dgm:layoutNode name="compositeShape">
    <dgm:alg type="composite"/>
    <dgm:shape xmlns:r="http://schemas.openxmlformats.org/officeDocument/2006/relationships" r:blip="">
      <dgm:adjLst/>
    </dgm:shape>
    <dgm:presOf/>
    <dgm:varLst>
      <dgm:dir/>
      <dgm:resizeHandles/>
    </dgm:varLst>
    <dgm:choose name="Name0">
      <dgm:if name="Name1" func="var" arg="dir" op="equ" val="norm">
        <dgm:constrLst>
          <dgm:constr type="w" for="ch" forName="pyramid" refType="h"/>
          <dgm:constr type="h" for="ch" forName="pyramid" refType="h"/>
          <dgm:constr type="h" for="ch" forName="theList" refType="h" fact="0.8"/>
          <dgm:constr type="w" for="ch" forName="theList" refType="h" fact="0.65"/>
          <dgm:constr type="ctrY" for="ch" forName="theList" refType="h" refFor="ch" refForName="pyramid" fact="0.5"/>
          <dgm:constr type="l" for="ch" forName="theList" refType="w" refFor="ch" refForName="pyramid" fact="0.5"/>
          <dgm:constr type="h" for="des" forName="aSpace" refType="h" fact="0.1"/>
        </dgm:constrLst>
      </dgm:if>
      <dgm:else name="Name2">
        <dgm:constrLst>
          <dgm:constr type="w" for="ch" forName="pyramid" refType="h"/>
          <dgm:constr type="h" for="ch" forName="pyramid" refType="h"/>
          <dgm:constr type="h" for="ch" forName="theList" refType="h" fact="0.8"/>
          <dgm:constr type="w" for="ch" forName="theList" refType="h" fact="0.65"/>
          <dgm:constr type="ctrY" for="ch" forName="theList" refType="h" refFor="ch" refForName="pyramid" fact="0.5"/>
          <dgm:constr type="r" for="ch" forName="theList" refType="w" refFor="ch" refForName="pyramid" fact="0.5"/>
          <dgm:constr type="h" for="des" forName="aSpace" refType="h" fact="0.1"/>
        </dgm:constrLst>
      </dgm:else>
    </dgm:choose>
    <dgm:ruleLst/>
    <dgm:choose name="Name3">
      <dgm:if name="Name4" axis="ch" ptType="node" func="cnt" op="gte" val="1">
        <dgm:layoutNode name="pyramid" styleLbl="node1">
          <dgm:alg type="sp"/>
          <dgm:shape xmlns:r="http://schemas.openxmlformats.org/officeDocument/2006/relationships" type="triangle" r:blip="">
            <dgm:adjLst/>
          </dgm:shape>
          <dgm:presOf/>
          <dgm:constrLst/>
          <dgm:ruleLst/>
        </dgm:layoutNode>
        <dgm:layoutNode name="theList">
          <dgm:alg type="lin">
            <dgm:param type="linDir" val="fromT"/>
          </dgm:alg>
          <dgm:shape xmlns:r="http://schemas.openxmlformats.org/officeDocument/2006/relationships" r:blip="">
            <dgm:adjLst/>
          </dgm:shape>
          <dgm:presOf/>
          <dgm:constrLst>
            <dgm:constr type="w" for="ch" forName="aNode" refType="w"/>
            <dgm:constr type="h" for="ch" forName="aNode" refType="h"/>
            <dgm:constr type="primFontSz" for="ch" ptType="node" op="equ"/>
          </dgm:constrLst>
          <dgm:ruleLst/>
          <dgm:forEach name="aNodeForEach" axis="ch" ptType="node">
            <dgm:layoutNode name="aNode" styleLbl="fgAcc1">
              <dgm:varLst>
                <dgm:bulletEnabled val="1"/>
              </dgm:varLst>
              <dgm:alg type="tx"/>
              <dgm:shape xmlns:r="http://schemas.openxmlformats.org/officeDocument/2006/relationships" type="roundRect" r:blip="">
                <dgm:adjLst/>
              </dgm:shape>
              <dgm:presOf axis="desOrSelf" ptType="node"/>
              <dgm:constrLst>
                <dgm:constr type="primFontSz" val="65"/>
                <dgm:constr type="tMarg" refType="primFontSz" fact="0.3"/>
                <dgm:constr type="bMarg" refType="primFontSz" fact="0.3"/>
                <dgm:constr type="lMarg" refType="primFontSz" fact="0.3"/>
                <dgm:constr type="rMarg" refType="primFontSz" fact="0.3"/>
              </dgm:constrLst>
              <dgm:ruleLst>
                <dgm:rule type="primFontSz" val="5" fact="NaN" max="NaN"/>
              </dgm:ruleLst>
            </dgm:layoutNode>
            <dgm:layoutNode name="aSpace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forEach>
        </dgm:layoutNode>
      </dgm:if>
      <dgm:else name="Name5"/>
    </dgm:choose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4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5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C0C5-4995-4854-AEF3-889D32EB4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72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4440" y="2063520"/>
            <a:ext cx="77958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4440" y="3792960"/>
            <a:ext cx="77958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7AA8-B03F-4E79-8096-FE45A5CDF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72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063520"/>
            <a:ext cx="380412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09000" y="2063520"/>
            <a:ext cx="380412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4440" y="3792960"/>
            <a:ext cx="380412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09000" y="3792960"/>
            <a:ext cx="380412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648E-398E-423A-9824-57A5E7B60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72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14440" y="2063520"/>
            <a:ext cx="250992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50360" y="2063520"/>
            <a:ext cx="250992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785920" y="2063520"/>
            <a:ext cx="250992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14440" y="3792960"/>
            <a:ext cx="250992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50360" y="3792960"/>
            <a:ext cx="250992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785920" y="3792960"/>
            <a:ext cx="250992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00D6-6FF2-44F9-8137-7F2060BCE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8CD02-4652-4049-AA71-6C4F37300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72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14440" y="2063520"/>
            <a:ext cx="7795800" cy="33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52945-B6AD-4010-B62B-C67DA9FAF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72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14440" y="2063520"/>
            <a:ext cx="7795800" cy="33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EB6D1-F2F8-4B79-A9D6-7BBAB4460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72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14440" y="2063520"/>
            <a:ext cx="3804120" cy="33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09000" y="2063520"/>
            <a:ext cx="3804120" cy="33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A9D3F-6EF2-4B2F-839D-27D1C1A26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72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2D045-8F23-4B6C-880B-EBE52C31C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14440" y="685800"/>
            <a:ext cx="7797240" cy="53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B6B3A-2BB7-4E04-8AB0-5DE9E59F6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72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4440" y="2063520"/>
            <a:ext cx="380412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09000" y="2063520"/>
            <a:ext cx="3804120" cy="33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4440" y="3792960"/>
            <a:ext cx="380412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ABE5E-5C7C-4565-9903-E9448459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72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14440" y="2063520"/>
            <a:ext cx="7795800" cy="33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E3A5-3B41-4269-A6FD-986BC2F3B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72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4440" y="2063520"/>
            <a:ext cx="3804120" cy="33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09000" y="2063520"/>
            <a:ext cx="380412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09000" y="3792960"/>
            <a:ext cx="380412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F2ECB-8AC3-43F2-8FAF-609E191F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72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14440" y="2063520"/>
            <a:ext cx="380412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09000" y="2063520"/>
            <a:ext cx="380412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4440" y="3792960"/>
            <a:ext cx="77958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12CEF-3820-49DB-BBCB-AFA8C1CA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72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14440" y="2063520"/>
            <a:ext cx="77958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4440" y="3792960"/>
            <a:ext cx="77958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003DD-EE32-4402-A548-58EEF6992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72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14440" y="2063520"/>
            <a:ext cx="380412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09000" y="2063520"/>
            <a:ext cx="380412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14440" y="3792960"/>
            <a:ext cx="380412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09000" y="3792960"/>
            <a:ext cx="380412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BB94E-48B8-446A-A806-050223C47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72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14440" y="2063520"/>
            <a:ext cx="250992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150360" y="2063520"/>
            <a:ext cx="250992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785920" y="2063520"/>
            <a:ext cx="250992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14440" y="3792960"/>
            <a:ext cx="250992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150360" y="3792960"/>
            <a:ext cx="250992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785920" y="3792960"/>
            <a:ext cx="250992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68ACE-067F-48B9-9EDE-16DDACCFA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7FC8E-73A9-4A00-9FD8-50140B44C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72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514440" y="2063520"/>
            <a:ext cx="7795800" cy="33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99FB5-E810-476D-AF45-454553BCF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72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14440" y="2063520"/>
            <a:ext cx="7795800" cy="33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3F6BA-D176-4B72-BADB-ECE6EC823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72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14440" y="2063520"/>
            <a:ext cx="3804120" cy="33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09000" y="2063520"/>
            <a:ext cx="3804120" cy="33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96B0E-E4A9-4942-B63F-71E99B34C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72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C5D6E-6CA8-4D8B-80A5-FBC935D3E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72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14440" y="2063520"/>
            <a:ext cx="7795800" cy="33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FEC6-3FC5-46D0-8BFB-B260F64C0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514440" y="685800"/>
            <a:ext cx="7797240" cy="53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72EEC-BFA0-494A-9F2A-FFE936294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72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14440" y="2063520"/>
            <a:ext cx="380412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09000" y="2063520"/>
            <a:ext cx="3804120" cy="33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14440" y="3792960"/>
            <a:ext cx="380412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0331A-8685-4057-A1A4-984210B0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72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14440" y="2063520"/>
            <a:ext cx="3804120" cy="33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09000" y="2063520"/>
            <a:ext cx="380412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09000" y="3792960"/>
            <a:ext cx="380412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FFDAE-E81F-42E9-9065-4C26F1AF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72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14440" y="2063520"/>
            <a:ext cx="380412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09000" y="2063520"/>
            <a:ext cx="380412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14440" y="3792960"/>
            <a:ext cx="77958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DE683-506A-4156-99E3-D36DA8B8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72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14440" y="2063520"/>
            <a:ext cx="77958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4440" y="3792960"/>
            <a:ext cx="77958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9DCBA-4156-473B-8933-80DEB88D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72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14440" y="2063520"/>
            <a:ext cx="380412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09000" y="2063520"/>
            <a:ext cx="380412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14440" y="3792960"/>
            <a:ext cx="380412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09000" y="3792960"/>
            <a:ext cx="380412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48AC8-D8AA-489E-ACC9-66B6AAD74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72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14440" y="2063520"/>
            <a:ext cx="250992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150360" y="2063520"/>
            <a:ext cx="250992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785920" y="2063520"/>
            <a:ext cx="250992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514440" y="3792960"/>
            <a:ext cx="250992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150360" y="3792960"/>
            <a:ext cx="250992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5785920" y="3792960"/>
            <a:ext cx="250992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7D789-AEF7-44B2-979B-F5005CD8E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862C2-AE36-47CD-B8EE-F24980D93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72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514440" y="2063520"/>
            <a:ext cx="7795800" cy="33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C8063-27DE-4226-8246-804B370C0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72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14440" y="2063520"/>
            <a:ext cx="7795800" cy="33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8BD61-1691-4783-933B-EA295ACA1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72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063520"/>
            <a:ext cx="3804120" cy="33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09000" y="2063520"/>
            <a:ext cx="3804120" cy="33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A7AC-5C94-41C6-9C63-B69DFA7E2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72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14440" y="2063520"/>
            <a:ext cx="3804120" cy="33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09000" y="2063520"/>
            <a:ext cx="3804120" cy="33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C817C-8E9A-4023-88E8-5120C0087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72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9E7B5-50EA-4A42-9B46-AA77FDAD1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514440" y="685800"/>
            <a:ext cx="7797240" cy="53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64D58-3B75-4DFD-A642-FA8B7CEC0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72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14440" y="2063520"/>
            <a:ext cx="380412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09000" y="2063520"/>
            <a:ext cx="3804120" cy="33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14440" y="3792960"/>
            <a:ext cx="380412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67194-F50D-442E-A0C0-35142D51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72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14440" y="2063520"/>
            <a:ext cx="3804120" cy="33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09000" y="2063520"/>
            <a:ext cx="380412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09000" y="3792960"/>
            <a:ext cx="380412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CAEA9-AE1A-4CF5-801F-D5AB03E6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72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14440" y="2063520"/>
            <a:ext cx="380412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09000" y="2063520"/>
            <a:ext cx="380412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14440" y="3792960"/>
            <a:ext cx="77958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0AC6A-B5C3-4528-989A-75F42B34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72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14440" y="2063520"/>
            <a:ext cx="77958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4440" y="3792960"/>
            <a:ext cx="77958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F2CE5-C4F5-4778-B089-C278D8263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72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14440" y="2063520"/>
            <a:ext cx="380412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09000" y="2063520"/>
            <a:ext cx="380412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14440" y="3792960"/>
            <a:ext cx="380412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09000" y="3792960"/>
            <a:ext cx="380412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8F2DB-DF7E-4356-996D-FC29973B6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72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14440" y="2063520"/>
            <a:ext cx="250992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150360" y="2063520"/>
            <a:ext cx="250992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785920" y="2063520"/>
            <a:ext cx="250992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514440" y="3792960"/>
            <a:ext cx="250992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150360" y="3792960"/>
            <a:ext cx="250992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785920" y="3792960"/>
            <a:ext cx="250992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68C34-B1DF-4C82-9EEF-BD8074909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72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847E-6DF4-4F33-9A91-FBFB9B043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14440" y="685800"/>
            <a:ext cx="7797240" cy="53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EB2D-C0B0-420D-AC6A-1990CAA46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72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2063520"/>
            <a:ext cx="380412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09000" y="2063520"/>
            <a:ext cx="3804120" cy="33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440" y="3792960"/>
            <a:ext cx="380412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EFBC-8D03-4C7C-A0BF-348993F6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72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2063520"/>
            <a:ext cx="3804120" cy="33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09000" y="2063520"/>
            <a:ext cx="380412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09000" y="3792960"/>
            <a:ext cx="380412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2F6E-86D5-4E8D-862D-4EF6EA20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72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4440" y="2063520"/>
            <a:ext cx="380412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09000" y="2063520"/>
            <a:ext cx="380412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4440" y="3792960"/>
            <a:ext cx="77958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A0AF-E125-47C9-B72F-7AB5351B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Brickwork-SD-R1acrop.jpg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9"/>
          <p:cNvGrpSpPr/>
          <p:nvPr/>
        </p:nvGrpSpPr>
        <p:grpSpPr>
          <a:xfrm>
            <a:off x="-19080" y="0"/>
            <a:ext cx="9003600" cy="6643800"/>
            <a:chOff x="-19080" y="0"/>
            <a:chExt cx="9003600" cy="6643800"/>
          </a:xfrm>
        </p:grpSpPr>
        <p:sp useBgFill="1">
          <p:nvSpPr>
            <p:cNvPr id="2" name="Rectangle 10"/>
            <p:cNvSpPr/>
            <p:nvPr/>
          </p:nvSpPr>
          <p:spPr>
            <a:xfrm>
              <a:off x="0" y="0"/>
              <a:ext cx="8984520" cy="6643800"/>
            </a:xfrm>
            <a:prstGeom prst="rect">
              <a:avLst/>
            </a:prstGeom>
            <a:ln>
              <a:noFill/>
            </a:ln>
            <a:effectLst>
              <a:outerShdw algn="tl" blurRad="98280" dir="4391803" dist="75963" rotWithShape="0">
                <a:srgbClr val="000000">
                  <a:alpha val="68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12"/>
            <p:cNvSpPr/>
            <p:nvPr/>
          </p:nvSpPr>
          <p:spPr>
            <a:xfrm>
              <a:off x="0" y="5600160"/>
              <a:ext cx="8779680" cy="780120"/>
            </a:xfrm>
            <a:prstGeom prst="rect">
              <a:avLst/>
            </a:prstGeom>
            <a:gradFill rotWithShape="0">
              <a:gsLst>
                <a:gs pos="0">
                  <a:srgbClr val="b80e0f"/>
                </a:gs>
                <a:gs pos="100000">
                  <a:srgbClr val="5c0707"/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-19080" y="0"/>
              <a:ext cx="8829720" cy="6419160"/>
            </a:xfrm>
            <a:custGeom>
              <a:avLst/>
              <a:gdLst>
                <a:gd name="textAreaLeft" fmla="*/ 0 w 8829720"/>
                <a:gd name="textAreaRight" fmla="*/ 8830080 w 8829720"/>
                <a:gd name="textAreaTop" fmla="*/ 0 h 6419160"/>
                <a:gd name="textAreaBottom" fmla="*/ 6419520 h 6419160"/>
              </a:gdLst>
              <a:ahLst/>
              <a:rect l="textAreaLeft" t="textAreaTop" r="textAreaRight" b="textAreaBottom"/>
              <a:pathLst>
                <a:path w="11773291" h="6419514">
                  <a:moveTo>
                    <a:pt x="11750059" y="0"/>
                  </a:moveTo>
                  <a:lnTo>
                    <a:pt x="11773291" y="6419514"/>
                  </a:lnTo>
                  <a:lnTo>
                    <a:pt x="0" y="6411047"/>
                  </a:lnTo>
                </a:path>
              </a:pathLst>
            </a:custGeom>
            <a:noFill/>
            <a:ln w="82550">
              <a:solidFill>
                <a:srgbClr val="000000">
                  <a:lumMod val="50000"/>
                  <a:lumOff val="50000"/>
                </a:srgbClr>
              </a:solidFill>
              <a:miter/>
            </a:ln>
          </p:spPr>
          <p:style>
            <a:lnRef idx="2">
              <a:schemeClr val="accent1"/>
            </a:lnRef>
            <a:fillRef idx="0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473440" y="5757480"/>
            <a:ext cx="2838240" cy="49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800" spc="-1" strike="noStrike" cap="all">
                <a:solidFill>
                  <a:schemeClr val="accent1">
                    <a:lumMod val="50000"/>
                  </a:schemeClr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chemeClr val="accent1">
                    <a:lumMod val="50000"/>
                  </a:schemeClr>
                </a:solidFill>
                <a:latin typeface="Impact"/>
              </a:rPr>
              <a:t>&lt;date/time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514440" y="5757480"/>
            <a:ext cx="4124520" cy="49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3"/>
          </p:nvPr>
        </p:nvSpPr>
        <p:spPr>
          <a:xfrm>
            <a:off x="4715280" y="5757480"/>
            <a:ext cx="680040" cy="49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2800" spc="-1" strike="noStrike" cap="all">
                <a:solidFill>
                  <a:schemeClr val="accent1">
                    <a:lumMod val="50000"/>
                  </a:schemeClr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9C7679A-4749-4CB2-AB94-4CFF071F3F64}" type="slidenum">
              <a:rPr b="0" lang="ru-RU" sz="2800" spc="-1" strike="noStrike" cap="all">
                <a:solidFill>
                  <a:schemeClr val="accent1">
                    <a:lumMod val="50000"/>
                  </a:schemeClr>
                </a:solidFill>
                <a:latin typeface="Impac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2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 cap="all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  <a:p>
            <a:pPr lvl="1" marL="864000" indent="-324000">
              <a:lnSpc>
                <a:spcPct val="12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 cap="all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1600" spc="-1" strike="noStrike" cap="all">
              <a:solidFill>
                <a:srgbClr val="000000"/>
              </a:solidFill>
              <a:latin typeface="Impact"/>
            </a:endParaRPr>
          </a:p>
          <a:p>
            <a:pPr lvl="2" marL="1296000" indent="-28800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 cap="all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1400" spc="-1" strike="noStrike" cap="all">
              <a:solidFill>
                <a:srgbClr val="000000"/>
              </a:solidFill>
              <a:latin typeface="Impact"/>
            </a:endParaRPr>
          </a:p>
          <a:p>
            <a:pPr lvl="3" marL="1728000" indent="-216000">
              <a:lnSpc>
                <a:spcPct val="12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 cap="all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1400" spc="-1" strike="noStrike" cap="all">
              <a:solidFill>
                <a:srgbClr val="000000"/>
              </a:solidFill>
              <a:latin typeface="Impact"/>
            </a:endParaRPr>
          </a:p>
          <a:p>
            <a:pPr lvl="4" marL="2160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 cap="all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  <a:p>
            <a:pPr lvl="5" marL="2592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 cap="all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  <a:p>
            <a:pPr lvl="6" marL="3024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 cap="all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Brickwork-SD-R1acrop.jpg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grpSp>
        <p:nvGrpSpPr>
          <p:cNvPr id="47" name="Group 9"/>
          <p:cNvGrpSpPr/>
          <p:nvPr/>
        </p:nvGrpSpPr>
        <p:grpSpPr>
          <a:xfrm>
            <a:off x="-19080" y="0"/>
            <a:ext cx="9003600" cy="6643800"/>
            <a:chOff x="-19080" y="0"/>
            <a:chExt cx="9003600" cy="6643800"/>
          </a:xfrm>
        </p:grpSpPr>
        <p:sp useBgFill="1">
          <p:nvSpPr>
            <p:cNvPr id="48" name="Rectangle 10"/>
            <p:cNvSpPr/>
            <p:nvPr/>
          </p:nvSpPr>
          <p:spPr>
            <a:xfrm>
              <a:off x="0" y="0"/>
              <a:ext cx="8984520" cy="6643800"/>
            </a:xfrm>
            <a:prstGeom prst="rect">
              <a:avLst/>
            </a:prstGeom>
            <a:ln>
              <a:noFill/>
            </a:ln>
            <a:effectLst>
              <a:outerShdw algn="tl" blurRad="98280" dir="4391803" dist="75963" rotWithShape="0">
                <a:srgbClr val="000000">
                  <a:alpha val="68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2"/>
            <p:cNvSpPr/>
            <p:nvPr/>
          </p:nvSpPr>
          <p:spPr>
            <a:xfrm>
              <a:off x="0" y="5600160"/>
              <a:ext cx="8779680" cy="780120"/>
            </a:xfrm>
            <a:prstGeom prst="rect">
              <a:avLst/>
            </a:prstGeom>
            <a:gradFill rotWithShape="0">
              <a:gsLst>
                <a:gs pos="0">
                  <a:srgbClr val="b80e0f"/>
                </a:gs>
                <a:gs pos="100000">
                  <a:srgbClr val="5c0707"/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-19080" y="0"/>
              <a:ext cx="8829720" cy="6419160"/>
            </a:xfrm>
            <a:custGeom>
              <a:avLst/>
              <a:gdLst>
                <a:gd name="textAreaLeft" fmla="*/ 0 w 8829720"/>
                <a:gd name="textAreaRight" fmla="*/ 8830080 w 8829720"/>
                <a:gd name="textAreaTop" fmla="*/ 0 h 6419160"/>
                <a:gd name="textAreaBottom" fmla="*/ 6419520 h 6419160"/>
              </a:gdLst>
              <a:ahLst/>
              <a:rect l="textAreaLeft" t="textAreaTop" r="textAreaRight" b="textAreaBottom"/>
              <a:pathLst>
                <a:path w="11773291" h="6419514">
                  <a:moveTo>
                    <a:pt x="11750059" y="0"/>
                  </a:moveTo>
                  <a:lnTo>
                    <a:pt x="11773291" y="6419514"/>
                  </a:lnTo>
                  <a:lnTo>
                    <a:pt x="0" y="6411047"/>
                  </a:lnTo>
                </a:path>
              </a:pathLst>
            </a:custGeom>
            <a:noFill/>
            <a:ln w="82550">
              <a:solidFill>
                <a:srgbClr val="000000">
                  <a:lumMod val="50000"/>
                  <a:lumOff val="50000"/>
                </a:srgbClr>
              </a:solidFill>
              <a:miter/>
            </a:ln>
          </p:spPr>
          <p:style>
            <a:lnRef idx="2">
              <a:schemeClr val="accent1"/>
            </a:lnRef>
            <a:fillRef idx="0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7240" cy="11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 cap="all">
                <a:solidFill>
                  <a:schemeClr val="accent1"/>
                </a:solidFill>
                <a:latin typeface="Impact"/>
              </a:rPr>
              <a:t>Образец заголовка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514440" y="2063520"/>
            <a:ext cx="7795800" cy="331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ru-RU" sz="2000" spc="-1" strike="noStrike" cap="all">
                <a:solidFill>
                  <a:srgbClr val="000000"/>
                </a:solidFill>
                <a:latin typeface="Impact"/>
              </a:rPr>
              <a:t>Образец текста</a:t>
            </a: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ru-RU" sz="1800" spc="-1" strike="noStrike" cap="all">
                <a:solidFill>
                  <a:srgbClr val="000000"/>
                </a:solidFill>
                <a:latin typeface="Impact"/>
              </a:rPr>
              <a:t>Второй уровень</a:t>
            </a:r>
            <a:endParaRPr b="0" lang="en-US" sz="1800" spc="-1" strike="noStrike" cap="all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ru-RU" sz="1600" spc="-1" strike="noStrike" cap="all">
                <a:solidFill>
                  <a:srgbClr val="000000"/>
                </a:solidFill>
                <a:latin typeface="Impact"/>
              </a:rPr>
              <a:t>Третий уровень</a:t>
            </a:r>
            <a:endParaRPr b="0" lang="en-US" sz="1600" spc="-1" strike="noStrike" cap="all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ru-RU" sz="1400" spc="-1" strike="noStrike" cap="all">
                <a:solidFill>
                  <a:srgbClr val="000000"/>
                </a:solidFill>
                <a:latin typeface="Impact"/>
              </a:rPr>
              <a:t>Четвертый уровень</a:t>
            </a:r>
            <a:endParaRPr b="0" lang="en-US" sz="1400" spc="-1" strike="noStrike" cap="all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ru-RU" sz="1400" spc="-1" strike="noStrike" cap="all">
                <a:solidFill>
                  <a:srgbClr val="000000"/>
                </a:solidFill>
                <a:latin typeface="Impact"/>
              </a:rPr>
              <a:t>Пятый уровень</a:t>
            </a:r>
            <a:endParaRPr b="0" lang="en-US" sz="14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5473440" y="5757480"/>
            <a:ext cx="2838240" cy="49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800" spc="-1" strike="noStrike" cap="all">
                <a:solidFill>
                  <a:schemeClr val="accent1">
                    <a:lumMod val="50000"/>
                  </a:schemeClr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chemeClr val="accent1">
                    <a:lumMod val="50000"/>
                  </a:schemeClr>
                </a:solidFill>
                <a:latin typeface="Impact"/>
              </a:rPr>
              <a:t>&lt;date/time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514440" y="5757480"/>
            <a:ext cx="4124520" cy="49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4715280" y="5757480"/>
            <a:ext cx="680040" cy="49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2800" spc="-1" strike="noStrike" cap="all">
                <a:solidFill>
                  <a:schemeClr val="accent1">
                    <a:lumMod val="50000"/>
                  </a:schemeClr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7E73D13-913B-477A-AECC-6D561263AE4E}" type="slidenum">
              <a:rPr b="0" lang="ru-RU" sz="2800" spc="-1" strike="noStrike" cap="all">
                <a:solidFill>
                  <a:schemeClr val="accent1">
                    <a:lumMod val="50000"/>
                  </a:schemeClr>
                </a:solidFill>
                <a:latin typeface="Impac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7" descr="Brickwork-SD-R1acrop.jpg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9"/>
          <p:cNvGrpSpPr/>
          <p:nvPr/>
        </p:nvGrpSpPr>
        <p:grpSpPr>
          <a:xfrm>
            <a:off x="-19080" y="0"/>
            <a:ext cx="9003600" cy="6643800"/>
            <a:chOff x="-19080" y="0"/>
            <a:chExt cx="9003600" cy="6643800"/>
          </a:xfrm>
        </p:grpSpPr>
        <p:sp useBgFill="1">
          <p:nvSpPr>
            <p:cNvPr id="94" name="Rectangle 10"/>
            <p:cNvSpPr/>
            <p:nvPr/>
          </p:nvSpPr>
          <p:spPr>
            <a:xfrm>
              <a:off x="0" y="0"/>
              <a:ext cx="8984520" cy="6643800"/>
            </a:xfrm>
            <a:prstGeom prst="rect">
              <a:avLst/>
            </a:prstGeom>
            <a:ln>
              <a:noFill/>
            </a:ln>
            <a:effectLst>
              <a:outerShdw algn="tl" blurRad="98280" dir="4391803" dist="75963" rotWithShape="0">
                <a:srgbClr val="000000">
                  <a:alpha val="68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2"/>
            <p:cNvSpPr/>
            <p:nvPr/>
          </p:nvSpPr>
          <p:spPr>
            <a:xfrm>
              <a:off x="0" y="5600160"/>
              <a:ext cx="8779680" cy="780120"/>
            </a:xfrm>
            <a:prstGeom prst="rect">
              <a:avLst/>
            </a:prstGeom>
            <a:gradFill rotWithShape="0">
              <a:gsLst>
                <a:gs pos="0">
                  <a:srgbClr val="b80e0f"/>
                </a:gs>
                <a:gs pos="100000">
                  <a:srgbClr val="5c0707"/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1"/>
            <p:cNvSpPr/>
            <p:nvPr/>
          </p:nvSpPr>
          <p:spPr>
            <a:xfrm>
              <a:off x="-19080" y="0"/>
              <a:ext cx="8829720" cy="6419160"/>
            </a:xfrm>
            <a:custGeom>
              <a:avLst/>
              <a:gdLst>
                <a:gd name="textAreaLeft" fmla="*/ 0 w 8829720"/>
                <a:gd name="textAreaRight" fmla="*/ 8830080 w 8829720"/>
                <a:gd name="textAreaTop" fmla="*/ 0 h 6419160"/>
                <a:gd name="textAreaBottom" fmla="*/ 6419520 h 6419160"/>
              </a:gdLst>
              <a:ahLst/>
              <a:rect l="textAreaLeft" t="textAreaTop" r="textAreaRight" b="textAreaBottom"/>
              <a:pathLst>
                <a:path w="11773291" h="6419514">
                  <a:moveTo>
                    <a:pt x="11750059" y="0"/>
                  </a:moveTo>
                  <a:lnTo>
                    <a:pt x="11773291" y="6419514"/>
                  </a:lnTo>
                  <a:lnTo>
                    <a:pt x="0" y="6411047"/>
                  </a:lnTo>
                </a:path>
              </a:pathLst>
            </a:custGeom>
            <a:noFill/>
            <a:ln w="82550">
              <a:solidFill>
                <a:srgbClr val="000000">
                  <a:lumMod val="50000"/>
                  <a:lumOff val="50000"/>
                </a:srgbClr>
              </a:solidFill>
              <a:miter/>
            </a:ln>
          </p:spPr>
          <p:style>
            <a:lnRef idx="2">
              <a:schemeClr val="accent1"/>
            </a:lnRef>
            <a:fillRef idx="0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7240" cy="115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 cap="all">
                <a:solidFill>
                  <a:schemeClr val="accent1"/>
                </a:solidFill>
                <a:latin typeface="Impact"/>
              </a:rPr>
              <a:t>Образец заголовка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514440" y="2063520"/>
            <a:ext cx="3816000" cy="331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ru-RU" sz="2000" spc="-1" strike="noStrike" cap="all">
                <a:solidFill>
                  <a:srgbClr val="000000"/>
                </a:solidFill>
                <a:latin typeface="Impact"/>
              </a:rPr>
              <a:t>Образец текста</a:t>
            </a: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ru-RU" sz="1800" spc="-1" strike="noStrike" cap="all">
                <a:solidFill>
                  <a:srgbClr val="000000"/>
                </a:solidFill>
                <a:latin typeface="Impact"/>
              </a:rPr>
              <a:t>Второй уровень</a:t>
            </a:r>
            <a:endParaRPr b="0" lang="en-US" sz="1800" spc="-1" strike="noStrike" cap="all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ru-RU" sz="1600" spc="-1" strike="noStrike" cap="all">
                <a:solidFill>
                  <a:srgbClr val="000000"/>
                </a:solidFill>
                <a:latin typeface="Impact"/>
              </a:rPr>
              <a:t>Третий уровень</a:t>
            </a:r>
            <a:endParaRPr b="0" lang="en-US" sz="1600" spc="-1" strike="noStrike" cap="all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ru-RU" sz="1400" spc="-1" strike="noStrike" cap="all">
                <a:solidFill>
                  <a:srgbClr val="000000"/>
                </a:solidFill>
                <a:latin typeface="Impact"/>
              </a:rPr>
              <a:t>Четвертый уровень</a:t>
            </a:r>
            <a:endParaRPr b="0" lang="en-US" sz="1400" spc="-1" strike="noStrike" cap="all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ru-RU" sz="1400" spc="-1" strike="noStrike" cap="all">
                <a:solidFill>
                  <a:srgbClr val="000000"/>
                </a:solidFill>
                <a:latin typeface="Impact"/>
              </a:rPr>
              <a:t>Пятый уровень</a:t>
            </a:r>
            <a:endParaRPr b="0" lang="en-US" sz="14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body"/>
          </p:nvPr>
        </p:nvSpPr>
        <p:spPr>
          <a:xfrm>
            <a:off x="4495320" y="2063520"/>
            <a:ext cx="3814560" cy="331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ru-RU" sz="2000" spc="-1" strike="noStrike" cap="all">
                <a:solidFill>
                  <a:srgbClr val="000000"/>
                </a:solidFill>
                <a:latin typeface="Impact"/>
              </a:rPr>
              <a:t>Образец текста</a:t>
            </a: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ru-RU" sz="1800" spc="-1" strike="noStrike" cap="all">
                <a:solidFill>
                  <a:srgbClr val="000000"/>
                </a:solidFill>
                <a:latin typeface="Impact"/>
              </a:rPr>
              <a:t>Второй уровень</a:t>
            </a:r>
            <a:endParaRPr b="0" lang="en-US" sz="1800" spc="-1" strike="noStrike" cap="all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ru-RU" sz="1600" spc="-1" strike="noStrike" cap="all">
                <a:solidFill>
                  <a:srgbClr val="000000"/>
                </a:solidFill>
                <a:latin typeface="Impact"/>
              </a:rPr>
              <a:t>Третий уровень</a:t>
            </a:r>
            <a:endParaRPr b="0" lang="en-US" sz="1600" spc="-1" strike="noStrike" cap="all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ru-RU" sz="1400" spc="-1" strike="noStrike" cap="all">
                <a:solidFill>
                  <a:srgbClr val="000000"/>
                </a:solidFill>
                <a:latin typeface="Impact"/>
              </a:rPr>
              <a:t>Четвертый уровень</a:t>
            </a:r>
            <a:endParaRPr b="0" lang="en-US" sz="1400" spc="-1" strike="noStrike" cap="all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ru-RU" sz="1400" spc="-1" strike="noStrike" cap="all">
                <a:solidFill>
                  <a:srgbClr val="000000"/>
                </a:solidFill>
                <a:latin typeface="Impact"/>
              </a:rPr>
              <a:t>Пятый уровень</a:t>
            </a:r>
            <a:endParaRPr b="0" lang="en-US" sz="14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dt" idx="7"/>
          </p:nvPr>
        </p:nvSpPr>
        <p:spPr>
          <a:xfrm>
            <a:off x="5473440" y="5757480"/>
            <a:ext cx="2838240" cy="49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800" spc="-1" strike="noStrike" cap="all">
                <a:solidFill>
                  <a:schemeClr val="accent1">
                    <a:lumMod val="50000"/>
                  </a:schemeClr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chemeClr val="accent1">
                    <a:lumMod val="50000"/>
                  </a:schemeClr>
                </a:solidFill>
                <a:latin typeface="Impact"/>
              </a:rPr>
              <a:t>&lt;date/time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514440" y="5757480"/>
            <a:ext cx="4124520" cy="49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4715280" y="5757480"/>
            <a:ext cx="680040" cy="49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2800" spc="-1" strike="noStrike" cap="all">
                <a:solidFill>
                  <a:schemeClr val="accent1">
                    <a:lumMod val="50000"/>
                  </a:schemeClr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98C2F45-F373-4CBA-B07F-4A1CFD093E1C}" type="slidenum">
              <a:rPr b="0" lang="ru-RU" sz="2800" spc="-1" strike="noStrike" cap="all">
                <a:solidFill>
                  <a:schemeClr val="accent1">
                    <a:lumMod val="50000"/>
                  </a:schemeClr>
                </a:solidFill>
                <a:latin typeface="Impac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7" descr="Brickwork-SD-R1acrop.jpg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9"/>
          <p:cNvGrpSpPr/>
          <p:nvPr/>
        </p:nvGrpSpPr>
        <p:grpSpPr>
          <a:xfrm>
            <a:off x="-19080" y="0"/>
            <a:ext cx="9003600" cy="6643800"/>
            <a:chOff x="-19080" y="0"/>
            <a:chExt cx="9003600" cy="6643800"/>
          </a:xfrm>
        </p:grpSpPr>
        <p:sp useBgFill="1">
          <p:nvSpPr>
            <p:cNvPr id="141" name="Rectangle 10"/>
            <p:cNvSpPr/>
            <p:nvPr/>
          </p:nvSpPr>
          <p:spPr>
            <a:xfrm>
              <a:off x="0" y="0"/>
              <a:ext cx="8984520" cy="6643800"/>
            </a:xfrm>
            <a:prstGeom prst="rect">
              <a:avLst/>
            </a:prstGeom>
            <a:ln>
              <a:noFill/>
            </a:ln>
            <a:effectLst>
              <a:outerShdw algn="tl" blurRad="98280" dir="4391803" dist="75963" rotWithShape="0">
                <a:srgbClr val="000000">
                  <a:alpha val="68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2"/>
            <p:cNvSpPr/>
            <p:nvPr/>
          </p:nvSpPr>
          <p:spPr>
            <a:xfrm>
              <a:off x="0" y="5600160"/>
              <a:ext cx="8779680" cy="780120"/>
            </a:xfrm>
            <a:prstGeom prst="rect">
              <a:avLst/>
            </a:prstGeom>
            <a:gradFill rotWithShape="0">
              <a:gsLst>
                <a:gs pos="0">
                  <a:srgbClr val="b80e0f"/>
                </a:gs>
                <a:gs pos="100000">
                  <a:srgbClr val="5c0707"/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1"/>
            <p:cNvSpPr/>
            <p:nvPr/>
          </p:nvSpPr>
          <p:spPr>
            <a:xfrm>
              <a:off x="-19080" y="0"/>
              <a:ext cx="8829720" cy="6419160"/>
            </a:xfrm>
            <a:custGeom>
              <a:avLst/>
              <a:gdLst>
                <a:gd name="textAreaLeft" fmla="*/ 0 w 8829720"/>
                <a:gd name="textAreaRight" fmla="*/ 8830080 w 8829720"/>
                <a:gd name="textAreaTop" fmla="*/ 0 h 6419160"/>
                <a:gd name="textAreaBottom" fmla="*/ 6419520 h 6419160"/>
              </a:gdLst>
              <a:ahLst/>
              <a:rect l="textAreaLeft" t="textAreaTop" r="textAreaRight" b="textAreaBottom"/>
              <a:pathLst>
                <a:path w="11773291" h="6419514">
                  <a:moveTo>
                    <a:pt x="11750059" y="0"/>
                  </a:moveTo>
                  <a:lnTo>
                    <a:pt x="11773291" y="6419514"/>
                  </a:lnTo>
                  <a:lnTo>
                    <a:pt x="0" y="6411047"/>
                  </a:lnTo>
                </a:path>
              </a:pathLst>
            </a:custGeom>
            <a:noFill/>
            <a:ln w="82550">
              <a:solidFill>
                <a:srgbClr val="000000">
                  <a:lumMod val="50000"/>
                  <a:lumOff val="50000"/>
                </a:srgbClr>
              </a:solidFill>
              <a:miter/>
            </a:ln>
          </p:spPr>
          <p:style>
            <a:lnRef idx="2">
              <a:schemeClr val="accent1"/>
            </a:lnRef>
            <a:fillRef idx="0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4" name="Picture 7" descr="Brickwork-SD-R1acrop.jpg"/>
          <p:cNvPicPr/>
          <p:nvPr/>
        </p:nvPicPr>
        <p:blipFill>
          <a:blip r:embed="rId4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 useBgFill="1">
        <p:nvSpPr>
          <p:cNvPr id="145" name="Freeform 12"/>
          <p:cNvSpPr/>
          <p:nvPr/>
        </p:nvSpPr>
        <p:spPr>
          <a:xfrm>
            <a:off x="-8640" y="-16920"/>
            <a:ext cx="8754120" cy="6451200"/>
          </a:xfrm>
          <a:custGeom>
            <a:avLst/>
            <a:gdLst>
              <a:gd name="textAreaLeft" fmla="*/ 0 w 8754120"/>
              <a:gd name="textAreaRight" fmla="*/ 8754480 w 8754120"/>
              <a:gd name="textAreaTop" fmla="*/ 0 h 6451200"/>
              <a:gd name="textAreaBottom" fmla="*/ 6451560 h 6451200"/>
            </a:gdLst>
            <a:ahLst/>
            <a:rect l="textAreaLeft" t="textAreaTop" r="textAreaRight" b="textAreaBottom"/>
            <a:pathLst>
              <a:path w="8754534" h="6451600">
                <a:moveTo>
                  <a:pt x="8373534" y="0"/>
                </a:moveTo>
                <a:lnTo>
                  <a:pt x="8754534" y="5994400"/>
                </a:lnTo>
                <a:lnTo>
                  <a:pt x="0" y="6451600"/>
                </a:lnTo>
                <a:lnTo>
                  <a:pt x="0" y="0"/>
                </a:lnTo>
                <a:lnTo>
                  <a:pt x="8373534" y="0"/>
                </a:lnTo>
                <a:close/>
              </a:path>
            </a:pathLst>
          </a:custGeom>
          <a:ln>
            <a:noFill/>
          </a:ln>
          <a:effectLst>
            <a:outerShdw algn="tl" blurRad="98280" dir="4391803" dist="75963" rotWithShape="0">
              <a:srgbClr val="000000">
                <a:alpha val="68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22"/>
          <p:cNvSpPr/>
          <p:nvPr/>
        </p:nvSpPr>
        <p:spPr>
          <a:xfrm>
            <a:off x="-10440" y="4444920"/>
            <a:ext cx="8464320" cy="1715400"/>
          </a:xfrm>
          <a:custGeom>
            <a:avLst/>
            <a:gdLst>
              <a:gd name="textAreaLeft" fmla="*/ 0 w 8464320"/>
              <a:gd name="textAreaRight" fmla="*/ 8464680 w 8464320"/>
              <a:gd name="textAreaTop" fmla="*/ 0 h 1715400"/>
              <a:gd name="textAreaBottom" fmla="*/ 1715760 h 1715400"/>
            </a:gdLst>
            <a:ahLst/>
            <a:rect l="textAreaLeft" t="textAreaTop" r="textAreaRight" b="textAreaBottom"/>
            <a:pathLst>
              <a:path w="8428428" h="1878553">
                <a:moveTo>
                  <a:pt x="0" y="438229"/>
                </a:moveTo>
                <a:lnTo>
                  <a:pt x="8343246" y="0"/>
                </a:lnTo>
                <a:lnTo>
                  <a:pt x="8428428" y="1424838"/>
                </a:lnTo>
                <a:lnTo>
                  <a:pt x="7515" y="1878553"/>
                </a:lnTo>
                <a:lnTo>
                  <a:pt x="0" y="438229"/>
                </a:lnTo>
                <a:close/>
              </a:path>
            </a:pathLst>
          </a:custGeom>
          <a:gradFill rotWithShape="0">
            <a:gsLst>
              <a:gs pos="0">
                <a:srgbClr val="b80e0f"/>
              </a:gs>
              <a:gs pos="100000">
                <a:srgbClr val="5c0707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28"/>
          <p:cNvSpPr/>
          <p:nvPr/>
        </p:nvSpPr>
        <p:spPr>
          <a:xfrm>
            <a:off x="-2880" y="0"/>
            <a:ext cx="5810760" cy="321120"/>
          </a:xfrm>
          <a:custGeom>
            <a:avLst/>
            <a:gdLst>
              <a:gd name="textAreaLeft" fmla="*/ 0 w 5810760"/>
              <a:gd name="textAreaRight" fmla="*/ 5811120 w 5810760"/>
              <a:gd name="textAreaTop" fmla="*/ 0 h 321120"/>
              <a:gd name="textAreaBottom" fmla="*/ 321480 h 321120"/>
            </a:gdLst>
            <a:ahLst/>
            <a:rect l="textAreaLeft" t="textAreaTop" r="textAreaRight" b="textAreaBottom"/>
            <a:pathLst>
              <a:path w="5811235" h="321615">
                <a:moveTo>
                  <a:pt x="0" y="0"/>
                </a:moveTo>
                <a:lnTo>
                  <a:pt x="5811235" y="0"/>
                </a:lnTo>
                <a:lnTo>
                  <a:pt x="1" y="321615"/>
                </a:lnTo>
                <a:cubicBezTo>
                  <a:pt x="1" y="214410"/>
                  <a:pt x="0" y="107205"/>
                  <a:pt x="0" y="0"/>
                </a:cubicBezTo>
                <a:close/>
              </a:path>
            </a:pathLst>
          </a:custGeom>
          <a:gradFill rotWithShape="0">
            <a:gsLst>
              <a:gs pos="0">
                <a:srgbClr val="b80e0f"/>
              </a:gs>
              <a:gs pos="100000">
                <a:srgbClr val="5c0707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29"/>
          <p:cNvSpPr/>
          <p:nvPr/>
        </p:nvSpPr>
        <p:spPr>
          <a:xfrm rot="21420000">
            <a:off x="-170640" y="212760"/>
            <a:ext cx="8480160" cy="5745600"/>
          </a:xfrm>
          <a:custGeom>
            <a:avLst/>
            <a:gdLst>
              <a:gd name="textAreaLeft" fmla="*/ 0 w 8480160"/>
              <a:gd name="textAreaRight" fmla="*/ 8480520 w 8480160"/>
              <a:gd name="textAreaTop" fmla="*/ 0 h 5745600"/>
              <a:gd name="textAreaBottom" fmla="*/ 5745960 h 5745600"/>
            </a:gdLst>
            <a:ahLst/>
            <a:rect l="textAreaLeft" t="textAreaTop" r="textAreaRight" b="textAreaBottom"/>
            <a:pathLst>
              <a:path w="11307378" h="5746008">
                <a:moveTo>
                  <a:pt x="11270997" y="0"/>
                </a:moveTo>
                <a:lnTo>
                  <a:pt x="11307378" y="5746008"/>
                </a:lnTo>
                <a:lnTo>
                  <a:pt x="1" y="5743137"/>
                </a:lnTo>
              </a:path>
            </a:pathLst>
          </a:custGeom>
          <a:noFill/>
          <a:ln w="82550">
            <a:solidFill>
              <a:srgbClr val="000000">
                <a:lumMod val="50000"/>
                <a:lumOff val="50000"/>
              </a:srgbClr>
            </a:solidFill>
            <a:miter/>
          </a:ln>
        </p:spPr>
        <p:style>
          <a:lnRef idx="2">
            <a:schemeClr val="accent1"/>
          </a:lnRef>
          <a:fillRef idx="0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 rot="21420000">
            <a:off x="451080" y="668160"/>
            <a:ext cx="7533000" cy="276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lnSpc>
                <a:spcPct val="90000"/>
              </a:lnSpc>
              <a:buNone/>
            </a:pPr>
            <a:r>
              <a:rPr b="0" lang="ru-RU" sz="7200" spc="-1" strike="noStrike" cap="all">
                <a:solidFill>
                  <a:schemeClr val="accent1"/>
                </a:solidFill>
                <a:latin typeface="Impact"/>
              </a:rPr>
              <a:t>Образец заголовка</a:t>
            </a:r>
            <a:endParaRPr b="0" lang="en-US" sz="7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10"/>
          </p:nvPr>
        </p:nvSpPr>
        <p:spPr>
          <a:xfrm rot="21420000">
            <a:off x="3668760" y="4714200"/>
            <a:ext cx="4607280" cy="94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4200" spc="-1" strike="noStrike" cap="all">
                <a:solidFill>
                  <a:schemeClr val="accent1">
                    <a:lumMod val="50000"/>
                  </a:schemeClr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ru-RU" sz="4200" spc="-1" strike="noStrike" cap="all">
                <a:solidFill>
                  <a:schemeClr val="accent1">
                    <a:lumMod val="50000"/>
                  </a:schemeClr>
                </a:solidFill>
                <a:latin typeface="Impact"/>
              </a:rPr>
              <a:t>&lt;date/time&gt;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ftr" idx="11"/>
          </p:nvPr>
        </p:nvSpPr>
        <p:spPr>
          <a:xfrm rot="21420000">
            <a:off x="-11880" y="4954680"/>
            <a:ext cx="2986560" cy="91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sldNum" idx="12"/>
          </p:nvPr>
        </p:nvSpPr>
        <p:spPr>
          <a:xfrm rot="21420000">
            <a:off x="7401240" y="3819600"/>
            <a:ext cx="680040" cy="49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2400" spc="-1" strike="noStrike" cap="all">
                <a:solidFill>
                  <a:srgbClr val="40404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A2F2ADE-5052-4581-819D-A2A5E4150638}" type="slidenum">
              <a:rPr b="0" lang="ru-RU" sz="2400" spc="-1" strike="noStrike" cap="all">
                <a:solidFill>
                  <a:srgbClr val="404040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5-Point Star 32"/>
          <p:cNvSpPr/>
          <p:nvPr/>
        </p:nvSpPr>
        <p:spPr>
          <a:xfrm rot="21420000">
            <a:off x="3121920" y="5056920"/>
            <a:ext cx="515160" cy="515160"/>
          </a:xfrm>
          <a:prstGeom prst="star5">
            <a:avLst>
              <a:gd name="adj" fmla="val 26693"/>
              <a:gd name="hf" fmla="val 105146"/>
              <a:gd name="vf" fmla="val 110557"/>
            </a:avLst>
          </a:prstGeom>
          <a:solidFill>
            <a:schemeClr val="tx1">
              <a:alpha val="40000"/>
            </a:schemeClr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2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 cap="all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  <a:p>
            <a:pPr lvl="1" marL="864000" indent="-324000">
              <a:lnSpc>
                <a:spcPct val="12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 cap="all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1600" spc="-1" strike="noStrike" cap="all">
              <a:solidFill>
                <a:srgbClr val="000000"/>
              </a:solidFill>
              <a:latin typeface="Impact"/>
            </a:endParaRPr>
          </a:p>
          <a:p>
            <a:pPr lvl="2" marL="1296000" indent="-28800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 cap="all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1400" spc="-1" strike="noStrike" cap="all">
              <a:solidFill>
                <a:srgbClr val="000000"/>
              </a:solidFill>
              <a:latin typeface="Impact"/>
            </a:endParaRPr>
          </a:p>
          <a:p>
            <a:pPr lvl="3" marL="1728000" indent="-216000">
              <a:lnSpc>
                <a:spcPct val="12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 cap="all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1400" spc="-1" strike="noStrike" cap="all">
              <a:solidFill>
                <a:srgbClr val="000000"/>
              </a:solidFill>
              <a:latin typeface="Impact"/>
            </a:endParaRPr>
          </a:p>
          <a:p>
            <a:pPr lvl="4" marL="2160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 cap="all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  <a:p>
            <a:pPr lvl="5" marL="2592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 cap="all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  <a:p>
            <a:pPr lvl="6" marL="3024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 cap="all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diagramData" Target="../diagrams/data5.xml"/><Relationship Id="rId2" Type="http://schemas.openxmlformats.org/officeDocument/2006/relationships/diagramLayout" Target="../diagrams/layout5.xml"/><Relationship Id="rId3" Type="http://schemas.openxmlformats.org/officeDocument/2006/relationships/diagramQuickStyle" Target="../diagrams/quickStyle5.xml"/><Relationship Id="rId4" Type="http://schemas.openxmlformats.org/officeDocument/2006/relationships/diagramColors" Target="../diagrams/colors5.xml"/><Relationship Id="rId5" Type="http://schemas.microsoft.com/office/2007/relationships/diagramDrawing" Target="../diagrams/drawing5.xml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microsoft.com/office/2007/relationships/diagramDrawing" Target="../diagrams/drawing2.xml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diagramData" Target="../diagrams/data3.xml"/><Relationship Id="rId2" Type="http://schemas.openxmlformats.org/officeDocument/2006/relationships/diagramLayout" Target="../diagrams/layout3.xml"/><Relationship Id="rId3" Type="http://schemas.openxmlformats.org/officeDocument/2006/relationships/diagramQuickStyle" Target="../diagrams/quickStyle3.xml"/><Relationship Id="rId4" Type="http://schemas.openxmlformats.org/officeDocument/2006/relationships/diagramColors" Target="../diagrams/colors3.xml"/><Relationship Id="rId5" Type="http://schemas.microsoft.com/office/2007/relationships/diagramDrawing" Target="../diagrams/drawing3.xml"/><Relationship Id="rId6" Type="http://schemas.openxmlformats.org/officeDocument/2006/relationships/diagramData" Target="../diagrams/data4.xml"/><Relationship Id="rId7" Type="http://schemas.openxmlformats.org/officeDocument/2006/relationships/diagramLayout" Target="../diagrams/layout4.xml"/><Relationship Id="rId8" Type="http://schemas.openxmlformats.org/officeDocument/2006/relationships/diagramQuickStyle" Target="../diagrams/quickStyle4.xml"/><Relationship Id="rId9" Type="http://schemas.openxmlformats.org/officeDocument/2006/relationships/diagramColors" Target="../diagrams/colors4.xml"/><Relationship Id="rId10" Type="http://schemas.microsoft.com/office/2007/relationships/diagramDrawing" Target="../diagrams/drawing4.xml"/><Relationship Id="rId1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5640" y="2493000"/>
            <a:ext cx="7200720" cy="23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 cap="all">
                <a:solidFill>
                  <a:schemeClr val="accent1"/>
                </a:solidFill>
                <a:latin typeface="Impact"/>
              </a:rPr>
              <a:t>Методы и приёмы здоровьесберегающих технологий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>
        <p:push dir="u"/>
      </p:transition>
    </mc:Choice>
    <mc:Fallback>
      <p:transition spd="slow">
        <p:push dir="u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7240" cy="11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3200" spc="-1" strike="noStrike" cap="all">
                <a:solidFill>
                  <a:schemeClr val="accent1"/>
                </a:solidFill>
                <a:latin typeface="Impact"/>
                <a:ea typeface="Calibri"/>
              </a:rPr>
              <a:t>Использование методов и приемов зависит от многих условий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graphicFrame>
        <p:nvGraphicFramePr>
          <p:cNvPr id="5" name="Diagram5"/>
          <p:cNvGraphicFramePr/>
          <p:nvPr>
            <p:extLst>
              <p:ext uri="{D42A27DB-BD31-4B8C-83A1-F6EECF244321}">
                <p14:modId xmlns:p14="http://schemas.microsoft.com/office/powerpoint/2010/main" val="440756622"/>
              </p:ext>
            </p:extLst>
          </p:nvPr>
        </p:nvGraphicFramePr>
        <p:xfrm>
          <a:off x="514440" y="2063520"/>
          <a:ext cx="7795800" cy="33109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>
        <p:push dir="u"/>
      </p:transition>
    </mc:Choice>
    <mc:Fallback>
      <p:transition spd="slow">
        <p:push dir="u"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7240" cy="11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 cap="all">
                <a:solidFill>
                  <a:schemeClr val="accent1"/>
                </a:solidFill>
                <a:latin typeface="Impact"/>
              </a:rPr>
              <a:t>Здоровьесберегающие технологии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14440" y="2061000"/>
            <a:ext cx="8017560" cy="331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ru-RU" sz="3200" spc="-1" strike="noStrike" cap="all">
                <a:solidFill>
                  <a:srgbClr val="000000"/>
                </a:solidFill>
                <a:latin typeface="Impact"/>
              </a:rPr>
              <a:t>Использование здоровьесберегающих технологий должно стать приоритетным направлением в деятельности каждого образовательного учреждения для детей младшего школьного возраста.</a:t>
            </a:r>
            <a:endParaRPr b="0" lang="en-US" sz="3200" spc="-1" strike="noStrike" cap="all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>
        <p:push dir="u"/>
      </p:transition>
    </mc:Choice>
    <mc:Fallback>
      <p:transition spd="slow">
        <p:push dir="u"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12640" y="31320"/>
            <a:ext cx="7797240" cy="115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4400" spc="-1" strike="noStrike" cap="all">
                <a:solidFill>
                  <a:schemeClr val="accent1"/>
                </a:solidFill>
                <a:latin typeface="Impact"/>
              </a:rPr>
              <a:t> </a:t>
            </a:r>
            <a:r>
              <a:rPr b="0" lang="ru-RU" sz="4400" spc="-1" strike="noStrike" cap="all">
                <a:solidFill>
                  <a:schemeClr val="accent1"/>
                </a:solidFill>
                <a:latin typeface="Impact"/>
              </a:rPr>
              <a:t>Это может выражаться: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867960"/>
            <a:ext cx="4221360" cy="447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07360" indent="-20736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ru-RU" sz="2800" spc="-1" strike="noStrike" cap="all">
                <a:solidFill>
                  <a:srgbClr val="000000"/>
                </a:solidFill>
                <a:latin typeface="Impact"/>
              </a:rPr>
              <a:t>через непосредственное обучение детей элементарным приемам здорового образа жизни (профилактическим методикам, привитие детям элементарных навыков)</a:t>
            </a:r>
            <a:endParaRPr b="0" lang="en-US" sz="2800" spc="-1" strike="noStrike" cap="all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800" spc="-1" strike="noStrike" cap="all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8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197240" y="836640"/>
            <a:ext cx="4641840" cy="48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ru-RU" sz="2800" spc="-1" strike="noStrike" cap="all">
                <a:solidFill>
                  <a:srgbClr val="000000"/>
                </a:solidFill>
                <a:latin typeface="Impact"/>
              </a:rPr>
              <a:t>через процесс обучения и развития с использова-нием физкультминуток и подвижных перемен, проветривания и влажной уборки помещений; вита-минотерапии, чередование занятий с высокой и низ-кой двигательной  активностью</a:t>
            </a:r>
            <a:endParaRPr b="0" lang="en-US" sz="2800" spc="-1" strike="noStrike" cap="all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>
        <p:push dir="u"/>
      </p:transition>
    </mc:Choice>
    <mc:Fallback>
      <p:transition spd="slow">
        <p:push dir="u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61320" y="720"/>
            <a:ext cx="7797240" cy="115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4400" spc="-1" strike="noStrike" cap="all">
                <a:solidFill>
                  <a:schemeClr val="accent1"/>
                </a:solidFill>
                <a:latin typeface="Impact"/>
              </a:rPr>
              <a:t> </a:t>
            </a:r>
            <a:r>
              <a:rPr b="0" lang="ru-RU" sz="4400" spc="-1" strike="noStrike" cap="all">
                <a:solidFill>
                  <a:schemeClr val="accent1"/>
                </a:solidFill>
                <a:latin typeface="Impact"/>
              </a:rPr>
              <a:t>Это может выражаться: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640" y="980640"/>
            <a:ext cx="3816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ru-RU" sz="2800" spc="-1" strike="noStrike" cap="all">
                <a:solidFill>
                  <a:srgbClr val="000000"/>
                </a:solidFill>
                <a:latin typeface="Impact"/>
              </a:rPr>
              <a:t>через специально организованную двигательную активность ребенка (занятия оздоровительной физкультурой, подвижные игры),</a:t>
            </a:r>
            <a:endParaRPr b="0" lang="en-US" sz="28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480920" y="980640"/>
            <a:ext cx="3814560" cy="43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2400" indent="-21240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ru-RU" sz="2800" spc="-1" strike="noStrike" cap="all">
                <a:solidFill>
                  <a:srgbClr val="000000"/>
                </a:solidFill>
                <a:latin typeface="Impact"/>
              </a:rPr>
              <a:t> </a:t>
            </a:r>
            <a:r>
              <a:rPr b="0" lang="ru-RU" sz="2800" spc="-1" strike="noStrike" cap="all">
                <a:solidFill>
                  <a:srgbClr val="000000"/>
                </a:solidFill>
                <a:latin typeface="Impact"/>
              </a:rPr>
              <a:t>в процессе реабилитационных мероприятий (фитотерапия, ингаляция, лечебная физкультура, психогимнастика, тренинги).</a:t>
            </a:r>
            <a:endParaRPr b="0" lang="en-US" sz="2800" spc="-1" strike="noStrike" cap="all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>
        <p:push dir="u"/>
      </p:transition>
    </mc:Choice>
    <mc:Fallback>
      <p:transition spd="slow">
        <p:push dir="u"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7240" cy="11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 cap="all">
              <a:solidFill>
                <a:schemeClr val="accent1"/>
              </a:solidFill>
              <a:latin typeface="Impact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2937306209"/>
              </p:ext>
            </p:extLst>
          </p:nvPr>
        </p:nvGraphicFramePr>
        <p:xfrm>
          <a:off x="107640" y="685800"/>
          <a:ext cx="8640720" cy="46890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cxnSp>
        <p:nvCxnSpPr>
          <p:cNvPr id="201" name="Прямая со стрелкой 7"/>
          <p:cNvCxnSpPr/>
          <p:nvPr/>
        </p:nvCxnSpPr>
        <p:spPr>
          <a:xfrm>
            <a:off x="5508000" y="1628640"/>
            <a:ext cx="864360" cy="720360"/>
          </a:xfrm>
          <a:prstGeom prst="straightConnector1">
            <a:avLst/>
          </a:prstGeom>
          <a:ln w="127000">
            <a:solidFill>
              <a:srgbClr val="800000"/>
            </a:solidFill>
            <a:round/>
            <a:tailEnd len="med" type="triangle" w="med"/>
          </a:ln>
        </p:spPr>
      </p:cxnSp>
      <p:cxnSp>
        <p:nvCxnSpPr>
          <p:cNvPr id="202" name="Прямая со стрелкой 9"/>
          <p:cNvCxnSpPr/>
          <p:nvPr/>
        </p:nvCxnSpPr>
        <p:spPr>
          <a:xfrm flipH="1">
            <a:off x="2399040" y="1628640"/>
            <a:ext cx="868680" cy="720360"/>
          </a:xfrm>
          <a:prstGeom prst="straightConnector1">
            <a:avLst/>
          </a:prstGeom>
          <a:ln w="127000">
            <a:solidFill>
              <a:srgbClr val="8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>
        <p:push dir="u"/>
      </p:transition>
    </mc:Choice>
    <mc:Fallback>
      <p:transition spd="slow">
        <p:push dir="u"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7240" cy="11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 cap="all">
              <a:solidFill>
                <a:schemeClr val="accent1"/>
              </a:solidFill>
              <a:latin typeface="Impact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3219471553"/>
              </p:ext>
            </p:extLst>
          </p:nvPr>
        </p:nvGraphicFramePr>
        <p:xfrm>
          <a:off x="107640" y="685800"/>
          <a:ext cx="8640720" cy="46890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cxnSp>
        <p:nvCxnSpPr>
          <p:cNvPr id="204" name="Прямая со стрелкой 7"/>
          <p:cNvCxnSpPr/>
          <p:nvPr/>
        </p:nvCxnSpPr>
        <p:spPr>
          <a:xfrm>
            <a:off x="5508000" y="1628640"/>
            <a:ext cx="864360" cy="720360"/>
          </a:xfrm>
          <a:prstGeom prst="straightConnector1">
            <a:avLst/>
          </a:prstGeom>
          <a:ln w="127000">
            <a:solidFill>
              <a:srgbClr val="800000"/>
            </a:solidFill>
            <a:round/>
            <a:tailEnd len="med" type="triangle" w="med"/>
          </a:ln>
        </p:spPr>
      </p:cxnSp>
      <p:cxnSp>
        <p:nvCxnSpPr>
          <p:cNvPr id="205" name="Прямая со стрелкой 9"/>
          <p:cNvCxnSpPr/>
          <p:nvPr/>
        </p:nvCxnSpPr>
        <p:spPr>
          <a:xfrm flipH="1">
            <a:off x="2399040" y="1628640"/>
            <a:ext cx="868680" cy="720360"/>
          </a:xfrm>
          <a:prstGeom prst="straightConnector1">
            <a:avLst/>
          </a:prstGeom>
          <a:ln w="127000">
            <a:solidFill>
              <a:srgbClr val="8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>
        <p:push dir="u"/>
      </p:transition>
    </mc:Choice>
    <mc:Fallback>
      <p:transition spd="slow">
        <p:push dir="u"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7640" y="1196640"/>
            <a:ext cx="6660000" cy="93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 cap="all">
                <a:solidFill>
                  <a:schemeClr val="accent1"/>
                </a:solidFill>
                <a:latin typeface="Impact"/>
              </a:rPr>
              <a:t>Методы здоровьесберегающих технологий: 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207" name="Группа 4"/>
          <p:cNvGrpSpPr/>
          <p:nvPr/>
        </p:nvGrpSpPr>
        <p:grpSpPr>
          <a:xfrm>
            <a:off x="326520" y="2319480"/>
            <a:ext cx="3741120" cy="3238920"/>
            <a:chOff x="326520" y="2319480"/>
            <a:chExt cx="3741120" cy="3238920"/>
          </a:xfrm>
        </p:grpSpPr>
        <p:sp>
          <p:nvSpPr>
            <p:cNvPr id="208" name="Полилиния 5"/>
            <p:cNvSpPr/>
            <p:nvPr/>
          </p:nvSpPr>
          <p:spPr>
            <a:xfrm>
              <a:off x="326520" y="2319480"/>
              <a:ext cx="3741120" cy="622440"/>
            </a:xfrm>
            <a:custGeom>
              <a:avLst/>
              <a:gdLst>
                <a:gd name="textAreaLeft" fmla="*/ 0 w 3741120"/>
                <a:gd name="textAreaRight" fmla="*/ 3741480 w 37411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3162591" h="497648">
                  <a:moveTo>
                    <a:pt x="0" y="82943"/>
                  </a:moveTo>
                  <a:cubicBezTo>
                    <a:pt x="0" y="37135"/>
                    <a:pt x="37135" y="0"/>
                    <a:pt x="82943" y="0"/>
                  </a:cubicBezTo>
                  <a:lnTo>
                    <a:pt x="3079648" y="0"/>
                  </a:lnTo>
                  <a:cubicBezTo>
                    <a:pt x="3125456" y="0"/>
                    <a:pt x="3162591" y="37135"/>
                    <a:pt x="3162591" y="82943"/>
                  </a:cubicBezTo>
                  <a:lnTo>
                    <a:pt x="3162591" y="414705"/>
                  </a:lnTo>
                  <a:cubicBezTo>
                    <a:pt x="3162591" y="460513"/>
                    <a:pt x="3125456" y="497648"/>
                    <a:pt x="3079648" y="497648"/>
                  </a:cubicBezTo>
                  <a:lnTo>
                    <a:pt x="82943" y="497648"/>
                  </a:lnTo>
                  <a:cubicBezTo>
                    <a:pt x="37135" y="497648"/>
                    <a:pt x="0" y="460513"/>
                    <a:pt x="0" y="414705"/>
                  </a:cubicBezTo>
                  <a:lnTo>
                    <a:pt x="0" y="82943"/>
                  </a:lnTo>
                  <a:close/>
                </a:path>
              </a:pathLst>
            </a:custGeom>
            <a:solidFill>
              <a:srgbClr val="b80e0f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1360" rIns="81360" tIns="52920" bIns="52920" anchor="ctr">
              <a:noAutofit/>
            </a:bodyPr>
            <a:p>
              <a:pPr algn="ctr">
                <a:lnSpc>
                  <a:spcPct val="90000"/>
                </a:lnSpc>
                <a:spcAft>
                  <a:spcPts val="981"/>
                </a:spcAft>
              </a:pPr>
              <a:r>
                <a:rPr b="0" lang="ru-RU" sz="2800" spc="-1" strike="noStrike">
                  <a:solidFill>
                    <a:schemeClr val="lt1"/>
                  </a:solidFill>
                  <a:latin typeface="Impact"/>
                </a:rPr>
                <a:t>- фронтальны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Полилиния 6"/>
            <p:cNvSpPr/>
            <p:nvPr/>
          </p:nvSpPr>
          <p:spPr>
            <a:xfrm>
              <a:off x="326520" y="2973600"/>
              <a:ext cx="3741120" cy="622440"/>
            </a:xfrm>
            <a:custGeom>
              <a:avLst/>
              <a:gdLst>
                <a:gd name="textAreaLeft" fmla="*/ 0 w 3741120"/>
                <a:gd name="textAreaRight" fmla="*/ 3741480 w 37411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3162591" h="497648">
                  <a:moveTo>
                    <a:pt x="0" y="82943"/>
                  </a:moveTo>
                  <a:cubicBezTo>
                    <a:pt x="0" y="37135"/>
                    <a:pt x="37135" y="0"/>
                    <a:pt x="82943" y="0"/>
                  </a:cubicBezTo>
                  <a:lnTo>
                    <a:pt x="3079648" y="0"/>
                  </a:lnTo>
                  <a:cubicBezTo>
                    <a:pt x="3125456" y="0"/>
                    <a:pt x="3162591" y="37135"/>
                    <a:pt x="3162591" y="82943"/>
                  </a:cubicBezTo>
                  <a:lnTo>
                    <a:pt x="3162591" y="414705"/>
                  </a:lnTo>
                  <a:cubicBezTo>
                    <a:pt x="3162591" y="460513"/>
                    <a:pt x="3125456" y="497648"/>
                    <a:pt x="3079648" y="497648"/>
                  </a:cubicBezTo>
                  <a:lnTo>
                    <a:pt x="82943" y="497648"/>
                  </a:lnTo>
                  <a:cubicBezTo>
                    <a:pt x="37135" y="497648"/>
                    <a:pt x="0" y="460513"/>
                    <a:pt x="0" y="414705"/>
                  </a:cubicBezTo>
                  <a:lnTo>
                    <a:pt x="0" y="82943"/>
                  </a:lnTo>
                  <a:close/>
                </a:path>
              </a:pathLst>
            </a:custGeom>
            <a:solidFill>
              <a:srgbClr val="b80e0f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1360" rIns="81360" tIns="52920" bIns="52920" anchor="ctr">
              <a:noAutofit/>
            </a:bodyPr>
            <a:p>
              <a:pPr algn="ctr">
                <a:lnSpc>
                  <a:spcPct val="90000"/>
                </a:lnSpc>
                <a:spcAft>
                  <a:spcPts val="981"/>
                </a:spcAft>
              </a:pPr>
              <a:r>
                <a:rPr b="0" lang="ru-RU" sz="2800" spc="-1" strike="noStrike">
                  <a:solidFill>
                    <a:schemeClr val="lt1"/>
                  </a:solidFill>
                  <a:latin typeface="Impact"/>
                </a:rPr>
                <a:t>- групповой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Полилиния 7"/>
            <p:cNvSpPr/>
            <p:nvPr/>
          </p:nvSpPr>
          <p:spPr>
            <a:xfrm>
              <a:off x="326520" y="3627720"/>
              <a:ext cx="3741120" cy="622440"/>
            </a:xfrm>
            <a:custGeom>
              <a:avLst/>
              <a:gdLst>
                <a:gd name="textAreaLeft" fmla="*/ 0 w 3741120"/>
                <a:gd name="textAreaRight" fmla="*/ 3741480 w 37411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3162591" h="497648">
                  <a:moveTo>
                    <a:pt x="0" y="82943"/>
                  </a:moveTo>
                  <a:cubicBezTo>
                    <a:pt x="0" y="37135"/>
                    <a:pt x="37135" y="0"/>
                    <a:pt x="82943" y="0"/>
                  </a:cubicBezTo>
                  <a:lnTo>
                    <a:pt x="3079648" y="0"/>
                  </a:lnTo>
                  <a:cubicBezTo>
                    <a:pt x="3125456" y="0"/>
                    <a:pt x="3162591" y="37135"/>
                    <a:pt x="3162591" y="82943"/>
                  </a:cubicBezTo>
                  <a:lnTo>
                    <a:pt x="3162591" y="414705"/>
                  </a:lnTo>
                  <a:cubicBezTo>
                    <a:pt x="3162591" y="460513"/>
                    <a:pt x="3125456" y="497648"/>
                    <a:pt x="3079648" y="497648"/>
                  </a:cubicBezTo>
                  <a:lnTo>
                    <a:pt x="82943" y="497648"/>
                  </a:lnTo>
                  <a:cubicBezTo>
                    <a:pt x="37135" y="497648"/>
                    <a:pt x="0" y="460513"/>
                    <a:pt x="0" y="414705"/>
                  </a:cubicBezTo>
                  <a:lnTo>
                    <a:pt x="0" y="82943"/>
                  </a:lnTo>
                  <a:close/>
                </a:path>
              </a:pathLst>
            </a:custGeom>
            <a:solidFill>
              <a:srgbClr val="b80e0f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1360" rIns="81360" tIns="52920" bIns="52920" anchor="ctr">
              <a:noAutofit/>
            </a:bodyPr>
            <a:p>
              <a:pPr algn="ctr">
                <a:lnSpc>
                  <a:spcPct val="90000"/>
                </a:lnSpc>
                <a:spcAft>
                  <a:spcPts val="981"/>
                </a:spcAft>
              </a:pPr>
              <a:r>
                <a:rPr b="0" lang="ru-RU" sz="2800" spc="-1" strike="noStrike">
                  <a:solidFill>
                    <a:schemeClr val="lt1"/>
                  </a:solidFill>
                  <a:latin typeface="Impact"/>
                </a:rPr>
                <a:t>- практический мето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Полилиния 8"/>
            <p:cNvSpPr/>
            <p:nvPr/>
          </p:nvSpPr>
          <p:spPr>
            <a:xfrm>
              <a:off x="326520" y="4281840"/>
              <a:ext cx="3741120" cy="622440"/>
            </a:xfrm>
            <a:custGeom>
              <a:avLst/>
              <a:gdLst>
                <a:gd name="textAreaLeft" fmla="*/ 0 w 3741120"/>
                <a:gd name="textAreaRight" fmla="*/ 3741480 w 37411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3162591" h="497648">
                  <a:moveTo>
                    <a:pt x="0" y="82943"/>
                  </a:moveTo>
                  <a:cubicBezTo>
                    <a:pt x="0" y="37135"/>
                    <a:pt x="37135" y="0"/>
                    <a:pt x="82943" y="0"/>
                  </a:cubicBezTo>
                  <a:lnTo>
                    <a:pt x="3079648" y="0"/>
                  </a:lnTo>
                  <a:cubicBezTo>
                    <a:pt x="3125456" y="0"/>
                    <a:pt x="3162591" y="37135"/>
                    <a:pt x="3162591" y="82943"/>
                  </a:cubicBezTo>
                  <a:lnTo>
                    <a:pt x="3162591" y="414705"/>
                  </a:lnTo>
                  <a:cubicBezTo>
                    <a:pt x="3162591" y="460513"/>
                    <a:pt x="3125456" y="497648"/>
                    <a:pt x="3079648" y="497648"/>
                  </a:cubicBezTo>
                  <a:lnTo>
                    <a:pt x="82943" y="497648"/>
                  </a:lnTo>
                  <a:cubicBezTo>
                    <a:pt x="37135" y="497648"/>
                    <a:pt x="0" y="460513"/>
                    <a:pt x="0" y="414705"/>
                  </a:cubicBezTo>
                  <a:lnTo>
                    <a:pt x="0" y="82943"/>
                  </a:lnTo>
                  <a:close/>
                </a:path>
              </a:pathLst>
            </a:custGeom>
            <a:solidFill>
              <a:srgbClr val="b80e0f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1360" rIns="81360" tIns="52920" bIns="52920" anchor="ctr">
              <a:noAutofit/>
            </a:bodyPr>
            <a:p>
              <a:pPr algn="ctr">
                <a:lnSpc>
                  <a:spcPct val="90000"/>
                </a:lnSpc>
                <a:spcAft>
                  <a:spcPts val="981"/>
                </a:spcAft>
              </a:pPr>
              <a:r>
                <a:rPr b="0" lang="ru-RU" sz="2800" spc="-1" strike="noStrike">
                  <a:solidFill>
                    <a:schemeClr val="lt1"/>
                  </a:solidFill>
                  <a:latin typeface="Impact"/>
                </a:rPr>
                <a:t>- познавательная игр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Полилиния 9"/>
            <p:cNvSpPr/>
            <p:nvPr/>
          </p:nvSpPr>
          <p:spPr>
            <a:xfrm>
              <a:off x="326520" y="4935960"/>
              <a:ext cx="3741120" cy="622440"/>
            </a:xfrm>
            <a:custGeom>
              <a:avLst/>
              <a:gdLst>
                <a:gd name="textAreaLeft" fmla="*/ 0 w 3741120"/>
                <a:gd name="textAreaRight" fmla="*/ 3741480 w 37411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3162591" h="497648">
                  <a:moveTo>
                    <a:pt x="0" y="82943"/>
                  </a:moveTo>
                  <a:cubicBezTo>
                    <a:pt x="0" y="37135"/>
                    <a:pt x="37135" y="0"/>
                    <a:pt x="82943" y="0"/>
                  </a:cubicBezTo>
                  <a:lnTo>
                    <a:pt x="3079648" y="0"/>
                  </a:lnTo>
                  <a:cubicBezTo>
                    <a:pt x="3125456" y="0"/>
                    <a:pt x="3162591" y="37135"/>
                    <a:pt x="3162591" y="82943"/>
                  </a:cubicBezTo>
                  <a:lnTo>
                    <a:pt x="3162591" y="414705"/>
                  </a:lnTo>
                  <a:cubicBezTo>
                    <a:pt x="3162591" y="460513"/>
                    <a:pt x="3125456" y="497648"/>
                    <a:pt x="3079648" y="497648"/>
                  </a:cubicBezTo>
                  <a:lnTo>
                    <a:pt x="82943" y="497648"/>
                  </a:lnTo>
                  <a:cubicBezTo>
                    <a:pt x="37135" y="497648"/>
                    <a:pt x="0" y="460513"/>
                    <a:pt x="0" y="414705"/>
                  </a:cubicBezTo>
                  <a:lnTo>
                    <a:pt x="0" y="82943"/>
                  </a:lnTo>
                  <a:close/>
                </a:path>
              </a:pathLst>
            </a:custGeom>
            <a:solidFill>
              <a:srgbClr val="b80e0f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1360" rIns="81360" tIns="52920" bIns="52920" anchor="ctr">
              <a:noAutofit/>
            </a:bodyPr>
            <a:p>
              <a:pPr algn="ctr">
                <a:lnSpc>
                  <a:spcPct val="90000"/>
                </a:lnSpc>
                <a:spcAft>
                  <a:spcPts val="981"/>
                </a:spcAft>
              </a:pPr>
              <a:r>
                <a:rPr b="0" lang="ru-RU" sz="2800" spc="-1" strike="noStrike">
                  <a:solidFill>
                    <a:schemeClr val="lt1"/>
                  </a:solidFill>
                  <a:latin typeface="Impact"/>
                </a:rPr>
                <a:t>- ситуационный мето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Группа 14"/>
          <p:cNvGrpSpPr/>
          <p:nvPr/>
        </p:nvGrpSpPr>
        <p:grpSpPr>
          <a:xfrm>
            <a:off x="4212000" y="2133000"/>
            <a:ext cx="4067640" cy="3342960"/>
            <a:chOff x="4212000" y="2133000"/>
            <a:chExt cx="4067640" cy="3342960"/>
          </a:xfrm>
        </p:grpSpPr>
        <p:sp>
          <p:nvSpPr>
            <p:cNvPr id="214" name="Полилиния 20"/>
            <p:cNvSpPr/>
            <p:nvPr/>
          </p:nvSpPr>
          <p:spPr>
            <a:xfrm>
              <a:off x="4212000" y="2133000"/>
              <a:ext cx="4067640" cy="805320"/>
            </a:xfrm>
            <a:custGeom>
              <a:avLst/>
              <a:gdLst>
                <a:gd name="textAreaLeft" fmla="*/ 0 w 4067640"/>
                <a:gd name="textAreaRight" fmla="*/ 4068000 w 4067640"/>
                <a:gd name="textAreaTop" fmla="*/ 0 h 805320"/>
                <a:gd name="textAreaBottom" fmla="*/ 805680 h 805320"/>
              </a:gdLst>
              <a:ahLst/>
              <a:rect l="textAreaLeft" t="textAreaTop" r="textAreaRight" b="textAreaBottom"/>
              <a:pathLst>
                <a:path w="3162591" h="497648">
                  <a:moveTo>
                    <a:pt x="0" y="82943"/>
                  </a:moveTo>
                  <a:cubicBezTo>
                    <a:pt x="0" y="37135"/>
                    <a:pt x="37135" y="0"/>
                    <a:pt x="82943" y="0"/>
                  </a:cubicBezTo>
                  <a:lnTo>
                    <a:pt x="3079648" y="0"/>
                  </a:lnTo>
                  <a:cubicBezTo>
                    <a:pt x="3125456" y="0"/>
                    <a:pt x="3162591" y="37135"/>
                    <a:pt x="3162591" y="82943"/>
                  </a:cubicBezTo>
                  <a:lnTo>
                    <a:pt x="3162591" y="414705"/>
                  </a:lnTo>
                  <a:cubicBezTo>
                    <a:pt x="3162591" y="460513"/>
                    <a:pt x="3125456" y="497648"/>
                    <a:pt x="3079648" y="497648"/>
                  </a:cubicBezTo>
                  <a:lnTo>
                    <a:pt x="82943" y="497648"/>
                  </a:lnTo>
                  <a:cubicBezTo>
                    <a:pt x="37135" y="497648"/>
                    <a:pt x="0" y="460513"/>
                    <a:pt x="0" y="414705"/>
                  </a:cubicBezTo>
                  <a:lnTo>
                    <a:pt x="0" y="82943"/>
                  </a:lnTo>
                  <a:close/>
                </a:path>
              </a:pathLst>
            </a:custGeom>
            <a:solidFill>
              <a:srgbClr val="b80e0f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1360" rIns="81360" tIns="52920" bIns="52920" anchor="ctr">
              <a:noAutofit/>
            </a:bodyPr>
            <a:p>
              <a:pPr algn="ctr">
                <a:lnSpc>
                  <a:spcPct val="90000"/>
                </a:lnSpc>
                <a:spcAft>
                  <a:spcPts val="981"/>
                </a:spcAft>
              </a:pPr>
              <a:r>
                <a:rPr b="0" lang="ru-RU" sz="2800" spc="-1" strike="noStrike">
                  <a:solidFill>
                    <a:schemeClr val="lt1"/>
                  </a:solidFill>
                  <a:latin typeface="Impact"/>
                </a:rPr>
                <a:t>- игровой метод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Полилиния 21"/>
            <p:cNvSpPr/>
            <p:nvPr/>
          </p:nvSpPr>
          <p:spPr>
            <a:xfrm>
              <a:off x="4212000" y="2978640"/>
              <a:ext cx="4067640" cy="805320"/>
            </a:xfrm>
            <a:custGeom>
              <a:avLst/>
              <a:gdLst>
                <a:gd name="textAreaLeft" fmla="*/ 0 w 4067640"/>
                <a:gd name="textAreaRight" fmla="*/ 4068000 w 4067640"/>
                <a:gd name="textAreaTop" fmla="*/ 0 h 805320"/>
                <a:gd name="textAreaBottom" fmla="*/ 805680 h 805320"/>
              </a:gdLst>
              <a:ahLst/>
              <a:rect l="textAreaLeft" t="textAreaTop" r="textAreaRight" b="textAreaBottom"/>
              <a:pathLst>
                <a:path w="3162591" h="497648">
                  <a:moveTo>
                    <a:pt x="0" y="82943"/>
                  </a:moveTo>
                  <a:cubicBezTo>
                    <a:pt x="0" y="37135"/>
                    <a:pt x="37135" y="0"/>
                    <a:pt x="82943" y="0"/>
                  </a:cubicBezTo>
                  <a:lnTo>
                    <a:pt x="3079648" y="0"/>
                  </a:lnTo>
                  <a:cubicBezTo>
                    <a:pt x="3125456" y="0"/>
                    <a:pt x="3162591" y="37135"/>
                    <a:pt x="3162591" y="82943"/>
                  </a:cubicBezTo>
                  <a:lnTo>
                    <a:pt x="3162591" y="414705"/>
                  </a:lnTo>
                  <a:cubicBezTo>
                    <a:pt x="3162591" y="460513"/>
                    <a:pt x="3125456" y="497648"/>
                    <a:pt x="3079648" y="497648"/>
                  </a:cubicBezTo>
                  <a:lnTo>
                    <a:pt x="82943" y="497648"/>
                  </a:lnTo>
                  <a:cubicBezTo>
                    <a:pt x="37135" y="497648"/>
                    <a:pt x="0" y="460513"/>
                    <a:pt x="0" y="414705"/>
                  </a:cubicBezTo>
                  <a:lnTo>
                    <a:pt x="0" y="82943"/>
                  </a:lnTo>
                  <a:close/>
                </a:path>
              </a:pathLst>
            </a:custGeom>
            <a:solidFill>
              <a:srgbClr val="b80e0f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1360" rIns="81360" tIns="52920" bIns="52920" anchor="ctr">
              <a:noAutofit/>
            </a:bodyPr>
            <a:p>
              <a:pPr algn="ctr">
                <a:lnSpc>
                  <a:spcPct val="90000"/>
                </a:lnSpc>
                <a:spcAft>
                  <a:spcPts val="981"/>
                </a:spcAft>
              </a:pPr>
              <a:r>
                <a:rPr b="0" lang="ru-RU" sz="2800" spc="-1" strike="noStrike">
                  <a:solidFill>
                    <a:schemeClr val="lt1"/>
                  </a:solidFill>
                  <a:latin typeface="Impact"/>
                </a:rPr>
                <a:t>- соревновательный  мето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Полилиния 22"/>
            <p:cNvSpPr/>
            <p:nvPr/>
          </p:nvSpPr>
          <p:spPr>
            <a:xfrm>
              <a:off x="4212000" y="3824640"/>
              <a:ext cx="4067640" cy="805320"/>
            </a:xfrm>
            <a:custGeom>
              <a:avLst/>
              <a:gdLst>
                <a:gd name="textAreaLeft" fmla="*/ 0 w 4067640"/>
                <a:gd name="textAreaRight" fmla="*/ 4068000 w 4067640"/>
                <a:gd name="textAreaTop" fmla="*/ 0 h 805320"/>
                <a:gd name="textAreaBottom" fmla="*/ 805680 h 805320"/>
              </a:gdLst>
              <a:ahLst/>
              <a:rect l="textAreaLeft" t="textAreaTop" r="textAreaRight" b="textAreaBottom"/>
              <a:pathLst>
                <a:path w="3162591" h="497648">
                  <a:moveTo>
                    <a:pt x="0" y="82943"/>
                  </a:moveTo>
                  <a:cubicBezTo>
                    <a:pt x="0" y="37135"/>
                    <a:pt x="37135" y="0"/>
                    <a:pt x="82943" y="0"/>
                  </a:cubicBezTo>
                  <a:lnTo>
                    <a:pt x="3079648" y="0"/>
                  </a:lnTo>
                  <a:cubicBezTo>
                    <a:pt x="3125456" y="0"/>
                    <a:pt x="3162591" y="37135"/>
                    <a:pt x="3162591" y="82943"/>
                  </a:cubicBezTo>
                  <a:lnTo>
                    <a:pt x="3162591" y="414705"/>
                  </a:lnTo>
                  <a:cubicBezTo>
                    <a:pt x="3162591" y="460513"/>
                    <a:pt x="3125456" y="497648"/>
                    <a:pt x="3079648" y="497648"/>
                  </a:cubicBezTo>
                  <a:lnTo>
                    <a:pt x="82943" y="497648"/>
                  </a:lnTo>
                  <a:cubicBezTo>
                    <a:pt x="37135" y="497648"/>
                    <a:pt x="0" y="460513"/>
                    <a:pt x="0" y="414705"/>
                  </a:cubicBezTo>
                  <a:lnTo>
                    <a:pt x="0" y="82943"/>
                  </a:lnTo>
                  <a:close/>
                </a:path>
              </a:pathLst>
            </a:custGeom>
            <a:solidFill>
              <a:srgbClr val="b80e0f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1360" rIns="81360" tIns="52920" bIns="52920" anchor="ctr">
              <a:noAutofit/>
            </a:bodyPr>
            <a:p>
              <a:pPr algn="ctr">
                <a:lnSpc>
                  <a:spcPct val="90000"/>
                </a:lnSpc>
                <a:spcAft>
                  <a:spcPts val="981"/>
                </a:spcAft>
              </a:pPr>
              <a:r>
                <a:rPr b="0" lang="ru-RU" sz="2800" spc="-1" strike="noStrike">
                  <a:solidFill>
                    <a:schemeClr val="lt1"/>
                  </a:solidFill>
                  <a:latin typeface="Impact"/>
                </a:rPr>
                <a:t>- активные  методы обучения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Полилиния 23"/>
            <p:cNvSpPr/>
            <p:nvPr/>
          </p:nvSpPr>
          <p:spPr>
            <a:xfrm>
              <a:off x="4212000" y="4670640"/>
              <a:ext cx="4067640" cy="805320"/>
            </a:xfrm>
            <a:custGeom>
              <a:avLst/>
              <a:gdLst>
                <a:gd name="textAreaLeft" fmla="*/ 0 w 4067640"/>
                <a:gd name="textAreaRight" fmla="*/ 4068000 w 4067640"/>
                <a:gd name="textAreaTop" fmla="*/ 0 h 805320"/>
                <a:gd name="textAreaBottom" fmla="*/ 805680 h 805320"/>
              </a:gdLst>
              <a:ahLst/>
              <a:rect l="textAreaLeft" t="textAreaTop" r="textAreaRight" b="textAreaBottom"/>
              <a:pathLst>
                <a:path w="3162591" h="497648">
                  <a:moveTo>
                    <a:pt x="0" y="82943"/>
                  </a:moveTo>
                  <a:cubicBezTo>
                    <a:pt x="0" y="37135"/>
                    <a:pt x="37135" y="0"/>
                    <a:pt x="82943" y="0"/>
                  </a:cubicBezTo>
                  <a:lnTo>
                    <a:pt x="3079648" y="0"/>
                  </a:lnTo>
                  <a:cubicBezTo>
                    <a:pt x="3125456" y="0"/>
                    <a:pt x="3162591" y="37135"/>
                    <a:pt x="3162591" y="82943"/>
                  </a:cubicBezTo>
                  <a:lnTo>
                    <a:pt x="3162591" y="414705"/>
                  </a:lnTo>
                  <a:cubicBezTo>
                    <a:pt x="3162591" y="460513"/>
                    <a:pt x="3125456" y="497648"/>
                    <a:pt x="3079648" y="497648"/>
                  </a:cubicBezTo>
                  <a:lnTo>
                    <a:pt x="82943" y="497648"/>
                  </a:lnTo>
                  <a:cubicBezTo>
                    <a:pt x="37135" y="497648"/>
                    <a:pt x="0" y="460513"/>
                    <a:pt x="0" y="414705"/>
                  </a:cubicBezTo>
                  <a:lnTo>
                    <a:pt x="0" y="82943"/>
                  </a:lnTo>
                  <a:close/>
                </a:path>
              </a:pathLst>
            </a:custGeom>
            <a:solidFill>
              <a:srgbClr val="b80e0f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1360" rIns="81360" tIns="52920" bIns="52920" anchor="ctr">
              <a:noAutofit/>
            </a:bodyPr>
            <a:p>
              <a:pPr algn="ctr">
                <a:lnSpc>
                  <a:spcPct val="90000"/>
                </a:lnSpc>
                <a:spcAft>
                  <a:spcPts val="981"/>
                </a:spcAft>
              </a:pPr>
              <a:r>
                <a:rPr b="0" lang="ru-RU" sz="2800" spc="-1" strike="noStrike">
                  <a:solidFill>
                    <a:schemeClr val="lt1"/>
                  </a:solidFill>
                  <a:latin typeface="Impact"/>
                </a:rPr>
                <a:t>- метод индивид. задани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>
        <p:push dir="u"/>
      </p:transition>
    </mc:Choice>
    <mc:Fallback>
      <p:transition spd="slow">
        <p:push dir="u"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7240" cy="11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 cap="all">
                <a:solidFill>
                  <a:schemeClr val="accent1"/>
                </a:solidFill>
                <a:latin typeface="Impact"/>
              </a:rPr>
              <a:t>Приемы здоровьесберегающих образовательных технологий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873333653"/>
              </p:ext>
            </p:extLst>
          </p:nvPr>
        </p:nvGraphicFramePr>
        <p:xfrm>
          <a:off x="-1189080" y="2033640"/>
          <a:ext cx="7795800" cy="33109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graphicFrame>
        <p:nvGraphicFramePr>
          <p:cNvPr id="4" name="Diagram4"/>
          <p:cNvGraphicFramePr/>
          <p:nvPr>
            <p:extLst>
              <p:ext uri="{D42A27DB-BD31-4B8C-83A1-F6EECF244321}">
                <p14:modId xmlns:p14="http://schemas.microsoft.com/office/powerpoint/2010/main" val="731855688"/>
              </p:ext>
            </p:extLst>
          </p:nvPr>
        </p:nvGraphicFramePr>
        <p:xfrm>
          <a:off x="2771640" y="2033640"/>
          <a:ext cx="7795800" cy="33109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6" r:lo="rId7" r:qs="rId8" r:cs="rId9"/>
          </a:graphicData>
        </a:graphic>
      </p:graphicFrame>
    </p:spTree>
  </p:cSld>
  <mc:AlternateContent>
    <mc:Choice Requires="p14">
      <p:transition spd="slow" p14:dur="2000">
        <p:push dir="u"/>
      </p:transition>
    </mc:Choice>
    <mc:Fallback>
      <p:transition spd="slow">
        <p:push dir="u"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Рисунок 3" descr=""/>
          <p:cNvPicPr/>
          <p:nvPr/>
        </p:nvPicPr>
        <p:blipFill>
          <a:blip r:embed="rId1"/>
          <a:stretch/>
        </p:blipFill>
        <p:spPr>
          <a:xfrm>
            <a:off x="-32040" y="332640"/>
            <a:ext cx="8780040" cy="49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push dir="u"/>
      </p:transition>
    </mc:Choice>
    <mc:Fallback>
      <p:transition spd="slow">
        <p:push dir="u"/>
      </p:transition>
    </mc:Fallback>
  </mc:AlternateContent>
</p:sld>
</file>

<file path=ppt/theme/theme1.xml><?xml version="1.0" encoding="utf-8"?>
<a:theme xmlns:a="http://schemas.openxmlformats.org/drawingml/2006/main" name="Главное мероприятие">
  <a:themeElements>
    <a:clrScheme name="Главное мероприятие">
      <a:dk1>
        <a:srgbClr val="000000"/>
      </a:dk1>
      <a:lt1>
        <a:srgbClr val="ffffff"/>
      </a:lt1>
      <a:dk2>
        <a:srgbClr val="424242"/>
      </a:dk2>
      <a:lt2>
        <a:srgbClr val="c8c8c8"/>
      </a:lt2>
      <a:accent1>
        <a:srgbClr val="b80e0f"/>
      </a:accent1>
      <a:accent2>
        <a:srgbClr val="a6987d"/>
      </a:accent2>
      <a:accent3>
        <a:srgbClr val="7f9a71"/>
      </a:accent3>
      <a:accent4>
        <a:srgbClr val="64969f"/>
      </a:accent4>
      <a:accent5>
        <a:srgbClr val="9b75b2"/>
      </a:accent5>
      <a:accent6>
        <a:srgbClr val="80737a"/>
      </a:accent6>
      <a:hlink>
        <a:srgbClr val="f21213"/>
      </a:hlink>
      <a:folHlink>
        <a:srgbClr val="b6a39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Главное мероприятие">
  <a:themeElements>
    <a:clrScheme name="Главное мероприятие">
      <a:dk1>
        <a:srgbClr val="000000"/>
      </a:dk1>
      <a:lt1>
        <a:srgbClr val="ffffff"/>
      </a:lt1>
      <a:dk2>
        <a:srgbClr val="424242"/>
      </a:dk2>
      <a:lt2>
        <a:srgbClr val="c8c8c8"/>
      </a:lt2>
      <a:accent1>
        <a:srgbClr val="b80e0f"/>
      </a:accent1>
      <a:accent2>
        <a:srgbClr val="a6987d"/>
      </a:accent2>
      <a:accent3>
        <a:srgbClr val="7f9a71"/>
      </a:accent3>
      <a:accent4>
        <a:srgbClr val="64969f"/>
      </a:accent4>
      <a:accent5>
        <a:srgbClr val="9b75b2"/>
      </a:accent5>
      <a:accent6>
        <a:srgbClr val="80737a"/>
      </a:accent6>
      <a:hlink>
        <a:srgbClr val="f21213"/>
      </a:hlink>
      <a:folHlink>
        <a:srgbClr val="b6a39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Главное мероприятие">
  <a:themeElements>
    <a:clrScheme name="Главное мероприятие">
      <a:dk1>
        <a:srgbClr val="000000"/>
      </a:dk1>
      <a:lt1>
        <a:srgbClr val="ffffff"/>
      </a:lt1>
      <a:dk2>
        <a:srgbClr val="424242"/>
      </a:dk2>
      <a:lt2>
        <a:srgbClr val="c8c8c8"/>
      </a:lt2>
      <a:accent1>
        <a:srgbClr val="b80e0f"/>
      </a:accent1>
      <a:accent2>
        <a:srgbClr val="a6987d"/>
      </a:accent2>
      <a:accent3>
        <a:srgbClr val="7f9a71"/>
      </a:accent3>
      <a:accent4>
        <a:srgbClr val="64969f"/>
      </a:accent4>
      <a:accent5>
        <a:srgbClr val="9b75b2"/>
      </a:accent5>
      <a:accent6>
        <a:srgbClr val="80737a"/>
      </a:accent6>
      <a:hlink>
        <a:srgbClr val="f21213"/>
      </a:hlink>
      <a:folHlink>
        <a:srgbClr val="b6a39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Главное мероприятие">
  <a:themeElements>
    <a:clrScheme name="Главное мероприятие">
      <a:dk1>
        <a:srgbClr val="000000"/>
      </a:dk1>
      <a:lt1>
        <a:srgbClr val="ffffff"/>
      </a:lt1>
      <a:dk2>
        <a:srgbClr val="424242"/>
      </a:dk2>
      <a:lt2>
        <a:srgbClr val="c8c8c8"/>
      </a:lt2>
      <a:accent1>
        <a:srgbClr val="b80e0f"/>
      </a:accent1>
      <a:accent2>
        <a:srgbClr val="a6987d"/>
      </a:accent2>
      <a:accent3>
        <a:srgbClr val="7f9a71"/>
      </a:accent3>
      <a:accent4>
        <a:srgbClr val="64969f"/>
      </a:accent4>
      <a:accent5>
        <a:srgbClr val="9b75b2"/>
      </a:accent5>
      <a:accent6>
        <a:srgbClr val="80737a"/>
      </a:accent6>
      <a:hlink>
        <a:srgbClr val="f21213"/>
      </a:hlink>
      <a:folHlink>
        <a:srgbClr val="b6a39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M04033927[[fn=Главное мероприятие]]</Template>
  <TotalTime>317</TotalTime>
  <Application>LibreOffice/7.4.7.2$Linux_X86_64 LibreOffice_project/40$Build-2</Application>
  <AppVersion>15.0000</AppVersion>
  <Words>214</Words>
  <Paragraphs>3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ьга</cp:lastModifiedBy>
  <dcterms:modified xsi:type="dcterms:W3CDTF">2019-10-27T17:05:06Z</dcterms:modified>
  <cp:revision>38</cp:revision>
  <dc:subject/>
  <dc:title>Методы и приёмы здоровьесберегающих технологи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0</vt:r8>
  </property>
</Properties>
</file>