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A8F9-8E34-458F-88F9-43560ABF07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A41-4534-454F-90EC-E9A30E09E3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6BD-0E20-4734-98E7-28621088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E9B-8665-4090-B482-E843D644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EC9-04D8-4309-A53A-72D4DD23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4E1-1B46-4972-8250-050F0F86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D329-0F0A-4D61-A4DB-63D4CBAA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F5B3-ED27-47BF-9633-E831B36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E8B2-B5EB-444D-AAEC-65B9CEF4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1BAF-22C3-4EFA-BBD5-128BA319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8BC6-6FBC-4D82-B6C7-00D4A5A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B9A6-1032-4C2F-9AFA-AF1F38EE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74FC-2778-4B2C-A1FA-69AD63F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0F7-39ED-4DBA-BEEB-EA87C525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C280-745D-4E79-88A9-690F95AE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B684-4A76-47CE-A75A-EF85D0D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59B9-9227-4843-8149-1C71FEE6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5FE1-A26C-4D24-9D60-E28EC845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AB2F-10A2-4D41-A6B9-7AAD0FC3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F783F-B9D5-40D0-A9AE-4405DB11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49243-B8A0-4D72-9276-78B70718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4F44F-9A3F-4DD8-8156-EED01942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E5B8B-FFAF-4BA7-9FC6-B33C2F30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F8572-8E2A-48FD-82C2-BCC26B3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254-DECD-4D75-A9C0-6ED7412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5BEFC-AA33-4B6A-94C7-4194261E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B1BD6-FDAD-43D8-B34E-CDC2CC1A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03D28-0787-4755-A4C0-948FC7BE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9B4A7-41EA-41BB-A1C4-E09AA898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6FD4C-5D38-4631-9BA0-0F253DAF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2861E-58D0-47E1-8D78-8A71CB86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C1F48-0C95-48FA-86DA-B87E0AB2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076A-638F-4076-A3CA-6F0B7709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6F04-FCE2-4BDD-8670-E20A7E48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780B-43B6-4C43-A64F-C4028DC9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BFE-0D7F-4432-88E2-24A0DD31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34C9-1768-4244-A33C-2B4FDB7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F986-E8AC-4DC5-9A68-016DA7B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E80F-F271-49FF-8BF7-ADA9CFBA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8B59-A0E6-413C-833E-750051B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F844-B0E0-46CE-AC2D-C884332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E7F9F-E127-400A-BFDE-0A9E406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CF6B-0FD1-4768-9B7F-D9751633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27D2-BA76-44CB-8EFF-7D778E88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42AB-1745-4477-BBFA-FA21DEB1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40A-72AD-4F05-9CC7-80B5B57C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F58-43C1-464A-B0A4-C2FB2479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004-02E6-4B3F-8181-7D96ABF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273-F1B4-48B1-A0EE-2453A99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75A-7D54-49F7-B72D-6D714C0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B7E1-565F-4E29-897B-015B6A30804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2ED3-D03D-4795-AF20-33A955C9D51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AEB5-2CF8-4050-B3C5-E8598B92D9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D834-FA4F-49D7-B87A-0C8240D653D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786880" cy="592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вящается мужеству  и  стойкости  воинов  ВОВ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оему  прадеду, погибшему в плену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еница 8 «Б» класс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брова  Ксения 14 лет</a:t>
            </a:r>
            <a:br>
              <a:rPr sz="2000"/>
            </a:br>
            <a:endParaRPr b="0" lang="en-US" sz="2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16430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Калягина Татья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785840" y="1571400"/>
            <a:ext cx="4357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ворохе зерна засыпали мертвым сном красноармейки, вручную по 10 — 12 часов к ряду загружая зерно и картошку на фронт, пилили лес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допоздна собирали в поле колоски для колхоза, а для себя — рвали головки из клевера, чтобы детям настряпать лепешки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Рисунок 4" descr="Фотографии военных лет. Неизвестные герои Національний університет цивільного захисту України (НУЦЗУ, УЦЗУ, АЦЗУ, АПБУ, ХІПБ, ХП"/>
          <p:cNvPicPr/>
          <p:nvPr/>
        </p:nvPicPr>
        <p:blipFill>
          <a:blip r:embed="rId1"/>
          <a:stretch/>
        </p:blipFill>
        <p:spPr>
          <a:xfrm>
            <a:off x="0" y="500040"/>
            <a:ext cx="4857840" cy="32860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Дети в тылу : вместо отцов. - Мурка-Мурочка- я.ру"/>
          <p:cNvPicPr/>
          <p:nvPr/>
        </p:nvPicPr>
        <p:blipFill>
          <a:blip r:embed="rId2"/>
          <a:stretch/>
        </p:blipFill>
        <p:spPr>
          <a:xfrm>
            <a:off x="0" y="3714840"/>
            <a:ext cx="4857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929120" y="857160"/>
            <a:ext cx="42148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ска 28 армии приняли участие в Смоленском сражении (10 июля - 10 сентября 1941 г.), в ходе которого ее соединения нанесли контрудар из района Рославля в направлении Починок, Смоленск. Успех, достигнутый в начале контрудара, заставил противника сосредоточить против армии крупные силы, которые нанесли по ней фланговые удар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Рисунок 2" descr="Смоленское сражение 10/07-10/09 1941 года"/>
          <p:cNvPicPr/>
          <p:nvPr/>
        </p:nvPicPr>
        <p:blipFill>
          <a:blip r:embed="rId1"/>
          <a:stretch/>
        </p:blipFill>
        <p:spPr>
          <a:xfrm>
            <a:off x="214200" y="428760"/>
            <a:ext cx="49244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500800" y="857160"/>
            <a:ext cx="36432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августа 1941 г. армия вела тяжелые оборонительные бои в окружении.  28-я армия продвинулась далеко вперед, на 80 километров. При этом ее левый фланг ничем не обеспечивался. В ловушку Гудериана попали пять советских дивизий. Немцы захватили 38000 пленных, 100 танков, 250 орудий. Командующий фронтом генерал В.Я. Качалов погиб в бою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Рисунок 2" descr="Сегодня тому назад. Началось Смоленское сражение и Ленинград…"/>
          <p:cNvPicPr/>
          <p:nvPr/>
        </p:nvPicPr>
        <p:blipFill>
          <a:blip r:embed="rId1"/>
          <a:stretch/>
        </p:blipFill>
        <p:spPr>
          <a:xfrm>
            <a:off x="285840" y="571680"/>
            <a:ext cx="55004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500880" y="1571400"/>
            <a:ext cx="26431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с советскими военнопленными во время Великой Отечественной Войны, было ужасным. Третий рейх относился к русским пленным, как к скот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6500880" y="71424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дед попал в пл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Рисунок 4" descr="В данной книге представлена реализация длинной целочисленной - 8 Декабря 2013 - Blog - Warezznik"/>
          <p:cNvPicPr/>
          <p:nvPr/>
        </p:nvPicPr>
        <p:blipFill>
          <a:blip r:embed="rId1"/>
          <a:stretch/>
        </p:blipFill>
        <p:spPr>
          <a:xfrm>
            <a:off x="214200" y="3714840"/>
            <a:ext cx="6500880" cy="30002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Просматривает изображение Колонна советских военнопленных под Сталинградом..jpg - &quot;ЗАБЫТЫЙ ПОЛК&quot;"/>
          <p:cNvPicPr/>
          <p:nvPr/>
        </p:nvPicPr>
        <p:blipFill>
          <a:blip r:embed="rId2"/>
          <a:stretch/>
        </p:blipFill>
        <p:spPr>
          <a:xfrm>
            <a:off x="142920" y="714240"/>
            <a:ext cx="6286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0" y="857160"/>
            <a:ext cx="4572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нных зачастую не кормили и не давали воды. Смертность в лагере составляла до 300 человек в день. В списках погибших от ран на территории лагеря числится 5500 человек. На территории лагеря 40 (по другим данным — 45) рвов размером 4х100 метров, по площади равным примерно четырём футбольным полям, в которых захоронено, по разным данным, от 70 до 80 тысяч челове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Рисунок 2" descr="Пленные советские солдаты в лагере в начале войны - фото Военный альбом 1939, 1940, 1941-1945"/>
          <p:cNvPicPr/>
          <p:nvPr/>
        </p:nvPicPr>
        <p:blipFill>
          <a:blip r:embed="rId1"/>
          <a:stretch/>
        </p:blipFill>
        <p:spPr>
          <a:xfrm>
            <a:off x="142920" y="500040"/>
            <a:ext cx="4786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500800" y="857160"/>
            <a:ext cx="36432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ашистских застенках на Смоленской земле, в лагерях смерти погибло более 135 тысяч человек, о чем свидетельствует бесчисленное множество братских могил. В парке Реадовка находится сооруженный смолянами в память о погибших на смоленской земле Курган Бессмертия, открытый 25 сентября 1970 года. Перед Курганом горит Вечный Огонь.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Рисунок 4" descr="Изображение"/>
          <p:cNvPicPr/>
          <p:nvPr/>
        </p:nvPicPr>
        <p:blipFill>
          <a:blip r:embed="rId1"/>
          <a:stretch/>
        </p:blipFill>
        <p:spPr>
          <a:xfrm>
            <a:off x="142920" y="6429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28760" y="2571480"/>
            <a:ext cx="82864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утро уже громыхала война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алящее солнце задернуло дымом,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ь неслась по  земле,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щадила она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о-никого в нашем крае любим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о далеко это утро теперь,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льзя забывать нам за Родину павших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ельзя забывать ни тех бед и потерь,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героев войны нашу жизнь отстоявших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ая была на свете война,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вшая жизнь на «до» и на «после»,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сегда будет жить для потомков страна,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ьей земле наших пращуров кост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4" descr="Роман Носиков: Великое кино о великой войне, которое никто не снял Русский Обозреватель"/>
          <p:cNvPicPr/>
          <p:nvPr/>
        </p:nvPicPr>
        <p:blipFill>
          <a:blip r:embed="rId1"/>
          <a:stretch/>
        </p:blipFill>
        <p:spPr>
          <a:xfrm>
            <a:off x="2286000" y="500040"/>
            <a:ext cx="51436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928440"/>
            <a:ext cx="42861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этой страшной войне так много сказано и написано, но и много еще можно и нужно сказать. Сказать о наших земляках, дедах, прадедах и всех тех, кто ковал и приближал день Победы. И поклониться низко – им живым и тем, кого уже нет рядом с нами, за то, что они совершили своим подвиг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Рисунок 3" descr="СВТ в фотографиях (Галерея) * Популярное оружие"/>
          <p:cNvPicPr/>
          <p:nvPr/>
        </p:nvPicPr>
        <p:blipFill>
          <a:blip r:embed="rId1"/>
          <a:stretch/>
        </p:blipFill>
        <p:spPr>
          <a:xfrm>
            <a:off x="4286160" y="714240"/>
            <a:ext cx="4643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360" y="47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мы с родителями приходим к мемориалу Победы в нашем городе. Книга Памяти - здесь, как на ладони судьба ни одной сотни наших городчан.  За каждой из них своя история, своя жизнь, свой подви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ю и внимательно вчитываюсь в каждое имя и вот мой взгляд задерживается на дорогом и родном для нашей семьи имени - Левичев Михаил Иванович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6" descr="Международный реестр мемориалов, кладбищ, воинских захоронений, братских могил: Мемориал - Книга Памяти в городе Городец"/>
          <p:cNvPicPr/>
          <p:nvPr/>
        </p:nvPicPr>
        <p:blipFill>
          <a:blip r:embed="rId1"/>
          <a:stretch/>
        </p:blipFill>
        <p:spPr>
          <a:xfrm>
            <a:off x="4643280" y="642960"/>
            <a:ext cx="43815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500200" y="785880"/>
            <a:ext cx="6215040" cy="3857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142920" y="642960"/>
            <a:ext cx="228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одил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1911года, в       д. Налески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ой и дружной семье. После окончания среней школы работал кузнец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214200" y="47149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дной деревне встретил свою вторую половинку Прасковью Ивановну, сыграли большую деревенскую  свадьбу. И вскоре на свет появились две дочки: Анечка и Тамара. И вот уже у него семья, свой дом, любимая жена и дети, налаженный б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714240"/>
            <a:ext cx="404028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357440" y="4714560"/>
            <a:ext cx="4786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июня 1941 год. Утро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накинулись неист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ильным холодом гроз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ть такое слово « выстоять»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 выстоять нельз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Рисунок 3" descr="Государственные архивы РФ, хранящие фотодокументы о Великой Отечественной войне 1941-1945 гг. Сайт &quot;Победа. 1941-1945&quot;.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41432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0" y="492912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день прабабушка вспоминала всю свою жизнь. Громкие крики и плач доносились из каждой изб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0" y="240840"/>
            <a:ext cx="5929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бабушка со слезами на глазах собирала необходимые вещи мужа. Кричать и плакать не хватало сил, под сердцем у нее был малыш. Каждая последующая минута, проведенная с мужем, казалась ей бесценной. Ни минуты не сомневаясь, отправилась провожать его в город Горький (сейчас Нижний Новгород). На площади было многолюдно. Играли гармони, оркестр, но ничто не могло заглушить плач и стоны жен, стариков и детей. Муж просил беречь себя и детей и обязательно ждать, обещал вернуться живым, чего бы ему это не стоило. Он так и не узнает, что через несколько дней на свет появится его 3 дочка. Прабабушка назовет ее. Вера. Она была ее последняя надежда и вера в жизн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Рисунок 7" descr="http://www.pravmir.ru/wp-content/uploads/2011/06/10382-3-580x435.jpg"/>
          <p:cNvPicPr/>
          <p:nvPr/>
        </p:nvPicPr>
        <p:blipFill>
          <a:blip r:embed="rId1"/>
          <a:stretch/>
        </p:blipFill>
        <p:spPr>
          <a:xfrm>
            <a:off x="5929200" y="642960"/>
            <a:ext cx="3214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5572080" y="1089000"/>
            <a:ext cx="314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шелон с новобранцами двинулся на фронт. На запад страны. Прадед попал на службу в 28 армию Западного фронта – телефонистом. День и ночь, как в огненном котле, гудела и ухала земля. Атаки… атаки, короткий отдых и есть минута написать письмо своей сем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Рисунок 3" descr="Связисты, август 1941 г., фото 2"/>
          <p:cNvPicPr/>
          <p:nvPr/>
        </p:nvPicPr>
        <p:blipFill>
          <a:blip r:embed="rId1"/>
          <a:stretch/>
        </p:blipFill>
        <p:spPr>
          <a:xfrm>
            <a:off x="0" y="642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История Великой Отечественной войны 1941-1945"/>
          <p:cNvPicPr/>
          <p:nvPr/>
        </p:nvPicPr>
        <p:blipFill>
          <a:blip r:embed="rId2"/>
          <a:stretch/>
        </p:blipFill>
        <p:spPr>
          <a:xfrm>
            <a:off x="0" y="3357720"/>
            <a:ext cx="5572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714640" y="857160"/>
            <a:ext cx="3429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е мои!... Эти строки прабабушка десятки, сотни раз перечитывала  бессонными ночами… Она понимала, как тяжело им там на фронте. Но даже ни на секунду не жалела себя, как она жила с детьми на краю нищеты, все время хотелось е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Рисунок 2" descr="C:\Users\ПК\Desktop\Презентация дед\IMG_0003.jpg"/>
          <p:cNvPicPr/>
          <p:nvPr/>
        </p:nvPicPr>
        <p:blipFill>
          <a:blip r:embed="rId1"/>
          <a:stretch/>
        </p:blipFill>
        <p:spPr>
          <a:xfrm>
            <a:off x="0" y="3357720"/>
            <a:ext cx="6000840" cy="3500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C:\Users\ПК\Desktop\Презентация дед\IMG_0001.jpg"/>
          <p:cNvPicPr/>
          <p:nvPr/>
        </p:nvPicPr>
        <p:blipFill>
          <a:blip r:embed="rId2"/>
          <a:stretch/>
        </p:blipFill>
        <p:spPr>
          <a:xfrm>
            <a:off x="0" y="785880"/>
            <a:ext cx="5357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34:55Z</dcterms:created>
  <dc:creator>Пользователь</dc:creator>
  <dc:description/>
  <dc:language>en-US</dc:language>
  <cp:lastModifiedBy>Kabinet310</cp:lastModifiedBy>
  <dcterms:modified xsi:type="dcterms:W3CDTF">2015-04-13T06:18:21Z</dcterms:modified>
  <cp:revision>145</cp:revision>
  <dc:subject/>
  <dc:title>История  Одной фотографии</dc:title>
</cp:coreProperties>
</file>