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AE3-301F-4F27-85DB-D8F50831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DF7-28A7-401E-95A4-54DB38B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86D-272F-4CC2-AB1A-EC9383F9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AA6-D981-445B-9C9C-636712E2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34E3-7764-44BA-B222-236C2B46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DAD-74FD-4EC3-B715-F5571AE4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A69F-37F3-4D25-8243-78B63647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F46C-4AF0-4B21-9CE3-94798D0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5E55-1462-4583-82AD-A8C37B8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19FF-4833-4A80-ACFE-B2A3D33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8787-2C6F-4EE5-9F96-38B3F80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F19-022C-4E71-A746-1AC6707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C035-59B1-436E-A7A5-643386F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4632-711E-4FA0-A927-19AEE8B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CFED-8660-49A4-9F04-E98F6B98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72C-AF94-4845-8298-CD5DC802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A1B1-CC3D-4592-B396-6356B251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5BC-E6B3-4EA9-800E-911D7AA4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FB3-AE02-4756-A8F3-814D046F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D18-02E9-4ECD-ACB6-47BC82A7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E8C-8C49-4DA0-9FE0-812F78F3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21E-1E96-4C9C-9B84-F2D67FA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3A0-54AF-4B09-906A-8F992B2A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1F4-6EB2-41C5-9A3B-A23C4B9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D194-9260-4014-9854-2806B585A5C4}" type="slidenum"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3D0-2EA7-4977-A4EC-191F0687AA08}" type="slidenum"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96" name="Объект 11" descr="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2"/>
          <p:cNvSpPr/>
          <p:nvPr/>
        </p:nvSpPr>
        <p:spPr>
          <a:xfrm>
            <a:off x="395280" y="3524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«Золотым рукам нужна умная голова!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Математика в рабочих профессия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"/>
          <p:cNvSpPr/>
          <p:nvPr/>
        </p:nvSpPr>
        <p:spPr>
          <a:xfrm>
            <a:off x="971640" y="2274840"/>
            <a:ext cx="71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4 рабочих дня при 8-часовом рабочем дне парикмахер сдал выручку в сумме 123000 руб. при норме выручки 600р/ч. Определить выполнение нормы в процентах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содержание железа в организме человека массой 70 кг составляет 5 г. А сколько же этого вещества в моем организме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547640" y="1052640"/>
            <a:ext cx="57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рвой групп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0" y="-73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1332000" y="227484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127600" y="1197000"/>
            <a:ext cx="48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второй групп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04920" y="1825560"/>
            <a:ext cx="68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й магазин проводит акцию: «Любая футболка по цене 200 рублей. При покупке двух футболок — скидка на вторую 75%». Сколько рублей придётся заплатить за покупку двух футболо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проезда в электричке составляет 249 рублей. Школьникам предоставляется скидка 50%. Сколько рублей будет стоить проезд для 2 взрослых и 3 школьников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633320" y="920880"/>
            <a:ext cx="55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третьей групп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1049400" y="1630440"/>
            <a:ext cx="6769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еханик установил сначала 25% всех деталей машины при ремонте, потом 70% деталей. После этого осталось ещё установить 27 деталей. Сколько всего деталей нужно было установить автомеханику?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оительная фирма имела 360 000 руб. На покупку строй­материалов сначала истратили 40% всех денег, потом - 20% остатка. Сколько денег  теперь имеет фирм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-36360" y="-171360"/>
            <a:ext cx="9288360" cy="7029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503280" y="665280"/>
            <a:ext cx="820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Ответы задач первой групп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За 24 рабочих дня при 8-часовом рабочем дне парикмахер сдал        выручку в сумме 123000 руб. при норме выручки 600р/ч. Определить выполнение нормы в процента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вет: 6,77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Среднее содержание железа в организме человека массой 70 кг     составляет 5 г. А сколько же этого вещества в моем организм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вет:3,43 г желез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24000" y="549360"/>
            <a:ext cx="849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ы задач второй групп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й магазин проводит акцию: «Любая футболка по цене 200 рублей. При покупке двух футболок — скидка на вторую 75%». Сколько рублей придётся заплатить за покупку двух футболо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50 руб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проезда в электричке составляет 249 рублей. Школьникам предоставляется скидка 50%. Сколько рублей будет стоить проезд для 2 взрослых и 3 школьников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871,5 руб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4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5"/>
          <p:cNvSpPr/>
          <p:nvPr/>
        </p:nvSpPr>
        <p:spPr>
          <a:xfrm>
            <a:off x="611280" y="765000"/>
            <a:ext cx="7921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ы задач третьей групп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еханик установил сначала 25% всех деталей машины при ремонте, потом 70% деталей. После этого осталось ещё установить 27 деталей. Сколько всего деталей нужно было установить автомеханику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40 деталей нужно было установить автомехани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ая фирма имела 360 000 руб. На покупку стройматериалов сначала истратили 40% всех денег, потом - 20% остатка. Сколько денег  теперь имеет фирм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16000 ру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-46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"/>
          <p:cNvSpPr/>
          <p:nvPr/>
        </p:nvSpPr>
        <p:spPr>
          <a:xfrm>
            <a:off x="826920" y="83664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Математика нужна вам не только в школе,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но и в дальнейшей учебе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и в повседневной жизни!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533520" y="1012680"/>
            <a:ext cx="784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в школе есть одна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профессиях нужн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м, врачам и поварам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ам, певцам и продавцам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математика важна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ица всех наук она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4880" y="4481640"/>
            <a:ext cx="167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"/>
          <p:cNvSpPr/>
          <p:nvPr/>
        </p:nvSpPr>
        <p:spPr>
          <a:xfrm>
            <a:off x="1515960" y="260280"/>
            <a:ext cx="6121440" cy="252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ШИ ПРОФЕССИ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00" name="Прямая со стрелкой 5"/>
          <p:cNvCxnSpPr>
            <a:stCxn id="99" idx="3"/>
          </p:cNvCxnSpPr>
          <p:nvPr/>
        </p:nvCxnSpPr>
        <p:spPr>
          <a:xfrm flipH="1">
            <a:off x="1258560" y="2410920"/>
            <a:ext cx="1154880" cy="1018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 flipH="1">
            <a:off x="1258200" y="2600280"/>
            <a:ext cx="1816920" cy="212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2" name="Прямая со стрелкой 9"/>
          <p:cNvCxnSpPr/>
          <p:nvPr/>
        </p:nvCxnSpPr>
        <p:spPr>
          <a:xfrm flipH="1">
            <a:off x="2902680" y="2631960"/>
            <a:ext cx="616680" cy="1837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3" name="Прямая со стрелкой 12"/>
          <p:cNvCxnSpPr/>
          <p:nvPr/>
        </p:nvCxnSpPr>
        <p:spPr>
          <a:xfrm flipH="1">
            <a:off x="3998520" y="2778120"/>
            <a:ext cx="216720" cy="2488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4" name="Прямая со стрелкой 14"/>
          <p:cNvCxnSpPr/>
          <p:nvPr/>
        </p:nvCxnSpPr>
        <p:spPr>
          <a:xfrm>
            <a:off x="4946760" y="2714400"/>
            <a:ext cx="108720" cy="1673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>
            <a:off x="5733720" y="2673360"/>
            <a:ext cx="531000" cy="2294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6" name="Прямая со стрелкой 24"/>
          <p:cNvCxnSpPr/>
          <p:nvPr/>
        </p:nvCxnSpPr>
        <p:spPr>
          <a:xfrm>
            <a:off x="6453000" y="2560320"/>
            <a:ext cx="999000" cy="1827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7" name="Прямая со стрелкой 26"/>
          <p:cNvCxnSpPr/>
          <p:nvPr/>
        </p:nvCxnSpPr>
        <p:spPr>
          <a:xfrm>
            <a:off x="6842160" y="2322000"/>
            <a:ext cx="937440" cy="1018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08" name="Прямоугольник 3"/>
          <p:cNvSpPr/>
          <p:nvPr/>
        </p:nvSpPr>
        <p:spPr>
          <a:xfrm>
            <a:off x="103320" y="3506760"/>
            <a:ext cx="1733400" cy="51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механи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103320" y="4809960"/>
            <a:ext cx="1881000" cy="527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е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2166840" y="4540320"/>
            <a:ext cx="1519200" cy="536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с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3211560" y="5337000"/>
            <a:ext cx="170172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4214880" y="4468680"/>
            <a:ext cx="1612800" cy="470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5580000" y="5076720"/>
            <a:ext cx="1730520" cy="488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с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7093080" y="4468680"/>
            <a:ext cx="169056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икмах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Прямоугольник 19"/>
          <p:cNvSpPr/>
          <p:nvPr/>
        </p:nvSpPr>
        <p:spPr>
          <a:xfrm>
            <a:off x="7391520" y="3405240"/>
            <a:ext cx="17254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70720" y="941400"/>
            <a:ext cx="9280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Нужна математика в ваших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профессиях которые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выбрали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108000" y="1052640"/>
            <a:ext cx="892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математические задачи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ся  решать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рифметические действия с числами и дробям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ются задачи на процент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ются задачи на нахождение процента от числа   и числа по его проценту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числять расход топлив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числять площадь и объ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08000" y="620640"/>
          <a:ext cx="8785080" cy="6193080"/>
        </p:xfrm>
        <a:graphic>
          <a:graphicData uri="http://schemas.openxmlformats.org/drawingml/2006/table">
            <a:tbl>
              <a:tblPr/>
              <a:tblGrid>
                <a:gridCol w="539640"/>
                <a:gridCol w="3678120"/>
                <a:gridCol w="312840"/>
                <a:gridCol w="487440"/>
                <a:gridCol w="3767040"/>
              </a:tblGrid>
              <a:tr h="431640">
                <a:tc gridSpan="2">
                  <a:txBody>
                    <a:bodyPr lIns="49320" rIns="4932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Математические тер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4"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Математическ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Единицы измерения дл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пособ сложения, способ подстан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Формула площади треуголь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sinx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 cosx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tg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Что такое процент 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S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πR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2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(π=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се числа – это сколько процентов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пособы решения системы линейных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мм, 1см, 1дм, 1м, 1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Единицы измерения площ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/100 часть 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войства степени с целым показате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S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= 1/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Замените 25% дроб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Единицы измерения вре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м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 1с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1дм3, 1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 1к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д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3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= 1000 с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=1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сновы тригономе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ек, мин, час, сутки, неделя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Найдите 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%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т 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=a*a*a…(n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множителе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Формула площади кру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Единицы измерения объё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1 к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 = 1 000 000 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 1 га = 10 000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, 1 км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, serif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 = 100 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9320" marR="493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324000" y="-533520"/>
            <a:ext cx="835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изация опорных знан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1722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-2052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4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1197000" y="1916280"/>
            <a:ext cx="631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1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1038240" y="765000"/>
            <a:ext cx="73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вернитесь ко мне. Я проговариваю предложения. Если оно справедливо –поднимаете руку, если нет – то не поднимает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х = 7 имеет единственный корень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х = 0 не имеет корн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сли Д &gt; 0, то квадратное уравнение имеет два корня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Если Д &lt; 0, то квадратное уравнение имеет 1 корень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Количество корней не больше степени уравн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8360" y="1484280"/>
            <a:ext cx="820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 с практическим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м знаний в         профессия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1520" y="620640"/>
            <a:ext cx="4330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Задачи на проценты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000"/>
            <a:ext cx="40384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После повышения цены на 30% книга стала стоить 78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руб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. Сколько стоила книга до повышения це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0" y="2604600"/>
            <a:ext cx="40384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рачи рекомендуют дневную норму твоего питания распределить на 4 приё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Утренний завтрак -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торой завтрак –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Обед- 0,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Ужин – 0,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Назовите предлагае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норму в проц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16:03:58Z</dcterms:created>
  <dc:creator>Любовь</dc:creator>
  <dc:description/>
  <dc:language>en-US</dc:language>
  <cp:lastModifiedBy>песочное50</cp:lastModifiedBy>
  <dcterms:modified xsi:type="dcterms:W3CDTF">2019-12-30T06:22:44Z</dcterms:modified>
  <cp:revision>143</cp:revision>
  <dc:subject/>
  <dc:title>Презентация PowerPoint</dc:title>
</cp:coreProperties>
</file>