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89B1-33AA-4D7B-9CBC-E77CF5F5D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966D-01C8-4183-AE36-2EED7E316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363D-940E-4690-9251-FBEBAE392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9A93-B359-46B6-9748-A1D641AB0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2012-8B0E-4E81-93E7-C3837DF54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BEB5-06A4-4C46-9CC8-60E52009F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ECCC-3570-4220-9DF6-60D701061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1316-CBB9-42CE-AF53-A72AD9C94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29E9-D790-4ADC-955A-E94141A33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6486-8AA9-46A0-B174-BC03AC52C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7286-7DCC-4A8A-8A17-6EF585C60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BC2E-BA75-4997-8DEE-683DD9C5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C64D6-7D8E-4C2E-993A-3B39465B2F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Государственное Бюджетное Дошкольное Образовательное Учреждение детский сад № 39 с приоритетным осуществлением деятельности по физическому развитию детей Красносельского района Санкт-Петербург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ОЕК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"ЗДРАВСТВУЙ,ГОСТЬЯ ЗИМА!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 старшей групп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оект составила: Новикова Ольга Александровна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ЛАН НА ПЕРВУЮ  НЕДЕЛЮ: ТЕМА НЕДЕЛИ: «Зимушка-Зима»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с 9.12.13 по 13.12.1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Работа с детьми.                                                Работа с родителями.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38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ЯТНИЦ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. Разговор:  «Осторожно! Зимние травмы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. Изготовление цветных льдино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. Беседа  «Как заботиться о здоровье зимой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/и  «Найди такую же снежинку»,  «Угадай, на что похожи?» (узоры на окнах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4. Рисование на тему « Зима».  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5. П/и «Два Мороза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6. Чтение   В. Одоевский «Мороз Иванович», С. Иванов «Каким бывает снег», Е. Трутнева «Первый снег», К. Бальмонт «Снежинка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7. Игровые ситу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«Не идется и не едется, потому что гололедиц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8. Развлечение 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«Здравствуй, гостья Зима»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8320" y="914040"/>
            <a:ext cx="4038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ЯТНИЦ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Информация для родителей в 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«Уголке Здоровья»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 «Зимние травмы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«Свежий воздух малышам нужен и полезен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«Осторожно, вирусы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.«Профилактика простудных заболеваний в зимний период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.«Одеваться по погоде – как это важно!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.«Осторожно гололед!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ЛАН НА ВТОРУЮ  НЕДЕЛЮ. ТЕМА НЕДЕЛИ: «Зимние игры и  забавы»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 16.12.13 по 20.12.1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абота с детьми.                    Работа с родител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НЕДЕЛЬН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Беседа «Почему мне нравится зима?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Разучивание подвижной игры «Снежок», «Снежная карусель», «Мороз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Показ презентации «Русская зим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Опыт «Свойства снег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Дидактические игры «Собери картинку», «Сделай снежинку», «Найди ошибки» (чего не бывает зимой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.Чтение познавательной сказки К. Ушинского «Проказы матушки зимы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ТОРН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Тема дня: «Зимние забавы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Беседа  «Зачем зимой снег?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Конструирование из снега «Печатки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 Экспериментирование 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«Таянье и замерзание воды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 П/и  «Ловишки со снежком», «Поезд едет в туннель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ортивные игр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Веселые соревнования»,«Дорожка препятствий»,«Чья команда забросит в корзину больше снежков»,«По кругу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. Чтение рассказа  В.Чаплиной « Кто как зимует», заучивание стихотворений «Зима»,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Л.Квитко «Санки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. Д/и «Кому что нужно?», «Кто что делает зимой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ОНЕДЕЛЬН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Тема дня: «Зимушка-зим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Информация для родителей в 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«Уголке Здоровья»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«Утро начинается с зарядки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«Семь родительских заблуждений о морозной погоде».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ТОРН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Тема дня: «Зимние забавы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Беседа  «Каким бывает отдых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Консультация «Как организовать детские зимние игры и забавы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ЛАН НА ВТОРУЮ  НЕДЕЛЮ. ТЕМА НЕДЕЛИ: «Зимние игры и  забавы»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 16.12.13 по 20.12.1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абота с детьми.                    Работа с родител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Е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 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 Беседа «Прогулка для здоровь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узыкальная  игра « Что нам нравится  зимой?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Д/и  Кто без чего?, Охотник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м угостили птиц?,«Что это за птица?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Заучивание стихотвор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Наша ёлка» Е. Ильина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ение  сказки «Морозко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Опыт №2. Где лучики?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ТВЕР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Рассматривание иллюстраций о зимних видах спорта;беседа с детьми на тему «Если хочешь быть здоров!».Презентация «Зимние виды спорт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Рисование. «Волшебные лыжи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Чтение рассказа Н.Н.Носова « На горке»,   А.Прокофьев «Как на горке на горе»Л.Квитко «Санки» А.Введенский «На лыжах»,рассказа В.Осеевой «На катке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Д/и «Мой день», «Кому что нужно?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 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В гости к загадке»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 -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о разных зимних видах спор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6. 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Слушание детских песен о зиме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песня 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«Коньки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- сл. Денис Червяцов, муз. В.Богатырё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песня 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«Зимы я вовсе не боюсь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песня «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Кабы не было зимы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РЕ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Тема дня: Тема дня: «Идём на зимнюю прогулку»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Консультация для роди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«Играем с детьми в подвижные игры»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одготовка к встрече Нового года: повторение стихотворений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ЧЕТВЕР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Консультация для роди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«Физическое развитие ребенка в семье»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овершить семейную лыжную прогулку в выходной день(или поездка на каток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ЛАН НА ВТОРУЮ  НЕДЕЛЮ. ТЕМА НЕДЕЛИ: «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 16.12.13 по 20.12.1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абота с детьми.                    Работа с родител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ЯТНИЦ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. Разговор 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« Что ты увидел по дороге в детский сад из живой, неживой природы?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. Чтение сказки Г.П. Турчина « Снежинка», Заучивание стихотворения</a:t>
            </a:r>
            <a:r>
              <a:rPr b="0" i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«Наша ёлка» Е. Ильи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. Д/и  «Укрась елочку», «Подбери признак», «Когда это бывает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4. Опыт №3. Почему снег греет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ЯТНИЦ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Консультация для родите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«Лыжные прогулки для всей семьи»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Участие в выставке рисунков «Как нам весело зимой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ыставка совместного творчества детей и родителей «Мастерская Деда Мороза», «Новогоднее украшение Елочке на удивление»). 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емейные поделки: «Кормушки для птиц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зультаты 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"/>
          <p:cNvSpPr/>
          <p:nvPr/>
        </p:nvSpPr>
        <p:spPr>
          <a:xfrm>
            <a:off x="285840" y="1859400"/>
            <a:ext cx="84294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49280"/>
                <a:tab algn="l" pos="898560"/>
                <a:tab algn="l" pos="1349280"/>
                <a:tab algn="l" pos="1798560"/>
                <a:tab algn="l" pos="224784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вышение процента детей со средним и высоким уровнем познавательного развит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49280"/>
                <a:tab algn="l" pos="898560"/>
                <a:tab algn="l" pos="1349280"/>
                <a:tab algn="l" pos="1798560"/>
                <a:tab algn="l" pos="224784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•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ти имеют представление о зиме, ее признаках, приобрели новый познавательный            опыт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49280"/>
                <a:tab algn="l" pos="898560"/>
                <a:tab algn="l" pos="1349280"/>
                <a:tab algn="l" pos="1798560"/>
                <a:tab algn="l" pos="224784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•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накомы с произведениями поэтов, писателей и художников на тему зим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49280"/>
                <a:tab algn="l" pos="898560"/>
                <a:tab algn="l" pos="1349280"/>
                <a:tab algn="l" pos="1798560"/>
                <a:tab algn="l" pos="224784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•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ладеют расширенным словарным запасо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49280"/>
                <a:tab algn="l" pos="898560"/>
                <a:tab algn="l" pos="1349280"/>
                <a:tab algn="l" pos="1798560"/>
                <a:tab algn="l" pos="224784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Имеют представление о природе родного кра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49280"/>
                <a:tab algn="l" pos="898560"/>
                <a:tab algn="l" pos="1349280"/>
                <a:tab algn="l" pos="1798560"/>
                <a:tab algn="l" pos="224784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Знакомы с правилами с правилами безопасного поведения на природ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49280"/>
                <a:tab algn="l" pos="898560"/>
                <a:tab algn="l" pos="1349280"/>
                <a:tab algn="l" pos="1798560"/>
                <a:tab algn="l" pos="224784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ыставка творческих работ детей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49280"/>
                <a:tab algn="l" pos="898560"/>
                <a:tab algn="l" pos="1349280"/>
                <a:tab algn="l" pos="1798560"/>
                <a:tab algn="l" pos="224784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истематизирован литературный и иллюстративный материл по теме «Зима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49280"/>
                <a:tab algn="l" pos="898560"/>
                <a:tab algn="l" pos="1349280"/>
                <a:tab algn="l" pos="1798560"/>
                <a:tab algn="l" pos="224784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Разработаны рекомендации для родителе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49280"/>
                <a:tab algn="l" pos="898560"/>
                <a:tab algn="l" pos="1349280"/>
                <a:tab algn="l" pos="1798560"/>
                <a:tab algn="l" pos="224784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овышен процент родителей, проявляющих интерес к жизни детского са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Вид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ознавательно-исследовательский, творческо-информационны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социальны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Сроки реализаци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Краткосрочный:2 неде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Участники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Дети, воспитатели, помощник воспитателя старшей группы, родители воспитанников,  музыкальный руководител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роектная иде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Конкретизировать представление детей о зиме, как о времени го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Актуальность проекта 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Тема проекта способствует созданию необходимых условий в ДОУ по формированию у дошкольников целостного представления о зиме;  для общения ребенка с миром природы;  развитию у детей любознательности, творческих способностей, познавательной активности, коммуникативных навы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ЦЕЛЬ ПРОЕКТА: Дать знания о живой и неживой природе зимой. Воспитывать любовь к природе родного края, бережное отношение к н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80880" y="45684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Задачи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Расширять представления о зимних природных явлениях через познавательно-исследовательскую деятельн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Знакомить с явлениями неживой природы (морозы, сильные ветры, идет снег, метут метели, замерзли водоёмы),  свойствами снега  (белый, хрустящий, рассыпчатый, холодный, пушистый, липкий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Уточнять и расширять об образе жизни диких животных зимой (заяц, лиса, волк, медведь и белка). Расширять представления о разнообразии птиц (снегири, синицы, воробьи), способах добывания пищи, приспособлении к зимним условиям жизн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Создавать условия для выявления свойств и качеств снега и льда. Познакомить с процессом превращения воды в лёд, льда и снега в вод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Учить устанавливать связи между живой и неживой природой (погода – состояние воды, снега; время года – состояние растений), анализировать, делать выво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Развить любознательность, познавательные интересы, внимание, память, речь, наблюдательность, желание ухаживать за животными и растениями, экологическую воспитанность дошкольни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Формировать реалистические представления о природе, умение устанавливать связь между поведением птиц и животных и изменениями в природ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Вызывать положительнее эмоции, чувства восхищения природ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Воспитывать заботливое отношение ко всему живому, интерес к растительному и животному мир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Вызвать желание помочь нашим крылатым друзьям в зимнюю бескормиц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Научить детей правильно их подкармлива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овысить эффективность детско-родительских отнош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Развивать  коммуникативные навыки, память, внима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жидаемый результа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 окончанию проекта дети смогу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станавливать зависимость жизни растений и животных от изменений в природ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ознанно правильно относиться к растениям и животны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сширить знания о природе зимой, укрепить исследовательский интерес к природ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ормы реализации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нят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есе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блюд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·        Досуговая  деятельн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гровая деятельн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следовательская деятельн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дуктивная деятельность дет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ение художественной литерату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055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Этапы реализации проект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 этап – подготовительный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оздание необходимых условий для реализации проек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Разработка и накопление методических материал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оздание развивающей сред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одбор художественной литературы по тем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Разработка мероприят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одготовка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Дидактических игр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«Найди ошибки» (чего не бывает зимо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«Кто что делает зимой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«Найди по следу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«Найди такую же снежинку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«Разведчики» (заметить, что изменилось в природе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 “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Угадай, на что похожи?” (узоры на окнах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Бесед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«Почему мне нравится зима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«Как звери в лесу зимуют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«Как зимуют домашние животные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«Как человек помогает зимой животным в лесу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«Почему скрипит снег?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«Помоги птицам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«Зачем зимой снег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«Осторожно! Зимние травмы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«Как заботиться о здоровье зимой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«Откуда идёт снег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II этап – основной (практический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блюд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нят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заимодействие с родителям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рганизация выставки « Новогодние чудеса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делок для украшения групп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нкурс  зимних рисунков «В ледяной карете мчится Зимушка-зима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зготовление новогодних поздравительных отрыток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ЛАН НА ПЕРВУЮ  НЕДЕЛЮ: ТЕМА НЕДЕЛИ: «Зимушка-Зима»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с 9.12.13 по 13.12.1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Работа с детьми.                                                Работа с родителями.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38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НЕДЕЛЬН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Б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еседа  «Первые признаки зимы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Д/и «Ёлочки в зимнем лесу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 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Д / игра «Когда это бывает?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 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Работа в библиотеке «Здравствуй, книжка!»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гадывание загадок: о зиме и зимних явлениях природы, дереве, ёл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Рассматривание альбома «Зимний лес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. Чтение  С.Маршака   «Двенадцать месяцев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. Опыты: «Свойства снега», «Каким бывает снег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ТОРН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Знакомство детей с «Зимние явления в природе», «Снег и его свойств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Д/и «Какой, какая, какие» (снег, зима, снежинки и т.д.), «Подбирай, называй, запоминай», «Из чего -какой?» (горка из снега-снежная и т.д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Проведение опытов  «Почему снег мягкий?», «Почему снег греет?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Лепка снежинок, вырезывание снежин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 Чтение стихотворения А. Пушкина «Волшебница-зим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8320" y="914040"/>
            <a:ext cx="4038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ОНЕДЕЛЬН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Знакомство родителей с проектом «Здравствуй, гостья Зима»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 Пополнение уголка экспериментирования предметами, необходимыми для проведения опытов с водой, снегом, воздухом.(формочки, баночки, пищевой краситель, лупа, вертуше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ТОРН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Акция «Пополним библиотеку группы  новой книжкой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худ. литературой зимней темати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казки, рассказы, загадки)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Участие  в конкурсе  мастерская поделок  для Дедушки  Мороз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до 20.12.13 г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Конкурс «Новогодняя красавица» (Изготовление ёлочек из разных материалов, в разных техниках) до 20.12.13 г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Принять участие в  изготовлении, приобретении новогодних украшений для групп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ЛАН НА ПЕРВУЮ  НЕДЕЛЮ. ТЕМА НЕДЕЛИ: «Зимушка-Зима»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с 9.12.13 по 13.12.1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Работа с детьми.                                                Работа с родителями.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38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ЕДА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Разговор: «Как звери в лесу зимуют»,«Как человек помогает зимой животным в лесу».Презент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Чтение и рассматривание книг о зиме: В.Брюсов «Первый снег» Э.Успенский «Проказы старухи зимы» Зверев «Воробьиное бюро погоды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Д/и: «Когда это бывает?», «Доскажи словечко», «Снежные слова»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 Изготовление Новогодних игруше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Чтение сказки В.Бианки «Кто как зимует?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6. Рисование карандашами «Кто как зимует?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ТВЕР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«Письмо из зимнего лес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 экологическиая викторин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Оформление масок  животных и птиц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Беседа «Зимующие и перелетные птицы», « Зачем нужно зимой помогать  птицам».Презент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Рассматривание   альбомов, иллюстраций на тему: «Зимние мотивы»  (репродукции картин русских художников),«Сказки лес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 Д/и  «Где чей хвост», «Где чей след»,«Найди по следу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. Просмотр мультфильма «Зима в Простоквашино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. Обогащение материалами иг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Мастерская Деда Мороз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914040"/>
            <a:ext cx="4038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РЕДА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 .Консультация: «Внимание! Наступает зима! »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. Рекомендую: почитать детям рассказы, загадки, стихи о зиме.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.Выставка рисунков «В ледяной карете мчится Зимушка-зима». (Формат: альбомный лист. Материал: гуашь, пастельные краски, восковые мелки, цветные карандаши. Сюжет: зимний. Техника рисования: любая.  до 20.12.13 год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ЧЕТВЕР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Знакомство с папкой-передвижк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« Прогулки зимой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Знакомство с информаци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§  «Развиваем кругозор ребенк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§  «Как важно уметь общаться»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05T11:02:31Z</dcterms:created>
  <dc:creator>Кадыров</dc:creator>
  <dc:description/>
  <dc:language>en-US</dc:language>
  <cp:lastModifiedBy>Кадыров</cp:lastModifiedBy>
  <dcterms:modified xsi:type="dcterms:W3CDTF">2019-12-30T11:35:56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