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1.wmf" ContentType="image/x-wmf"/>
  <Override PartName="/ppt/media/image10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E80-8C69-41BE-96FC-C8EE29E5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D8D6-E871-4B58-A21B-30324B99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5B25-671B-49CF-9B61-8378B83F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D21-104F-47AD-AB36-889F4CBA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AA27-FC9A-4711-99E9-A89413CB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52EC-B6E7-474C-BD7F-CDB32CE7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6CFF-2AB7-4DF7-875C-1BA8AAF6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904C-2C36-4C82-8AB2-A3C826C3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AEF1-97F4-4497-AFE7-B31D98B5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4332-5DFC-4CE5-895B-12F9F598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1250-7C3B-4F91-8A7E-39C22249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672-511A-4AC8-9041-907C4A28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EEBC-45F2-4575-BAA1-B424B298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1655-2CE1-4855-8E47-BF161605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F889-5D78-42D7-A9D9-BDB55C18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98D0-A19E-4CBA-AA0F-4EC7009A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B57B-96E1-485C-A82B-DB436BF4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A3090-EB60-412E-A976-5AF53B33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2DCD6-412C-485E-A27A-51C5CFCC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B64F2-5FA7-4FCD-B18D-829E4836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7F517-3715-488D-8B70-B3A5113A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02628-9C4A-4896-8440-920663EB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E1F-4977-4838-BF51-00FCEE57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E861E-D978-4875-B356-51FE7976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AA470-2EC4-4AEB-BC44-C7A6395B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58688-A354-4410-A772-41651C3A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15321-D46F-4A8E-839D-CE188BDB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EF232-229A-4890-A07F-E038FAD2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44048-6631-46EB-B853-871241E1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376DA-3C29-412D-8FC1-EE25DB62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C469A-C69F-48B7-BAA0-70F36818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003DC-4BFC-489B-B248-90E37340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C5DA8-6277-43FC-9C99-E177B019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C10-795A-410A-9F12-C1825F5B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BEE37-F6F1-4F26-9AAC-FBA2F05B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24AA3-F28F-4D94-BF3D-3DB4EEB4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0194C-7059-4075-8E81-CA3023DB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F42A5-7C14-4C9E-A2F9-F49D18F2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7A5F8-EAE6-4602-B76D-46CD05B8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B1436-D4EA-4A79-BE24-08672B29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953EF-F053-47A6-85AD-CB11F0E8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61304-AE5B-4715-B880-034693F3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5C8F1-6262-4654-921E-5919EAF7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17249-1A15-4C43-AEF7-408620A2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39BD-50FF-4E07-A0D0-5286BCA3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7197A-42F3-4935-A927-C2DB8961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6572A-5E34-43EC-9876-DCF993C2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B1C5F-868A-4CCA-912C-F4302CB2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46809-17F5-478E-A0B9-B73A4C60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F7AB0-7C07-4CEC-9FBD-F4634674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10D76-6698-45CD-995E-1C7AA9DD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33FA6-FD5F-4266-B3A6-FDD20EB8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C91E7-5920-4D44-A6D0-CF293205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8FE75-BDDA-46B2-AE96-7C0AB022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C2047-788C-4424-BE5A-4F8255ED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AA1-3E28-4C85-B6CA-94B2C766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36548-A26D-4091-8261-F1900483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1F3BD-8719-4412-AB46-18277289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09AFA-6137-4136-9FB0-4015CE0E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7B759-8A84-42AA-A375-BC4CEA9A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71D33-8711-4366-859E-FB60E57E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4A124-FF28-43B7-8861-76D24D97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D7F62-D846-4D47-AC63-4AE78CA9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4B80A-EAF6-46CF-8A1F-96F6A54F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5BDBB-0A82-40E1-815E-897F10E0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2BADB-D687-4BBB-AD36-2BE98DE7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B740-9571-44FA-B887-FBA5F928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17DF6-ED2A-4385-82AF-2CC3F290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B047B-1DD0-47F9-94FF-B15BD6F2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5AAC2-A159-4B3D-A70E-70AF530B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F8B1F-0FB5-45D7-A359-08131677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1DC95-4AF0-427D-B8F3-DFDC19EE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354C5-871A-4C46-94C7-CDA320EB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0ABA4-9E8B-41BF-B0EF-8ACE6666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C7A6F-DAE8-4808-ABC5-F42B1A14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82495-F434-450C-A695-32958540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31049-6BF3-4771-99BA-50D7F7A2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BBBF-E777-45FA-91B9-366C4C1A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184AF-46C5-4FC0-8F2C-E712E2C2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4009B-E1F0-48D4-B97F-AA2B45BC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A7DA0-4341-4CC1-9F89-039328D8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AD516-B327-4DA7-850A-9E2B4E72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4EF7F-4A22-4CF7-A342-809FDEF9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98B-5133-46B3-A58A-DAED1294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AFDA-B5FC-48F9-B80D-6702B25B36F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E1C8-DE47-4892-BE17-F1A28FF570E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9931-F948-46AB-B0DA-A1C11D1DE00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0832-F1A0-484D-BDBF-B54835F17BA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6F4A-D17C-4BE3-A786-C81941D8C3C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B095-A91D-4359-A2C5-5760562AB4A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D7A8-67E1-4DDE-AD58-48FBE427036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«Сказка как средство нравственно- патриотического воспитания»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987640" y="4149720"/>
            <a:ext cx="6019920" cy="2255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ект составила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оспитател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АДОУ д/с «Жемчужинка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Хлыстунова В.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18г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Рисунок 4" descr="Картинка 2 из 87776"/>
          <p:cNvPicPr/>
          <p:nvPr/>
        </p:nvPicPr>
        <p:blipFill>
          <a:blip r:embed="rId1"/>
          <a:stretch/>
        </p:blipFill>
        <p:spPr>
          <a:xfrm>
            <a:off x="1476360" y="3284640"/>
            <a:ext cx="360036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2413080" y="765000"/>
            <a:ext cx="44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Участники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1835280" y="2133720"/>
            <a:ext cx="619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Рисунок 5" descr="Картинка 5 из 2870"/>
          <p:cNvPicPr/>
          <p:nvPr/>
        </p:nvPicPr>
        <p:blipFill>
          <a:blip r:embed="rId1"/>
          <a:stretch/>
        </p:blipFill>
        <p:spPr>
          <a:xfrm>
            <a:off x="1258920" y="1700280"/>
            <a:ext cx="7634160" cy="48243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5"/>
          <p:cNvSpPr/>
          <p:nvPr/>
        </p:nvSpPr>
        <p:spPr>
          <a:xfrm>
            <a:off x="3132000" y="903240"/>
            <a:ext cx="42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Этапы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2843280" y="2060640"/>
            <a:ext cx="4562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 Подготовительно-организационный эта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 Основной э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 Аналитический э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          </a:t>
            </a:r>
            <a:r>
              <a:rPr b="1" lang="ru-RU" sz="3600" spc="-1" strike="noStrike">
                <a:solidFill>
                  <a:srgbClr val="000099"/>
                </a:solidFill>
                <a:latin typeface="Corbel"/>
              </a:rPr>
              <a:t>Подготовительно-    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Corbel"/>
              </a:rPr>
              <a:t>        организационный этап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91440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Мероприяти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*Создавать творческую группу родителей, для работы в театральной групп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*Викторина по сказка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*Провести  мониторинг  уровней  сформированности  основ  нравственных качеств личности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* Проведение родительского собрания «В мире сказок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* Проект «Сказка как средство нравственно- патриотического воспитания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* Определение сказки для постановки по анкетированию родителе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* Проведение мониторинг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Уровни сформированности основ нравственных качеств личности в средней группе до опытно - экспериментальной работы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971640" y="2367000"/>
          <a:ext cx="8172360" cy="25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367000"/>
                    <a:ext cx="817236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99"/>
                </a:solidFill>
                <a:latin typeface="Corbel"/>
              </a:rPr>
              <a:t>          </a:t>
            </a:r>
            <a:r>
              <a:rPr b="1" lang="ru-RU" sz="4300" spc="-1" strike="noStrike">
                <a:solidFill>
                  <a:srgbClr val="000099"/>
                </a:solidFill>
                <a:latin typeface="Corbel"/>
              </a:rPr>
              <a:t>Основной  этап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бота  творческой группы родителей  по постановке сказок для дете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ероприяти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спределение роле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дбор музыкального репертуар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зготовление атрибутов и костюмов к постановке «Мастерская: «Умелые руки»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ведение занятия «Мир вокруг нас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аздник «Здравствуйте, герои сказок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епетиции родителей к постановке кукольного театра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99"/>
                </a:solidFill>
                <a:latin typeface="Corbel"/>
              </a:rPr>
              <a:t>Аналитический   этап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ниторинг уровни сформированости  основ нравственных качеств личности дет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*Постановка кукольного театр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99"/>
                </a:solidFill>
                <a:latin typeface="Corbel"/>
              </a:rPr>
              <a:t>       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2" name="Object 6"/>
          <p:cNvGraphicFramePr/>
          <p:nvPr/>
        </p:nvGraphicFramePr>
        <p:xfrm>
          <a:off x="1187280" y="2924280"/>
          <a:ext cx="7632720" cy="23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24280"/>
                    <a:ext cx="7632720" cy="23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Прямоугольник 4"/>
          <p:cNvSpPr/>
          <p:nvPr/>
        </p:nvSpPr>
        <p:spPr>
          <a:xfrm>
            <a:off x="1763640" y="40464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ровни сформированности основ нравственных качеств личности в средней группе после опытно - эксперимента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258920" y="1213920"/>
            <a:ext cx="739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7200" spc="-1" strike="noStrike">
                <a:solidFill>
                  <a:srgbClr val="000099"/>
                </a:solidFill>
                <a:latin typeface="Corbel"/>
              </a:rPr>
              <a:t>Приглашаем 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99"/>
                </a:solidFill>
                <a:latin typeface="Corbel"/>
              </a:rPr>
              <a:t> </a:t>
            </a:r>
            <a:r>
              <a:rPr b="0" lang="ru-RU" sz="7200" spc="-1" strike="noStrike">
                <a:solidFill>
                  <a:srgbClr val="000099"/>
                </a:solidFill>
                <a:latin typeface="Corbel"/>
              </a:rPr>
              <a:t>к  сотрудничеству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7772400" cy="6191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000000"/>
                </a:solidFill>
                <a:latin typeface="Corbel"/>
              </a:rPr>
              <a:t>Сказка учит добро понимать,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000000"/>
                </a:solidFill>
                <a:latin typeface="Corbel"/>
              </a:rPr>
              <a:t>О поступках людей рассуждать,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000000"/>
                </a:solidFill>
                <a:latin typeface="Corbel"/>
              </a:rPr>
              <a:t>Коль плохой, то его осудить,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000000"/>
                </a:solidFill>
                <a:latin typeface="Corbel"/>
              </a:rPr>
              <a:t>Ну а слабый – его защитить!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000000"/>
                </a:solidFill>
                <a:latin typeface="Corbel"/>
              </a:rPr>
              <a:t>Дети учатся думать, мечтать,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000000"/>
                </a:solidFill>
                <a:latin typeface="Corbel"/>
              </a:rPr>
              <a:t>На вопросы ответ получать.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000000"/>
                </a:solidFill>
                <a:latin typeface="Corbel"/>
              </a:rPr>
              <a:t>Каждый раз что-нибудь узнают,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000000"/>
                </a:solidFill>
                <a:latin typeface="Corbel"/>
              </a:rPr>
              <a:t>Родину свою познают!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1186920" y="620640"/>
            <a:ext cx="7705800" cy="568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лагодатный и ничем не заменимый источник воспитания любви к Родин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духовные богатства культуры, познавая которые ребёнок познает сердцем родной народ.</a:t>
            </a:r>
            <a:r>
              <a:rPr b="0" lang="ru-RU" sz="32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т начало любви к своему народу, к своей стране.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итывают ребёнка в традициях русского народ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5"/>
          <p:cNvSpPr/>
          <p:nvPr/>
        </p:nvSpPr>
        <p:spPr>
          <a:xfrm>
            <a:off x="3059280" y="692280"/>
            <a:ext cx="49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Пробл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4"/>
          <p:cNvSpPr/>
          <p:nvPr/>
        </p:nvSpPr>
        <p:spPr>
          <a:xfrm>
            <a:off x="3816360" y="1413000"/>
            <a:ext cx="5327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ышение уровня нравственно-патриотической воспитанности детей на основе  русских народных ска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Рисунок 4" descr="Картинка 7 из 370"/>
          <p:cNvPicPr/>
          <p:nvPr/>
        </p:nvPicPr>
        <p:blipFill>
          <a:blip r:embed="rId1"/>
          <a:stretch/>
        </p:blipFill>
        <p:spPr>
          <a:xfrm>
            <a:off x="1116000" y="3068640"/>
            <a:ext cx="29289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rbel"/>
              </a:rPr>
              <a:t>Цель проекта: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95280" y="2060640"/>
            <a:ext cx="4938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вать свободную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ворческую личность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рез общение со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верстниками и взрослыми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 участии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театрализованных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тановка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6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30304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99"/>
                </a:solidFill>
                <a:latin typeface="Corbel"/>
              </a:rPr>
              <a:t>          </a:t>
            </a:r>
            <a:r>
              <a:rPr b="1" lang="ru-RU" sz="4300" spc="-1" strike="noStrike">
                <a:solidFill>
                  <a:srgbClr val="000099"/>
                </a:solidFill>
                <a:latin typeface="Corbel"/>
              </a:rPr>
              <a:t>Задачи проект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азвивать речь в общение, в процессе ознакомления со сказка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еспечить психологическое благополучие и здоровье дет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азвивать познавательные способнос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азвивать коммуникативные навык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оспитывать доброту, бережливость,  скромность, вежливость, щедрость, трудолюбие, справедливость на примерах героев сказо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оспитывать желание  у детей участвовать во взросло-детских постановка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C:\Users\Sad\Desktop\Мои документы\фото архив\фото для газеты октяб 18\140___08\IMG_4457.JPG"/>
          <p:cNvPicPr/>
          <p:nvPr/>
        </p:nvPicPr>
        <p:blipFill>
          <a:blip r:embed="rId1"/>
          <a:stretch/>
        </p:blipFill>
        <p:spPr>
          <a:xfrm>
            <a:off x="1332000" y="476280"/>
            <a:ext cx="75657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99"/>
                </a:solidFill>
                <a:latin typeface="Corbel"/>
              </a:rPr>
              <a:t>          </a:t>
            </a:r>
            <a:r>
              <a:rPr b="1" lang="ru-RU" sz="4300" spc="-1" strike="noStrike">
                <a:solidFill>
                  <a:srgbClr val="000099"/>
                </a:solidFill>
                <a:latin typeface="Corbel"/>
              </a:rPr>
              <a:t>АКТУАЛЬНОСТ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 самых ранних лет ребенок стремится проявить творчество. Поэтому важно создавать в детском коллективе атмосферу свободного выражения чувств и мыслей, поощрять желание  малыша быть непохожим на других, разбудить их фантазию, попытаться максимально реализовать их способности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Через это творчество дети познают мир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ознавая через мир сказки, мир театра, что такое добро и зло, они учатся по-доброму относится к друзьям, к маме, к взрослым и животным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бщаясь дети учатся быть терпеливыми друг к другу, сплачивается детский коллектив, крепнет дружба, интереснее и содержательнее становится жизнь детей в детском саду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Наш совместный  театр родителей и детей, словно живой организм, растет и развивается. Эта работа приносит пользу детям, родителям, педагогу. Эта тема на современном этапе актуальна и представляет собой особый интерес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         </a:t>
            </a:r>
            <a:r>
              <a:rPr b="1" lang="ru-RU" sz="4000" spc="-1" strike="noStrike">
                <a:solidFill>
                  <a:srgbClr val="000099"/>
                </a:solidFill>
                <a:latin typeface="Corbel"/>
              </a:rPr>
              <a:t>Ожидаемый результат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3964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Ребенок адаптируется в большом коллективе, свободно общается со сверстниками и взрослым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роявляет себя, как индивидуальная личность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оспитывается доброжелательность, бережливость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Формируется выразительность и эмоциональность речи, активизируется словарь детей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роявление эмоционально-положительного настроя родителей участвовать в воспитательно-образовательном процессе, принимая участия в театральных постановках, праздниках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rbel"/>
              </a:rPr>
              <a:t>                            </a:t>
            </a:r>
            <a:r>
              <a:rPr b="1" lang="ru-RU" sz="3200" spc="-1" strike="noStrike">
                <a:solidFill>
                  <a:srgbClr val="000099"/>
                </a:solidFill>
                <a:latin typeface="Corbel"/>
              </a:rPr>
              <a:t>РИСК   ПРОЕКТ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Не отзывчивость родителей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Потеря интереса родителей к участию в театрализованных постановках, праздниках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Нет материально- технической базы на атрибуты и костюмы для героев постановок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0:52:51Z</dcterms:created>
  <dc:creator>Loner-XP</dc:creator>
  <dc:description/>
  <dc:language>en-US</dc:language>
  <cp:lastModifiedBy>Sad</cp:lastModifiedBy>
  <dcterms:modified xsi:type="dcterms:W3CDTF">2019-05-15T07:52:01Z</dcterms:modified>
  <cp:revision>26</cp:revision>
  <dc:subject/>
  <dc:title>«По страничкам                       сказок»</dc:title>
</cp:coreProperties>
</file>