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9CBC-E2AF-4727-8195-8EF3733A6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7BD6-D373-49C2-B0FD-02D355AC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C5E5-E88F-4E4F-9D54-3BA531AB4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AA37-C92F-46FF-97DB-88412F988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5C07-31CB-4790-8FDF-4FE0D317C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FFA4-CDC9-4BB5-86D7-E16AF5A0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D6CA-9B0D-4E46-9CAA-62AE4B09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49C1-3848-46EA-877A-498B2F11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4032-7BA0-4396-AC52-B6F78B50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69E5-3C4B-4E99-91DC-5AEA05EB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10B1-DD3C-4E6B-A251-2A1FC35C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7CC5-C63B-4E24-92B5-9C00BF08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14A2-1505-426B-BE10-6EB9E4FD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B1F6-B1A4-447E-BD0F-C891A959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3DA0-5FE6-4AF5-8237-98DD89F1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DF55-4F3A-480C-A6DE-5D68BD0CF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3CC4-6466-4784-9007-8DB6EF73D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207DA-CA84-4755-B252-B65D1C52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04AE6-B198-48EF-B32F-2BB72B49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9F412-3A2C-4C82-92C6-8E3E9F6B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E0438-B737-4EC9-82D7-2AB61FE0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2BE27-7695-4D4A-9FE0-FF6597C6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0E49-5D8D-4B13-BA5E-863BC26E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087C2-7C95-42E7-8CC0-8B70A6DE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C090E-81D2-4809-981E-26FBCD3A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E9B54-68FC-48E3-A94D-53EFFE21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2FFD4-299E-483E-8AA8-3209D70B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E851F-E194-42BC-8154-EA224507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C25DA-C658-4F68-AAB5-E2A79B40F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364D9-6961-409D-B60F-BC70A7460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68EF0-88BB-4C45-B236-0D9BEFF5C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516E2-421E-4250-8524-2AD39F33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C82D8-032D-4CC8-B34D-5D0059EA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DBC7-A56F-4F57-BA6E-8CC9638A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0795B-42F7-4750-B306-514E4FC2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41612-7096-4F44-98C9-E9EF6F49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345B7-D82B-4AB3-9BA9-83DAAE1B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511DD-7A49-4D79-B3C1-ADA05B44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2A30C-CF34-4B61-8F85-864A189B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0274E-EE5B-4899-BB44-FFDCF8B9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9ED7A-9516-404D-B517-866D0BAF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EE15E-FAAA-4DA6-8E61-7641C742E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178C0-8FF5-4585-9E3A-4D0A7A1DD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43246-65BE-4585-B4C9-468060F23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318B-670F-4643-ABCF-D4D3D2EE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D2995-13DA-463F-880C-5B434FA0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29709-2CD1-4BE1-BD95-93415BAA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914A0-17A9-4F16-8906-17590A53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D1CC5-8A99-4ACC-B0A0-D3642F3A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10DAB-1456-41DD-93FE-2F343F29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04D66-0C1C-4FD3-97D0-AC7D6BDE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4F14C-8A59-4E7B-ACCD-26931F3C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541A5-8C8F-47A0-826E-BBD0CE33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BC906-36F6-492E-9B8F-0B002CB6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A6156-7C07-4FF3-A539-349A9AC3C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054A-5ADD-416E-BC73-7BF632FD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8B458-9CE9-4DB6-A3E1-BDAC92A2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26AE-F343-45AD-AD58-866D4CDE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F32F-5B9A-40BE-9ECD-1903777A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F1E6-3DDE-40F3-96CE-FDD2D2E5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DC71-AA32-4589-A635-B3FFA9F49DC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7AF6-6E89-4080-8A86-C9C628BF033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CD30-8438-4953-BA14-7A02B9E581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65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AD3B-7A7D-41A2-A20B-2C886024CFE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3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4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24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EA1D-333B-494B-94F3-ED3327E15009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468360" y="333360"/>
            <a:ext cx="75438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9"/>
          <p:cNvSpPr/>
          <p:nvPr/>
        </p:nvSpPr>
        <p:spPr>
          <a:xfrm>
            <a:off x="395280" y="1125360"/>
            <a:ext cx="856944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Синдром профессионального выгора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рина Николаевна Терехи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дагог-психолог ГБДОУ детский сад №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оргский р-н, 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4" descr="sky3_4_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0" y="234900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333399"/>
                </a:solidFill>
                <a:latin typeface="Monotype Corsiva"/>
              </a:rPr>
              <a:t>СПАСИБО ЗА ВНИМАНИЕ 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468360" y="333360"/>
            <a:ext cx="75438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469800" y="801720"/>
            <a:ext cx="86756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моциональное сгорани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характеристика психического состояния здоровых людей, находящихся в интенсивном общении с клиентами, в эмоционально нагруженной атмосфере, при оказании профессиональной помощ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Х.Дж. Фрейденберг, 1974 г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468360" y="333360"/>
            <a:ext cx="75438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684360" y="692280"/>
            <a:ext cx="78483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ой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актор,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особствующий эмоциональному сгоранию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тернальность –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товность человека брать на себя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сю ответственность за всё происходяще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90014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Личностные установки, способствующие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эмоциональному сгоранию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6" name="Заголовок 4"/>
          <p:cNvSpPr/>
          <p:nvPr/>
        </p:nvSpPr>
        <p:spPr>
          <a:xfrm>
            <a:off x="658800" y="1773360"/>
            <a:ext cx="77929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не нельзя ошибать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я должен быть сдержанны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я не имею права быть предвзяты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я обязан во всём быть примером для подраж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1 стадия синдрома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ф. выгор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Заголовок 1"/>
          <p:cNvSpPr/>
          <p:nvPr/>
        </p:nvSpPr>
        <p:spPr>
          <a:xfrm>
            <a:off x="611280" y="2060640"/>
            <a:ext cx="82296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забывание каких-то моментов (провалы в памяти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бои в выполнении каких-либо двигательных действи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формируется в течении 3-5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15640" y="40464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2 стади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Прямоугольник 2"/>
          <p:cNvSpPr/>
          <p:nvPr/>
        </p:nvSpPr>
        <p:spPr>
          <a:xfrm>
            <a:off x="468360" y="2276640"/>
            <a:ext cx="842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нижение интереса к работ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нижение потребности в общени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растание апатии к концу недел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явление устойчивых соматических симптомов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вышенная раздражительност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ремя формирования от 5 до 15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3 стади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Прямоугольник 2"/>
          <p:cNvSpPr/>
          <p:nvPr/>
        </p:nvSpPr>
        <p:spPr>
          <a:xfrm>
            <a:off x="468360" y="2133720"/>
            <a:ext cx="849636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ная потеря интереса к работе и жизни вообщ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моциональное безразличи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щущение постоянного отсутствия си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ормируется от 10 до 20 л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81010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иску выгорания подвержен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Прямоугольник 2"/>
          <p:cNvSpPr/>
          <p:nvPr/>
        </p:nvSpPr>
        <p:spPr>
          <a:xfrm>
            <a:off x="647640" y="2133720"/>
            <a:ext cx="8496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ди, перегруженные ответственностью, длительно и интенсивно работающ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емящиеся к непременному успех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имеющие интересов помимо работы или имеющие их слишком мал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еренные в том, что они являются единственными, кто способен сделать эту раб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ути преодолени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Заголовок 1"/>
          <p:cNvSpPr/>
          <p:nvPr/>
        </p:nvSpPr>
        <p:spPr>
          <a:xfrm>
            <a:off x="250920" y="2276640"/>
            <a:ext cx="8893080" cy="36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1. Самодиагностика (информирование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2. Способы естественной регуляции и саморегуляции (арсенал средств для восстановления сил и снятия напряжения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3. Техники мышечной и эмоциональной релакса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</cp:lastModifiedBy>
  <dcterms:modified xsi:type="dcterms:W3CDTF">2019-10-01T08:13:38Z</dcterms:modified>
  <cp:revision>101</cp:revision>
  <dc:subject/>
  <dc:title>PowerPoint Presentation</dc:title>
</cp:coreProperties>
</file>