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5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49.wmf" ContentType="image/x-wmf"/>
  <Override PartName="/ppt/media/image38.png" ContentType="image/png"/>
  <Override PartName="/ppt/media/image8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779D-E5AC-4828-A997-2E4D0F13B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82B9-AB8F-4DFD-8D61-EBA707EB8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22A-6E67-464E-BB12-E81787EF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370-E733-4B66-9869-78B6919F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931-745B-4232-8EEF-F0BFEF85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9B1-966B-4CC6-927E-514A9860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44A8-E781-43A7-8486-29A5157E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707C-2DEB-466F-8583-82F92F50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4D5B-888D-44DA-9B41-641A836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5F06-7B46-4AA5-B574-AE9CD42F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255A-62C2-4DAC-980D-E16DEEC4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F7F3-2CC4-4024-9F4F-1B3C6A27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AF78-CFFB-41F4-B63F-F19A6757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FAD-DFF4-4E8C-8A3D-6AC2C0F9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3186-E374-4D73-B8C3-A57CAB53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17FC-EEF0-43C4-B136-E6C8DB8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67C5-4FAC-49E8-B992-E6B91D33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243A-A42D-481A-B957-151FE19C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7707-815B-4A39-9F8D-B2FE1915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73B6-1215-4DD9-9568-39E5BA28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8BDA-11A1-425C-96C0-E5C1D64D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76E8-3CF3-4876-8005-7718F1C7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8B50-63F6-4868-A2C4-68CA1F94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4757F-F29B-4B18-AF72-3AB79CFE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E8D-C85D-4761-83D9-BD4D5CA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5C1A-ABB2-40E6-9BDE-1A586A4E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8E7C-0A44-47A7-AB81-46BC8491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4D33-2FB2-44EB-BA9C-0DDA4060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AB71-FF0F-45A6-82E8-A8217ED3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A8ED-30C5-44EE-BE55-FFEC50C5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4BD3-0205-4A09-8379-E39D2D08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DDF5-63B5-4557-BE45-02AC2719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7E48-1953-43E6-92C8-901454A3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A7E4-DAC3-4C81-B141-44856087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74CAD-9546-4FBA-BF7F-0D16605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18F-5B89-4787-A886-8488A57B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FEBC9-791E-417A-A424-F8FEF1FD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EB77-4490-4788-ABE8-CD51A839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8C0A-29F8-46FC-9D2F-3B817AF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632D-8004-4B80-AC12-42622ACD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1F2B9-4E39-44DA-A332-9129CB6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37D5-4A6B-44BD-8D0E-AA1C7DB7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5DEF-4A2D-4B24-854A-70090A9F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CDE7-225F-4C08-82BF-DE9D1EFF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1B5D-52E7-4323-A952-64DE331C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04414-0E40-4513-A23A-1F0D8191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CD7-9F75-48CD-9E3A-EBC1B30A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629C-61FE-4A9A-86CF-B20C8BCF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B021-8622-4173-8F16-0A216332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23B1-917A-434F-8B0C-CACC7D6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72A9-000E-4270-B4F8-EC28C40F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AA6E4-535D-48E6-B8DD-444DBDD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D4BF-E5F2-4BCE-9062-719E7F84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4425F-29CC-4E61-A30E-8B65EB47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0AC12-98ED-4126-9196-3ACA140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302D-48BF-42E4-A4C4-50593E01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097E3-D504-4854-9404-8113ED63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E60-FAB1-4F54-910E-322A957F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94CC-1019-4915-93E7-63604C63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F537-7A07-43B9-8A9E-B9A000E3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49383-798C-4F86-B41A-A1AF5DDD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07DF-275D-430F-BD2E-6A2EBE9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3146D-9FD4-4933-B4EB-36B1D450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1A0E1-30B5-4662-95B6-B794DFAF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46B5-D387-465B-B091-8D2630E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80F34-AFE8-4D78-B1D5-BE8BC8F0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2223A-00E7-4F61-ACFD-B2452641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067CF-36EA-4838-BF7E-FD9219F1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2BF-662B-4EFA-8063-26842BD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43ED2-CDA4-46A9-B792-9ACD844F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DBB0-11AD-4F70-93D4-E19418E5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BB338-93A1-4799-B38B-4F3AE335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235EA-2765-4D00-871D-FABE2252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2C5C-D3DF-4BFD-B643-BBC43D8B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A7112-DBF2-43A8-9A23-97B1E821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C36E6-453C-48C1-8D88-480A59ED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20F2C-CC30-44CE-9127-2C6366ED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75AE-C6E6-49A1-9A37-D2FBBA78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C512A-3772-4EB9-AF1B-40AC21CE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F95-1121-4FD6-B0A3-74D45799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81F41-5496-4477-996C-98C5A158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927A9-7514-4559-9CEA-4BA25634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3F8CB-24B9-4E2D-9018-C4F1339F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1829-3E3A-4EE8-8AE8-FD283F4E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0A25-630F-4C5E-877C-355AFC3D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8B8-F193-4C0F-A083-A43222D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CDDB-2591-4CEC-AF5A-23B597CB398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8085-4F58-441C-A7F8-B568CE71E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32D7-48F5-4732-BBBD-835C473323B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70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5CA7-4B9E-454E-9087-84EB628949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06EB-F1F6-4877-BB8D-85667347DF1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267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271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D450-3F90-43D4-AAC1-3E20E1FB80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2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7F94-FA25-4CCD-BEAD-1F61012BFE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2.exe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9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7.png"/><Relationship Id="rId22" Type="http://schemas.openxmlformats.org/officeDocument/2006/relationships/image" Target="../media/image29.png"/><Relationship Id="rId23" Type="http://schemas.openxmlformats.org/officeDocument/2006/relationships/image" Target="../media/image27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35.png"/><Relationship Id="rId3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15.png"/><Relationship Id="rId7" Type="http://schemas.openxmlformats.org/officeDocument/2006/relationships/image" Target="../media/image38.png"/><Relationship Id="rId8" Type="http://schemas.openxmlformats.org/officeDocument/2006/relationships/image" Target="../media/image19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19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24.png"/><Relationship Id="rId15" Type="http://schemas.openxmlformats.org/officeDocument/2006/relationships/image" Target="../media/image43.png"/><Relationship Id="rId16" Type="http://schemas.openxmlformats.org/officeDocument/2006/relationships/image" Target="../media/image24.png"/><Relationship Id="rId17" Type="http://schemas.openxmlformats.org/officeDocument/2006/relationships/image" Target="../media/image43.png"/><Relationship Id="rId18" Type="http://schemas.openxmlformats.org/officeDocument/2006/relationships/image" Target="../media/image44.png"/><Relationship Id="rId19" Type="http://schemas.openxmlformats.org/officeDocument/2006/relationships/image" Target="../media/image45.png"/><Relationship Id="rId20" Type="http://schemas.openxmlformats.org/officeDocument/2006/relationships/image" Target="../media/image46.png"/><Relationship Id="rId21" Type="http://schemas.openxmlformats.org/officeDocument/2006/relationships/image" Target="../media/image45.png"/><Relationship Id="rId22" Type="http://schemas.openxmlformats.org/officeDocument/2006/relationships/image" Target="../media/image47.png"/><Relationship Id="rId23" Type="http://schemas.openxmlformats.org/officeDocument/2006/relationships/image" Target="../media/image45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48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35.png"/><Relationship Id="rId3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WordArt 15" descr=""/>
          <p:cNvPicPr/>
          <p:nvPr/>
        </p:nvPicPr>
        <p:blipFill>
          <a:blip r:embed="rId1"/>
          <a:stretch/>
        </p:blipFill>
        <p:spPr>
          <a:xfrm>
            <a:off x="122400" y="133200"/>
            <a:ext cx="8888400" cy="11592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1571400"/>
            <a:ext cx="4143240" cy="42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сточная мудрость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й человеку рыбу, и ты накормишь его только раз. Научи его ловить рыбу, и он будет кормиться ею всю жизнь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3" name="Picture 2" descr="C:\Documents and Settings\1\Рабочий стол\0b01f81a1059039928c1e948a52fd939.jpeg"/>
          <p:cNvPicPr/>
          <p:nvPr/>
        </p:nvPicPr>
        <p:blipFill>
          <a:blip r:embed="rId2"/>
          <a:srcRect l="0" t="2185" r="0" b="4998"/>
          <a:stretch/>
        </p:blipFill>
        <p:spPr>
          <a:xfrm>
            <a:off x="5500800" y="1569960"/>
            <a:ext cx="30718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щиес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28760" y="121428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ботают с источниками 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итически осмысляют информац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шают практические задач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нализирую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ваивают типичные социальные ро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ргументируют защиту своей пози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полняют творческие работы и исследовательские проек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1374120" y="2160"/>
            <a:ext cx="63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ТЕХНИКА АКТИВНО-ПРОДУКТИ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учения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2" descr="http://avatars.mds.yandex.net/get-direct/118836/vBHsyJ5mlWfy1sKr82BYiw/wy300"/>
          <p:cNvPicPr/>
          <p:nvPr/>
        </p:nvPicPr>
        <p:blipFill>
          <a:blip r:embed="rId1"/>
          <a:srcRect l="12309" t="0" r="8900" b="0"/>
          <a:stretch/>
        </p:blipFill>
        <p:spPr>
          <a:xfrm>
            <a:off x="142920" y="357120"/>
            <a:ext cx="2286000" cy="16304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2"/>
          <p:cNvSpPr/>
          <p:nvPr/>
        </p:nvSpPr>
        <p:spPr>
          <a:xfrm>
            <a:off x="285840" y="89316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ёмы 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сроченная отга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ние учеников всегда привлекает спровоцированная учителем интрига. В начале урока учитель задаёт загадку (сообщает удивительный факт), разгадка которой будет открыта на уроке при работе над новым матери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е «вхождение в урок» окажется эффективнее, чем традиционное: «А теперь мы будем изучать новую тему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 flipV="1" rot="10800000">
            <a:off x="142560" y="4009320"/>
            <a:ext cx="90010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ценка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и не читают текст абзац за абзацем, а оценивают е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кие слова выделены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кое слово чаще встречается в параграф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й раздел параграфа самый большой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аком разделе вы найдёте ответ на вопрос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4" descr="text"/>
          <p:cNvPicPr/>
          <p:nvPr/>
        </p:nvPicPr>
        <p:blipFill>
          <a:blip r:embed="rId2"/>
          <a:stretch/>
        </p:blipFill>
        <p:spPr>
          <a:xfrm>
            <a:off x="7072200" y="5286240"/>
            <a:ext cx="1952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7" descr="vopros"/>
          <p:cNvPicPr/>
          <p:nvPr/>
        </p:nvPicPr>
        <p:blipFill>
          <a:blip r:embed="rId1"/>
          <a:stretch/>
        </p:blipFill>
        <p:spPr>
          <a:xfrm>
            <a:off x="14292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142920" y="155880"/>
            <a:ext cx="871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ПРОСИТЬ – ЗНАЧИТ ПОНЯ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ожно сказать, что вопрос – это определё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знаний, которая описывает известное и наши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 охватывает некоторое незнание, т.е. то, что мы хотим узн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провоцирует ситуацию, когда ученик самостоятельно формулирует вопросы к новому учебному материалу. Удачно составленный вопрос – это уже наполовину получен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4" descr="Bloom_Benjamin"/>
          <p:cNvPicPr/>
          <p:nvPr/>
        </p:nvPicPr>
        <p:blipFill>
          <a:blip r:embed="rId2"/>
          <a:stretch/>
        </p:blipFill>
        <p:spPr>
          <a:xfrm>
            <a:off x="142920" y="4929120"/>
            <a:ext cx="1417680" cy="17733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4"/>
          <p:cNvSpPr/>
          <p:nvPr/>
        </p:nvSpPr>
        <p:spPr>
          <a:xfrm>
            <a:off x="142920" y="31582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убик Бл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гранях кубика написаны начала вопросов: «Почему», «Объясни», «Назови», «Предложи», «Придумай», «Подели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(или ученик) бросает кубик. 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улировать вопрос к учебному материалу по той грани,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на которую выпадет кубик. Одной из основных задач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школы является обучение решению проблем, 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которыми придется столкнуться в жизни и умени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применять зна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6858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ектирование опорных конспектов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Picture 4" descr="7"/>
          <p:cNvPicPr/>
          <p:nvPr/>
        </p:nvPicPr>
        <p:blipFill>
          <a:blip r:embed="rId1"/>
          <a:stretch/>
        </p:blipFill>
        <p:spPr>
          <a:xfrm>
            <a:off x="514440" y="1285920"/>
            <a:ext cx="8272440" cy="5249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prim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189000"/>
            <a:ext cx="1468440" cy="11430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4"/>
          <p:cNvSpPr/>
          <p:nvPr/>
        </p:nvSpPr>
        <p:spPr>
          <a:xfrm>
            <a:off x="1000080" y="1428840"/>
            <a:ext cx="78588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5"/>
          <p:cNvSpPr/>
          <p:nvPr/>
        </p:nvSpPr>
        <p:spPr>
          <a:xfrm>
            <a:off x="8072280" y="6000840"/>
            <a:ext cx="78588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1533600" y="2108160"/>
            <a:ext cx="3108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Рисунок 14" descr="Слайд8"/>
          <p:cNvPicPr/>
          <p:nvPr/>
        </p:nvPicPr>
        <p:blipFill>
          <a:blip r:embed="rId1"/>
          <a:srcRect l="6275" t="10003" r="5851" b="6674"/>
          <a:stretch/>
        </p:blipFill>
        <p:spPr>
          <a:xfrm>
            <a:off x="1143000" y="214200"/>
            <a:ext cx="6357960" cy="40309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4"/>
          <p:cNvSpPr/>
          <p:nvPr/>
        </p:nvSpPr>
        <p:spPr>
          <a:xfrm>
            <a:off x="285840" y="4357800"/>
            <a:ext cx="82868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чень оживляют урок задания, в которых приходится работать с фотографиями реальных объектов. Данный слайд организует именно такую работу. Ребятам предложено расположить рисунки в правильном порядке. Это немудрёное задание позволяет соединить практику и теор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спользование в процессе обучения компьютерных технологи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5723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особствует эффективному усвоению учебного матери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могает сделать процесс обучения более разнообразным и увлекательным, личностно - развивающи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зволяет принципиально расширить возможности учителя в выборе и реализации средств и методов обу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едоставляет большие возможности ученику для реализации творческих способ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2"/>
          <p:cNvGrpSpPr/>
          <p:nvPr/>
        </p:nvGrpSpPr>
        <p:grpSpPr>
          <a:xfrm>
            <a:off x="2945520" y="4952880"/>
            <a:ext cx="2845080" cy="2001960"/>
            <a:chOff x="2945520" y="4952880"/>
            <a:chExt cx="2845080" cy="2001960"/>
          </a:xfrm>
        </p:grpSpPr>
        <p:grpSp>
          <p:nvGrpSpPr>
            <p:cNvPr id="439" name="Group 3"/>
            <p:cNvGrpSpPr/>
            <p:nvPr/>
          </p:nvGrpSpPr>
          <p:grpSpPr>
            <a:xfrm>
              <a:off x="3107880" y="5283360"/>
              <a:ext cx="2482560" cy="1502280"/>
              <a:chOff x="3107880" y="5283360"/>
              <a:chExt cx="2482560" cy="1502280"/>
            </a:xfrm>
          </p:grpSpPr>
          <p:pic>
            <p:nvPicPr>
              <p:cNvPr id="440" name="Picture 4" descr="Domain-Oval"/>
              <p:cNvPicPr/>
              <p:nvPr/>
            </p:nvPicPr>
            <p:blipFill>
              <a:blip r:embed="rId1"/>
              <a:stretch/>
            </p:blipFill>
            <p:spPr>
              <a:xfrm>
                <a:off x="3107880" y="5283360"/>
                <a:ext cx="2482560" cy="150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5" descr="InnerOval"/>
              <p:cNvPicPr/>
              <p:nvPr/>
            </p:nvPicPr>
            <p:blipFill>
              <a:blip r:embed="rId2"/>
              <a:stretch/>
            </p:blipFill>
            <p:spPr>
              <a:xfrm>
                <a:off x="3723480" y="5681520"/>
                <a:ext cx="1262160" cy="58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Line 6"/>
              <p:cNvSpPr/>
              <p:nvPr/>
            </p:nvSpPr>
            <p:spPr>
              <a:xfrm>
                <a:off x="4147200" y="5552640"/>
                <a:ext cx="164160" cy="240840"/>
              </a:xfrm>
              <a:prstGeom prst="line">
                <a:avLst/>
              </a:prstGeom>
              <a:ln w="127080">
                <a:solidFill>
                  <a:srgbClr val="a2ab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7"/>
              <p:cNvSpPr/>
              <p:nvPr/>
            </p:nvSpPr>
            <p:spPr>
              <a:xfrm flipH="1">
                <a:off x="4419720" y="5577480"/>
                <a:ext cx="135360" cy="188280"/>
              </a:xfrm>
              <a:prstGeom prst="line">
                <a:avLst/>
              </a:prstGeom>
              <a:ln w="127080">
                <a:solidFill>
                  <a:srgbClr val="a2ab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8"/>
              <p:cNvSpPr/>
              <p:nvPr/>
            </p:nvSpPr>
            <p:spPr>
              <a:xfrm>
                <a:off x="3580560" y="5943600"/>
                <a:ext cx="338400" cy="15840"/>
              </a:xfrm>
              <a:prstGeom prst="line">
                <a:avLst/>
              </a:prstGeom>
              <a:ln w="127080">
                <a:solidFill>
                  <a:srgbClr val="a3ce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9"/>
              <p:cNvSpPr/>
              <p:nvPr/>
            </p:nvSpPr>
            <p:spPr>
              <a:xfrm flipV="1">
                <a:off x="3812400" y="6014160"/>
                <a:ext cx="183960" cy="250200"/>
              </a:xfrm>
              <a:prstGeom prst="line">
                <a:avLst/>
              </a:prstGeom>
              <a:ln w="127080">
                <a:solidFill>
                  <a:srgbClr val="a3ce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0"/>
              <p:cNvSpPr/>
              <p:nvPr/>
            </p:nvSpPr>
            <p:spPr>
              <a:xfrm flipH="1" flipV="1">
                <a:off x="4620960" y="6080040"/>
                <a:ext cx="99000" cy="256680"/>
              </a:xfrm>
              <a:prstGeom prst="line">
                <a:avLst/>
              </a:prstGeom>
              <a:ln w="127080">
                <a:solidFill>
                  <a:srgbClr val="cdb6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11"/>
              <p:cNvSpPr/>
              <p:nvPr/>
            </p:nvSpPr>
            <p:spPr>
              <a:xfrm flipH="1" flipV="1">
                <a:off x="4704120" y="6050160"/>
                <a:ext cx="338400" cy="23040"/>
              </a:xfrm>
              <a:prstGeom prst="line">
                <a:avLst/>
              </a:prstGeom>
              <a:ln w="127080">
                <a:solidFill>
                  <a:srgbClr val="cdb6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8" name="Group 12"/>
              <p:cNvGrpSpPr/>
              <p:nvPr/>
            </p:nvGrpSpPr>
            <p:grpSpPr>
              <a:xfrm>
                <a:off x="3169080" y="5760360"/>
                <a:ext cx="502200" cy="324000"/>
                <a:chOff x="3169080" y="5760360"/>
                <a:chExt cx="502200" cy="324000"/>
              </a:xfrm>
            </p:grpSpPr>
            <p:pic>
              <p:nvPicPr>
                <p:cNvPr id="449" name="Picture 13" descr="Person-to-Machine-ova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69080" y="5760360"/>
                  <a:ext cx="502200" cy="324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0" name="Group 14"/>
                <p:cNvGrpSpPr/>
                <p:nvPr/>
              </p:nvGrpSpPr>
              <p:grpSpPr>
                <a:xfrm>
                  <a:off x="3312360" y="5766840"/>
                  <a:ext cx="214920" cy="217800"/>
                  <a:chOff x="3312360" y="5766840"/>
                  <a:chExt cx="214920" cy="217800"/>
                </a:xfrm>
              </p:grpSpPr>
              <p:pic>
                <p:nvPicPr>
                  <p:cNvPr id="451" name="Picture 15" descr="Red User sm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2360" y="5766840"/>
                    <a:ext cx="147600" cy="1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52" name="Picture 16" descr="Mobile Phone sm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31160" y="5766840"/>
                    <a:ext cx="96120" cy="2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53" name="Group 17"/>
              <p:cNvGrpSpPr/>
              <p:nvPr/>
            </p:nvGrpSpPr>
            <p:grpSpPr>
              <a:xfrm>
                <a:off x="3483720" y="6142680"/>
                <a:ext cx="501120" cy="371520"/>
                <a:chOff x="3483720" y="6142680"/>
                <a:chExt cx="501120" cy="371520"/>
              </a:xfrm>
            </p:grpSpPr>
            <p:pic>
              <p:nvPicPr>
                <p:cNvPr id="454" name="Picture 18" descr="Person-to-Machine-ova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83720" y="6189840"/>
                  <a:ext cx="501120" cy="32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19" descr="Server and XML Web Service sm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636000" y="6142680"/>
                  <a:ext cx="19548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6" name="Group 20"/>
              <p:cNvGrpSpPr/>
              <p:nvPr/>
            </p:nvGrpSpPr>
            <p:grpSpPr>
              <a:xfrm>
                <a:off x="3832560" y="5344560"/>
                <a:ext cx="502200" cy="326880"/>
                <a:chOff x="3832560" y="5344560"/>
                <a:chExt cx="502200" cy="326880"/>
              </a:xfrm>
            </p:grpSpPr>
            <p:pic>
              <p:nvPicPr>
                <p:cNvPr id="457" name="Picture 21" descr="Person-to-Person-ova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832560" y="5347080"/>
                  <a:ext cx="502200" cy="324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8" name="Group 22"/>
                <p:cNvGrpSpPr/>
                <p:nvPr/>
              </p:nvGrpSpPr>
              <p:grpSpPr>
                <a:xfrm>
                  <a:off x="3924000" y="5344560"/>
                  <a:ext cx="320040" cy="277560"/>
                  <a:chOff x="3924000" y="5344560"/>
                  <a:chExt cx="320040" cy="277560"/>
                </a:xfrm>
              </p:grpSpPr>
              <p:pic>
                <p:nvPicPr>
                  <p:cNvPr id="459" name="Picture 23" descr="Yellow User sm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000" y="5344560"/>
                    <a:ext cx="1814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0" name="Picture 24" descr="PC sm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9960" y="5388480"/>
                    <a:ext cx="24408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61" name="Group 25"/>
              <p:cNvGrpSpPr/>
              <p:nvPr/>
            </p:nvGrpSpPr>
            <p:grpSpPr>
              <a:xfrm>
                <a:off x="4372920" y="5341320"/>
                <a:ext cx="501120" cy="333720"/>
                <a:chOff x="4372920" y="5341320"/>
                <a:chExt cx="501120" cy="333720"/>
              </a:xfrm>
            </p:grpSpPr>
            <p:pic>
              <p:nvPicPr>
                <p:cNvPr id="462" name="Picture 26" descr="Person-to-Person-ova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372920" y="5350680"/>
                  <a:ext cx="501120" cy="324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63" name="Group 27"/>
                <p:cNvGrpSpPr/>
                <p:nvPr/>
              </p:nvGrpSpPr>
              <p:grpSpPr>
                <a:xfrm>
                  <a:off x="4470480" y="5341320"/>
                  <a:ext cx="305640" cy="278280"/>
                  <a:chOff x="4470480" y="5341320"/>
                  <a:chExt cx="305640" cy="278280"/>
                </a:xfrm>
              </p:grpSpPr>
              <p:pic>
                <p:nvPicPr>
                  <p:cNvPr id="464" name="Picture 28" descr="Green User sm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70480" y="5341320"/>
                    <a:ext cx="181080" cy="2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5" name="Picture 29" descr="Tablet PC sm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07280" y="5429160"/>
                    <a:ext cx="168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66" name="Group 30"/>
              <p:cNvGrpSpPr/>
              <p:nvPr/>
            </p:nvGrpSpPr>
            <p:grpSpPr>
              <a:xfrm>
                <a:off x="4937760" y="5865840"/>
                <a:ext cx="502200" cy="375120"/>
                <a:chOff x="4937760" y="5865840"/>
                <a:chExt cx="502200" cy="375120"/>
              </a:xfrm>
            </p:grpSpPr>
            <p:pic>
              <p:nvPicPr>
                <p:cNvPr id="467" name="Picture 31" descr="Machine-to-Machine-oval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937760" y="5916600"/>
                  <a:ext cx="502200" cy="32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Picture 32" descr="Server and XML Web Service sm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090400" y="5865840"/>
                  <a:ext cx="19692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9" name="Group 33"/>
              <p:cNvGrpSpPr/>
              <p:nvPr/>
            </p:nvGrpSpPr>
            <p:grpSpPr>
              <a:xfrm>
                <a:off x="4537800" y="6214320"/>
                <a:ext cx="501480" cy="375120"/>
                <a:chOff x="4537800" y="6214320"/>
                <a:chExt cx="501480" cy="375120"/>
              </a:xfrm>
            </p:grpSpPr>
            <p:pic>
              <p:nvPicPr>
                <p:cNvPr id="470" name="Picture 34" descr="Machine-to-Machine-oval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537800" y="6265080"/>
                  <a:ext cx="501480" cy="32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Picture 35" descr="Server and XML Web Service sm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690080" y="6214320"/>
                  <a:ext cx="196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2" name="Line 36"/>
              <p:cNvSpPr/>
              <p:nvPr/>
            </p:nvSpPr>
            <p:spPr>
              <a:xfrm flipV="1">
                <a:off x="4086000" y="5853960"/>
                <a:ext cx="166680" cy="76320"/>
              </a:xfrm>
              <a:prstGeom prst="line">
                <a:avLst/>
              </a:prstGeom>
              <a:ln w="127080">
                <a:solidFill>
                  <a:srgbClr val="6f64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37"/>
              <p:cNvSpPr/>
              <p:nvPr/>
            </p:nvSpPr>
            <p:spPr>
              <a:xfrm>
                <a:off x="4423320" y="5866920"/>
                <a:ext cx="104760" cy="131760"/>
              </a:xfrm>
              <a:prstGeom prst="line">
                <a:avLst/>
              </a:prstGeom>
              <a:ln w="127080">
                <a:solidFill>
                  <a:srgbClr val="6f64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38"/>
              <p:cNvSpPr/>
              <p:nvPr/>
            </p:nvSpPr>
            <p:spPr>
              <a:xfrm flipH="1" flipV="1">
                <a:off x="4111560" y="6000120"/>
                <a:ext cx="388800" cy="43560"/>
              </a:xfrm>
              <a:prstGeom prst="line">
                <a:avLst/>
              </a:prstGeom>
              <a:ln w="127080">
                <a:solidFill>
                  <a:srgbClr val="6f64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39"/>
              <p:cNvGrpSpPr/>
              <p:nvPr/>
            </p:nvGrpSpPr>
            <p:grpSpPr>
              <a:xfrm>
                <a:off x="4164480" y="5694840"/>
                <a:ext cx="363600" cy="264600"/>
                <a:chOff x="4164480" y="5694840"/>
                <a:chExt cx="363600" cy="264600"/>
              </a:xfrm>
            </p:grpSpPr>
            <p:pic>
              <p:nvPicPr>
                <p:cNvPr id="476" name="Picture 40" descr="XML-Person-oval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164480" y="5694840"/>
                  <a:ext cx="363600" cy="26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Picture 41" descr="XML Web Service sm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283640" y="5729760"/>
                  <a:ext cx="12564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8" name="Group 42"/>
              <p:cNvGrpSpPr/>
              <p:nvPr/>
            </p:nvGrpSpPr>
            <p:grpSpPr>
              <a:xfrm>
                <a:off x="3825000" y="5833440"/>
                <a:ext cx="364320" cy="265320"/>
                <a:chOff x="3825000" y="5833440"/>
                <a:chExt cx="364320" cy="265320"/>
              </a:xfrm>
            </p:grpSpPr>
            <p:pic>
              <p:nvPicPr>
                <p:cNvPr id="479" name="Picture 43" descr="Xml-Person_Machine-oval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825000" y="5833440"/>
                  <a:ext cx="36432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Picture 44" descr="XML Web Service sm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943800" y="5862960"/>
                  <a:ext cx="12600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1" name="Group 45"/>
              <p:cNvGrpSpPr/>
              <p:nvPr/>
            </p:nvGrpSpPr>
            <p:grpSpPr>
              <a:xfrm>
                <a:off x="4410720" y="5904720"/>
                <a:ext cx="364320" cy="264600"/>
                <a:chOff x="4410720" y="5904720"/>
                <a:chExt cx="364320" cy="264600"/>
              </a:xfrm>
            </p:grpSpPr>
            <p:pic>
              <p:nvPicPr>
                <p:cNvPr id="482" name="Picture 46" descr="XML-Machine-oval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4410720" y="5904720"/>
                  <a:ext cx="364320" cy="26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Picture 47" descr="XML Web Service sm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4529520" y="5929560"/>
                  <a:ext cx="12564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484" name="Picture 48" descr="halo"/>
            <p:cNvPicPr/>
            <p:nvPr/>
          </p:nvPicPr>
          <p:blipFill>
            <a:blip r:embed="rId24"/>
            <a:stretch/>
          </p:blipFill>
          <p:spPr>
            <a:xfrm>
              <a:off x="3271320" y="5000760"/>
              <a:ext cx="2031120" cy="19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49" descr="laptop"/>
            <p:cNvPicPr/>
            <p:nvPr/>
          </p:nvPicPr>
          <p:blipFill>
            <a:blip r:embed="rId25"/>
            <a:stretch/>
          </p:blipFill>
          <p:spPr>
            <a:xfrm>
              <a:off x="3761640" y="6153480"/>
              <a:ext cx="871200" cy="65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50" descr="Mobile Phone sm"/>
            <p:cNvPicPr/>
            <p:nvPr/>
          </p:nvPicPr>
          <p:blipFill>
            <a:blip r:embed="rId26"/>
            <a:stretch/>
          </p:blipFill>
          <p:spPr>
            <a:xfrm>
              <a:off x="4796280" y="5996520"/>
              <a:ext cx="26316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51" descr="Pocket PC sm"/>
            <p:cNvPicPr/>
            <p:nvPr/>
          </p:nvPicPr>
          <p:blipFill>
            <a:blip r:embed="rId27"/>
            <a:stretch/>
          </p:blipFill>
          <p:spPr>
            <a:xfrm>
              <a:off x="3399840" y="6048720"/>
              <a:ext cx="30744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52" descr="tablet"/>
            <p:cNvPicPr/>
            <p:nvPr/>
          </p:nvPicPr>
          <p:blipFill>
            <a:blip r:embed="rId28"/>
            <a:stretch/>
          </p:blipFill>
          <p:spPr>
            <a:xfrm>
              <a:off x="4034160" y="5000760"/>
              <a:ext cx="504720" cy="5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53" descr="blue shadow arrow short"/>
            <p:cNvPicPr/>
            <p:nvPr/>
          </p:nvPicPr>
          <p:blipFill>
            <a:blip r:embed="rId29"/>
            <a:stretch/>
          </p:blipFill>
          <p:spPr>
            <a:xfrm rot="8634600">
              <a:off x="5030640" y="5078880"/>
              <a:ext cx="6339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54" descr="blue shadow arrow short"/>
            <p:cNvPicPr/>
            <p:nvPr/>
          </p:nvPicPr>
          <p:blipFill>
            <a:blip r:embed="rId30"/>
            <a:stretch/>
          </p:blipFill>
          <p:spPr>
            <a:xfrm flipH="1" rot="12964800">
              <a:off x="3070800" y="5078880"/>
              <a:ext cx="633960" cy="63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28760" y="150012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ультимедийные  программы (обучающие, тренинговые, контролирующие) по всем разделам  курса би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397760" y="3856680"/>
            <a:ext cx="4056480" cy="2807640"/>
            <a:chOff x="4397760" y="3856680"/>
            <a:chExt cx="4056480" cy="2807640"/>
          </a:xfrm>
        </p:grpSpPr>
        <p:grpSp>
          <p:nvGrpSpPr>
            <p:cNvPr id="493" name="Group 3"/>
            <p:cNvGrpSpPr/>
            <p:nvPr/>
          </p:nvGrpSpPr>
          <p:grpSpPr>
            <a:xfrm>
              <a:off x="4623840" y="4324680"/>
              <a:ext cx="3549240" cy="2102760"/>
              <a:chOff x="4623840" y="4324680"/>
              <a:chExt cx="3549240" cy="2102760"/>
            </a:xfrm>
          </p:grpSpPr>
          <p:pic>
            <p:nvPicPr>
              <p:cNvPr id="494" name="Picture 4" descr="Domain-Oval"/>
              <p:cNvPicPr/>
              <p:nvPr/>
            </p:nvPicPr>
            <p:blipFill>
              <a:blip r:embed="rId1"/>
              <a:stretch/>
            </p:blipFill>
            <p:spPr>
              <a:xfrm>
                <a:off x="4623840" y="4324680"/>
                <a:ext cx="3549240" cy="21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Picture 5" descr="InnerOval"/>
              <p:cNvPicPr/>
              <p:nvPr/>
            </p:nvPicPr>
            <p:blipFill>
              <a:blip r:embed="rId2"/>
              <a:stretch/>
            </p:blipFill>
            <p:spPr>
              <a:xfrm>
                <a:off x="5503680" y="4881960"/>
                <a:ext cx="1804680" cy="82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Line 6"/>
              <p:cNvSpPr/>
              <p:nvPr/>
            </p:nvSpPr>
            <p:spPr>
              <a:xfrm>
                <a:off x="6109560" y="4701600"/>
                <a:ext cx="234720" cy="336960"/>
              </a:xfrm>
              <a:prstGeom prst="line">
                <a:avLst/>
              </a:prstGeom>
              <a:ln w="127080">
                <a:solidFill>
                  <a:srgbClr val="a2ab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7"/>
              <p:cNvSpPr/>
              <p:nvPr/>
            </p:nvSpPr>
            <p:spPr>
              <a:xfrm flipH="1">
                <a:off x="6499080" y="4736160"/>
                <a:ext cx="193320" cy="263520"/>
              </a:xfrm>
              <a:prstGeom prst="line">
                <a:avLst/>
              </a:prstGeom>
              <a:ln w="127080">
                <a:solidFill>
                  <a:srgbClr val="a2ab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8"/>
              <p:cNvSpPr/>
              <p:nvPr/>
            </p:nvSpPr>
            <p:spPr>
              <a:xfrm>
                <a:off x="5299560" y="5249160"/>
                <a:ext cx="484200" cy="22320"/>
              </a:xfrm>
              <a:prstGeom prst="line">
                <a:avLst/>
              </a:prstGeom>
              <a:ln w="127080">
                <a:solidFill>
                  <a:srgbClr val="a3ce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9"/>
              <p:cNvSpPr/>
              <p:nvPr/>
            </p:nvSpPr>
            <p:spPr>
              <a:xfrm flipV="1">
                <a:off x="5631480" y="5347800"/>
                <a:ext cx="263160" cy="350280"/>
              </a:xfrm>
              <a:prstGeom prst="line">
                <a:avLst/>
              </a:prstGeom>
              <a:ln w="127080">
                <a:solidFill>
                  <a:srgbClr val="a3ce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0"/>
              <p:cNvSpPr/>
              <p:nvPr/>
            </p:nvSpPr>
            <p:spPr>
              <a:xfrm flipH="1" flipV="1">
                <a:off x="6787440" y="5440680"/>
                <a:ext cx="141480" cy="359280"/>
              </a:xfrm>
              <a:prstGeom prst="line">
                <a:avLst/>
              </a:prstGeom>
              <a:ln w="127080">
                <a:solidFill>
                  <a:srgbClr val="cdb6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1"/>
              <p:cNvSpPr/>
              <p:nvPr/>
            </p:nvSpPr>
            <p:spPr>
              <a:xfrm flipH="1" flipV="1">
                <a:off x="6905520" y="5397840"/>
                <a:ext cx="484200" cy="32040"/>
              </a:xfrm>
              <a:prstGeom prst="line">
                <a:avLst/>
              </a:prstGeom>
              <a:ln w="127080">
                <a:solidFill>
                  <a:srgbClr val="cdb6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12"/>
              <p:cNvGrpSpPr/>
              <p:nvPr/>
            </p:nvGrpSpPr>
            <p:grpSpPr>
              <a:xfrm>
                <a:off x="4711320" y="4992120"/>
                <a:ext cx="717840" cy="453600"/>
                <a:chOff x="4711320" y="4992120"/>
                <a:chExt cx="717840" cy="453600"/>
              </a:xfrm>
            </p:grpSpPr>
            <p:pic>
              <p:nvPicPr>
                <p:cNvPr id="503" name="Picture 13" descr="Person-to-Machine-ova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11320" y="4992120"/>
                  <a:ext cx="717840" cy="4536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4" name="Group 14"/>
                <p:cNvGrpSpPr/>
                <p:nvPr/>
              </p:nvGrpSpPr>
              <p:grpSpPr>
                <a:xfrm>
                  <a:off x="4916520" y="5001480"/>
                  <a:ext cx="307080" cy="304920"/>
                  <a:chOff x="4916520" y="5001480"/>
                  <a:chExt cx="307080" cy="304920"/>
                </a:xfrm>
              </p:grpSpPr>
              <p:pic>
                <p:nvPicPr>
                  <p:cNvPr id="505" name="Picture 15" descr="Red User sm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6520" y="5001480"/>
                    <a:ext cx="210960" cy="2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06" name="Picture 16" descr="Mobile Phone sm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86080" y="5001480"/>
                    <a:ext cx="137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07" name="Group 17"/>
              <p:cNvGrpSpPr/>
              <p:nvPr/>
            </p:nvGrpSpPr>
            <p:grpSpPr>
              <a:xfrm>
                <a:off x="5161320" y="5527440"/>
                <a:ext cx="716760" cy="520200"/>
                <a:chOff x="5161320" y="5527440"/>
                <a:chExt cx="716760" cy="520200"/>
              </a:xfrm>
            </p:grpSpPr>
            <p:pic>
              <p:nvPicPr>
                <p:cNvPr id="508" name="Picture 18" descr="Person-to-Machine-ova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161320" y="5593680"/>
                  <a:ext cx="716760" cy="453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19" descr="Server and XML Web Service sm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79120" y="5527440"/>
                  <a:ext cx="279720" cy="403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0" name="Group 20"/>
              <p:cNvGrpSpPr/>
              <p:nvPr/>
            </p:nvGrpSpPr>
            <p:grpSpPr>
              <a:xfrm>
                <a:off x="5659560" y="4410360"/>
                <a:ext cx="717840" cy="457560"/>
                <a:chOff x="5659560" y="4410360"/>
                <a:chExt cx="717840" cy="457560"/>
              </a:xfrm>
            </p:grpSpPr>
            <p:pic>
              <p:nvPicPr>
                <p:cNvPr id="511" name="Picture 21" descr="Person-to-Person-ova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659560" y="4413960"/>
                  <a:ext cx="717840" cy="453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12" name="Group 22"/>
                <p:cNvGrpSpPr/>
                <p:nvPr/>
              </p:nvGrpSpPr>
              <p:grpSpPr>
                <a:xfrm>
                  <a:off x="5790240" y="4410360"/>
                  <a:ext cx="456840" cy="388440"/>
                  <a:chOff x="5790240" y="4410360"/>
                  <a:chExt cx="456840" cy="388440"/>
                </a:xfrm>
              </p:grpSpPr>
              <p:pic>
                <p:nvPicPr>
                  <p:cNvPr id="513" name="Picture 23" descr="Yellow User sm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90240" y="4410360"/>
                    <a:ext cx="259200" cy="3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4" name="Picture 24" descr="PC sm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98600" y="4471920"/>
                    <a:ext cx="3484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15" name="Group 25"/>
              <p:cNvGrpSpPr/>
              <p:nvPr/>
            </p:nvGrpSpPr>
            <p:grpSpPr>
              <a:xfrm>
                <a:off x="6432120" y="4405680"/>
                <a:ext cx="716760" cy="467280"/>
                <a:chOff x="6432120" y="4405680"/>
                <a:chExt cx="716760" cy="467280"/>
              </a:xfrm>
            </p:grpSpPr>
            <p:pic>
              <p:nvPicPr>
                <p:cNvPr id="516" name="Picture 26" descr="Person-to-Person-ova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432120" y="4419000"/>
                  <a:ext cx="716760" cy="453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17" name="Group 27"/>
                <p:cNvGrpSpPr/>
                <p:nvPr/>
              </p:nvGrpSpPr>
              <p:grpSpPr>
                <a:xfrm>
                  <a:off x="6571440" y="4405680"/>
                  <a:ext cx="437760" cy="389520"/>
                  <a:chOff x="6571440" y="4405680"/>
                  <a:chExt cx="437760" cy="389520"/>
                </a:xfrm>
              </p:grpSpPr>
              <p:pic>
                <p:nvPicPr>
                  <p:cNvPr id="518" name="Picture 28" descr="Green User sm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71440" y="4405680"/>
                    <a:ext cx="258840" cy="3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9" name="Picture 29" descr="Tablet PC sm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67280" y="4528800"/>
                    <a:ext cx="2419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20" name="Group 30"/>
              <p:cNvGrpSpPr/>
              <p:nvPr/>
            </p:nvGrpSpPr>
            <p:grpSpPr>
              <a:xfrm>
                <a:off x="7239960" y="5140080"/>
                <a:ext cx="717840" cy="524880"/>
                <a:chOff x="7239960" y="5140080"/>
                <a:chExt cx="717840" cy="524880"/>
              </a:xfrm>
            </p:grpSpPr>
            <p:pic>
              <p:nvPicPr>
                <p:cNvPr id="521" name="Picture 31" descr="Machine-to-Machine-oval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239960" y="5211000"/>
                  <a:ext cx="717840" cy="453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32" descr="Server and XML Web Service sm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458120" y="5140080"/>
                  <a:ext cx="281160" cy="404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3" name="Group 33"/>
              <p:cNvGrpSpPr/>
              <p:nvPr/>
            </p:nvGrpSpPr>
            <p:grpSpPr>
              <a:xfrm>
                <a:off x="6668280" y="5627520"/>
                <a:ext cx="716760" cy="524520"/>
                <a:chOff x="6668280" y="5627520"/>
                <a:chExt cx="716760" cy="524520"/>
              </a:xfrm>
            </p:grpSpPr>
            <p:pic>
              <p:nvPicPr>
                <p:cNvPr id="524" name="Picture 34" descr="Machine-to-Machine-oval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6668280" y="5698440"/>
                  <a:ext cx="716760" cy="45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35" descr="Server and XML Web Service sm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6886080" y="5627520"/>
                  <a:ext cx="280800" cy="404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26" name="Line 36"/>
              <p:cNvSpPr/>
              <p:nvPr/>
            </p:nvSpPr>
            <p:spPr>
              <a:xfrm flipV="1">
                <a:off x="6022080" y="5123160"/>
                <a:ext cx="238320" cy="106920"/>
              </a:xfrm>
              <a:prstGeom prst="line">
                <a:avLst/>
              </a:prstGeom>
              <a:ln w="127080">
                <a:solidFill>
                  <a:srgbClr val="6f64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37"/>
              <p:cNvSpPr/>
              <p:nvPr/>
            </p:nvSpPr>
            <p:spPr>
              <a:xfrm>
                <a:off x="6504120" y="5141160"/>
                <a:ext cx="149760" cy="184680"/>
              </a:xfrm>
              <a:prstGeom prst="line">
                <a:avLst/>
              </a:prstGeom>
              <a:ln w="127080">
                <a:solidFill>
                  <a:srgbClr val="6f64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38"/>
              <p:cNvSpPr/>
              <p:nvPr/>
            </p:nvSpPr>
            <p:spPr>
              <a:xfrm flipH="1" flipV="1">
                <a:off x="6058440" y="5328000"/>
                <a:ext cx="556200" cy="60840"/>
              </a:xfrm>
              <a:prstGeom prst="line">
                <a:avLst/>
              </a:prstGeom>
              <a:ln w="127080">
                <a:solidFill>
                  <a:srgbClr val="6f64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9" name="Group 39"/>
              <p:cNvGrpSpPr/>
              <p:nvPr/>
            </p:nvGrpSpPr>
            <p:grpSpPr>
              <a:xfrm>
                <a:off x="6134400" y="4900680"/>
                <a:ext cx="519840" cy="370440"/>
                <a:chOff x="6134400" y="4900680"/>
                <a:chExt cx="519840" cy="370440"/>
              </a:xfrm>
            </p:grpSpPr>
            <p:pic>
              <p:nvPicPr>
                <p:cNvPr id="530" name="Picture 40" descr="XML-Person-oval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4400" y="4900680"/>
                  <a:ext cx="519840" cy="37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Picture 41" descr="XML Web Service sm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304680" y="4949640"/>
                  <a:ext cx="17964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2" name="Group 42"/>
              <p:cNvGrpSpPr/>
              <p:nvPr/>
            </p:nvGrpSpPr>
            <p:grpSpPr>
              <a:xfrm>
                <a:off x="5649120" y="5094720"/>
                <a:ext cx="520920" cy="371160"/>
                <a:chOff x="5649120" y="5094720"/>
                <a:chExt cx="520920" cy="371160"/>
              </a:xfrm>
            </p:grpSpPr>
            <p:pic>
              <p:nvPicPr>
                <p:cNvPr id="533" name="Picture 43" descr="Xml-Person_Machine-oval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649120" y="5094720"/>
                  <a:ext cx="520920" cy="37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Picture 44" descr="XML Web Service sm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19040" y="5136120"/>
                  <a:ext cx="180000" cy="20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5" name="Group 45"/>
              <p:cNvGrpSpPr/>
              <p:nvPr/>
            </p:nvGrpSpPr>
            <p:grpSpPr>
              <a:xfrm>
                <a:off x="6486480" y="5194440"/>
                <a:ext cx="520920" cy="370440"/>
                <a:chOff x="6486480" y="5194440"/>
                <a:chExt cx="520920" cy="370440"/>
              </a:xfrm>
            </p:grpSpPr>
            <p:pic>
              <p:nvPicPr>
                <p:cNvPr id="536" name="Picture 46" descr="XML-Machine-oval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486480" y="5194440"/>
                  <a:ext cx="520920" cy="37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47" descr="XML Web Service sm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656400" y="5229360"/>
                  <a:ext cx="17964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538" name="Picture 48" descr="halo"/>
            <p:cNvPicPr/>
            <p:nvPr/>
          </p:nvPicPr>
          <p:blipFill>
            <a:blip r:embed="rId24"/>
            <a:stretch/>
          </p:blipFill>
          <p:spPr>
            <a:xfrm>
              <a:off x="4857120" y="3929040"/>
              <a:ext cx="290376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49" descr="laptop"/>
            <p:cNvPicPr/>
            <p:nvPr/>
          </p:nvPicPr>
          <p:blipFill>
            <a:blip r:embed="rId25"/>
            <a:stretch/>
          </p:blipFill>
          <p:spPr>
            <a:xfrm>
              <a:off x="5558040" y="5542560"/>
              <a:ext cx="1245600" cy="9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50" descr="Mobile Phone sm"/>
            <p:cNvPicPr/>
            <p:nvPr/>
          </p:nvPicPr>
          <p:blipFill>
            <a:blip r:embed="rId26"/>
            <a:stretch/>
          </p:blipFill>
          <p:spPr>
            <a:xfrm>
              <a:off x="7037640" y="5322600"/>
              <a:ext cx="376200" cy="83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51" descr="Pocket PC sm"/>
            <p:cNvPicPr/>
            <p:nvPr/>
          </p:nvPicPr>
          <p:blipFill>
            <a:blip r:embed="rId27"/>
            <a:stretch/>
          </p:blipFill>
          <p:spPr>
            <a:xfrm>
              <a:off x="5040720" y="5395680"/>
              <a:ext cx="439560" cy="78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52" descr="tablet"/>
            <p:cNvPicPr/>
            <p:nvPr/>
          </p:nvPicPr>
          <p:blipFill>
            <a:blip r:embed="rId28"/>
            <a:stretch/>
          </p:blipFill>
          <p:spPr>
            <a:xfrm>
              <a:off x="5947560" y="3929040"/>
              <a:ext cx="721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53" descr="blue shadow arrow short"/>
            <p:cNvPicPr/>
            <p:nvPr/>
          </p:nvPicPr>
          <p:blipFill>
            <a:blip r:embed="rId29"/>
            <a:stretch/>
          </p:blipFill>
          <p:spPr>
            <a:xfrm rot="8634600">
              <a:off x="7373520" y="4038480"/>
              <a:ext cx="906480" cy="8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54" descr="blue shadow arrow short"/>
            <p:cNvPicPr/>
            <p:nvPr/>
          </p:nvPicPr>
          <p:blipFill>
            <a:blip r:embed="rId30"/>
            <a:stretch/>
          </p:blipFill>
          <p:spPr>
            <a:xfrm flipH="1" rot="12964800">
              <a:off x="4571640" y="4038840"/>
              <a:ext cx="9064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WordArt 57"/>
          <p:cNvSpPr txBox="1"/>
          <p:nvPr/>
        </p:nvSpPr>
        <p:spPr>
          <a:xfrm>
            <a:off x="2700360" y="476280"/>
            <a:ext cx="3371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КТ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1351440" y="1802880"/>
            <a:ext cx="2388240" cy="14630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я учат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Line 8"/>
          <p:cNvSpPr/>
          <p:nvPr/>
        </p:nvSpPr>
        <p:spPr>
          <a:xfrm flipH="1">
            <a:off x="928800" y="1571760"/>
            <a:ext cx="2928960" cy="1857240"/>
          </a:xfrm>
          <a:prstGeom prst="line">
            <a:avLst/>
          </a:prstGeom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1357200" y="1428840"/>
            <a:ext cx="2500560" cy="2071440"/>
          </a:xfrm>
          <a:prstGeom prst="line">
            <a:avLst/>
          </a:prstGeom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"/>
          <p:cNvSpPr/>
          <p:nvPr/>
        </p:nvSpPr>
        <p:spPr>
          <a:xfrm>
            <a:off x="785880" y="3929040"/>
            <a:ext cx="3814560" cy="23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учусь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BD06663_"/>
          <p:cNvPicPr/>
          <p:nvPr/>
        </p:nvPicPr>
        <p:blipFill>
          <a:blip r:embed="rId1"/>
          <a:stretch/>
        </p:blipFill>
        <p:spPr>
          <a:xfrm>
            <a:off x="4929120" y="3000240"/>
            <a:ext cx="3733920" cy="323856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6"/>
          <p:cNvSpPr/>
          <p:nvPr/>
        </p:nvSpPr>
        <p:spPr>
          <a:xfrm>
            <a:off x="3857760" y="64296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Я слышу – я забыв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я вижу – я запомин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делаю – я усваива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итайская муд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2640" y="2714400"/>
            <a:ext cx="5357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000080" y="57168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лавная цель обучения -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азвитие интеллектуальных и творческих способностей учащихся, нравственных ценностей с тем, чтобы выпускник школы был способен к самореализации, самостоятельному мышлению, принятию важных для себя решени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Picture 11" descr="Notepad Bloc notes 2 копи"/>
          <p:cNvPicPr/>
          <p:nvPr/>
        </p:nvPicPr>
        <p:blipFill>
          <a:blip r:embed="rId1"/>
          <a:stretch/>
        </p:blipFill>
        <p:spPr>
          <a:xfrm>
            <a:off x="7072200" y="571680"/>
            <a:ext cx="1289160" cy="128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2" descr="Notepad Bloc notes копи"/>
          <p:cNvPicPr/>
          <p:nvPr/>
        </p:nvPicPr>
        <p:blipFill>
          <a:blip r:embed="rId2"/>
          <a:stretch/>
        </p:blipFill>
        <p:spPr>
          <a:xfrm>
            <a:off x="250920" y="544500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1000080" y="4572000"/>
            <a:ext cx="58579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новационная деятельность – это процесс разработки, внедрения, освоения и присвоения новшеств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86480" cy="73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ОДХОДЫ К ОБУЧЕНИЮ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Овал 4"/>
          <p:cNvSpPr/>
          <p:nvPr/>
        </p:nvSpPr>
        <p:spPr>
          <a:xfrm>
            <a:off x="714240" y="2500200"/>
            <a:ext cx="3384720" cy="1368360"/>
          </a:xfrm>
          <a:prstGeom prst="ellipse">
            <a:avLst/>
          </a:prstGeom>
          <a:solidFill>
            <a:srgbClr val="cc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мпетент-ност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6"/>
          <p:cNvSpPr/>
          <p:nvPr/>
        </p:nvSpPr>
        <p:spPr>
          <a:xfrm>
            <a:off x="500040" y="5157720"/>
            <a:ext cx="4143240" cy="1440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7"/>
          <p:cNvSpPr/>
          <p:nvPr/>
        </p:nvSpPr>
        <p:spPr>
          <a:xfrm>
            <a:off x="357120" y="907920"/>
            <a:ext cx="3278160" cy="1513080"/>
          </a:xfrm>
          <a:prstGeom prst="ellipse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-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8"/>
          <p:cNvSpPr/>
          <p:nvPr/>
        </p:nvSpPr>
        <p:spPr>
          <a:xfrm>
            <a:off x="5143680" y="1071720"/>
            <a:ext cx="1944360" cy="1368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ъем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5786280" y="2428920"/>
            <a:ext cx="2808360" cy="1441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пользо-вание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11"/>
          <p:cNvSpPr/>
          <p:nvPr/>
        </p:nvSpPr>
        <p:spPr>
          <a:xfrm>
            <a:off x="6286680" y="4869000"/>
            <a:ext cx="2246040" cy="1512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трелка вправо 12"/>
          <p:cNvSpPr/>
          <p:nvPr/>
        </p:nvSpPr>
        <p:spPr>
          <a:xfrm>
            <a:off x="3924360" y="1125360"/>
            <a:ext cx="977760" cy="1132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трелка вправо 14"/>
          <p:cNvSpPr/>
          <p:nvPr/>
        </p:nvSpPr>
        <p:spPr>
          <a:xfrm>
            <a:off x="4788000" y="2852640"/>
            <a:ext cx="977760" cy="113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вправо 15"/>
          <p:cNvSpPr/>
          <p:nvPr/>
        </p:nvSpPr>
        <p:spPr>
          <a:xfrm>
            <a:off x="4859280" y="5157720"/>
            <a:ext cx="1411200" cy="1131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Двойная стрелка вверх/вниз 16"/>
          <p:cNvSpPr/>
          <p:nvPr/>
        </p:nvSpPr>
        <p:spPr>
          <a:xfrm>
            <a:off x="2627280" y="4076640"/>
            <a:ext cx="485640" cy="100800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2104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К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гровые технологии (деловые игры, интеллектуальные  турниры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критического мышлени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«Дебаты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исследовательской и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1360" y="571680"/>
            <a:ext cx="7086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ие принцип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00080" y="1499760"/>
            <a:ext cx="75009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нцип деятельност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     Принцип непрерывност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     Принцип целостного представления              о мире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     Принцип минимакс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     Принцип психологической комфортност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     Принцип вариативност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.     Принцип творчеств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8440" y="857160"/>
            <a:ext cx="76438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. Изменение содержания образов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0040" y="1428480"/>
            <a:ext cx="821520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одержания образования профильной старшей ступени обучени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480" indent="-303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 апробация авторских программ по учебным предметам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480" indent="-303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апробация спецкурсов по выбору, методического сопровождения индивидуального учебного план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480" indent="-303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обация учебников, использующих нетрадиционные методики обучени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480" indent="-303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апробация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х курсов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3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428760" y="0"/>
            <a:ext cx="8286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сс обновления качества образования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9720" y="1071720"/>
            <a:ext cx="7086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2. Изменение форм организации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0080" y="2214360"/>
            <a:ext cx="5929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ряду с классно-урочной внедряются проектная, лекционно-семинарская, блочно-модульная формы, индивидуальный учебный план и др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428760" y="0"/>
            <a:ext cx="8286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сс обновления качества образования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99680" y="142884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блемное обу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0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граммированное обу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0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ллективный способ обу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0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Технологии активизации деятельности учащих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порные сигналы и конспекты,  составление ребусов, кроссвордов, решение биологических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0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рганизация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428760" y="0"/>
            <a:ext cx="8286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сс обновления качества образования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"/>
          <p:cNvSpPr/>
          <p:nvPr/>
        </p:nvSpPr>
        <p:spPr>
          <a:xfrm>
            <a:off x="908280" y="714240"/>
            <a:ext cx="76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Изменение форм и методов обучения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85520" y="142920"/>
            <a:ext cx="6870600" cy="113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ятельностного метод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Овал 3"/>
          <p:cNvSpPr/>
          <p:nvPr/>
        </p:nvSpPr>
        <p:spPr>
          <a:xfrm>
            <a:off x="0" y="1643040"/>
            <a:ext cx="2286000" cy="12859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учебно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трелка вправо 5"/>
          <p:cNvSpPr/>
          <p:nvPr/>
        </p:nvSpPr>
        <p:spPr>
          <a:xfrm>
            <a:off x="2340000" y="2133720"/>
            <a:ext cx="61740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6"/>
          <p:cNvSpPr/>
          <p:nvPr/>
        </p:nvSpPr>
        <p:spPr>
          <a:xfrm>
            <a:off x="2857680" y="1571760"/>
            <a:ext cx="2357280" cy="1569960"/>
          </a:xfrm>
          <a:prstGeom prst="ellipse">
            <a:avLst/>
          </a:prstGeom>
          <a:solidFill>
            <a:srgbClr val="ccff33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рытие «нового»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8"/>
          <p:cNvSpPr/>
          <p:nvPr/>
        </p:nvSpPr>
        <p:spPr>
          <a:xfrm>
            <a:off x="5929200" y="1714680"/>
            <a:ext cx="2714760" cy="12286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 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трелка вправо 9"/>
          <p:cNvSpPr/>
          <p:nvPr/>
        </p:nvSpPr>
        <p:spPr>
          <a:xfrm>
            <a:off x="5003640" y="2133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10"/>
          <p:cNvSpPr/>
          <p:nvPr/>
        </p:nvSpPr>
        <p:spPr>
          <a:xfrm>
            <a:off x="1714680" y="5084640"/>
            <a:ext cx="2570040" cy="1202040"/>
          </a:xfrm>
          <a:prstGeom prst="ellipse">
            <a:avLst/>
          </a:prstGeom>
          <a:solidFill>
            <a:srgbClr val="ccff33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трелка вправо 11"/>
          <p:cNvSpPr/>
          <p:nvPr/>
        </p:nvSpPr>
        <p:spPr>
          <a:xfrm>
            <a:off x="8244000" y="2133720"/>
            <a:ext cx="690480" cy="484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трелка вправо 12"/>
          <p:cNvSpPr/>
          <p:nvPr/>
        </p:nvSpPr>
        <p:spPr>
          <a:xfrm>
            <a:off x="3708360" y="371628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3"/>
          <p:cNvSpPr/>
          <p:nvPr/>
        </p:nvSpPr>
        <p:spPr>
          <a:xfrm>
            <a:off x="428760" y="3286080"/>
            <a:ext cx="3090600" cy="1357200"/>
          </a:xfrm>
          <a:prstGeom prst="ellipse">
            <a:avLst/>
          </a:prstGeom>
          <a:solidFill>
            <a:srgbClr val="3399ff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/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оверкой в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трелка вправо 14"/>
          <p:cNvSpPr/>
          <p:nvPr/>
        </p:nvSpPr>
        <p:spPr>
          <a:xfrm>
            <a:off x="7812000" y="37893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15"/>
          <p:cNvSpPr/>
          <p:nvPr/>
        </p:nvSpPr>
        <p:spPr>
          <a:xfrm>
            <a:off x="4643280" y="3214800"/>
            <a:ext cx="3429000" cy="150012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тренировочны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трелка вправо 16"/>
          <p:cNvSpPr/>
          <p:nvPr/>
        </p:nvSpPr>
        <p:spPr>
          <a:xfrm>
            <a:off x="4356000" y="54450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7"/>
          <p:cNvSpPr/>
          <p:nvPr/>
        </p:nvSpPr>
        <p:spPr>
          <a:xfrm>
            <a:off x="5214960" y="5000760"/>
            <a:ext cx="3500280" cy="1484280"/>
          </a:xfrm>
          <a:prstGeom prst="ellipse">
            <a:avLst/>
          </a:prstGeom>
          <a:solidFill>
            <a:srgbClr val="3399ff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 на 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14:17Z</dcterms:created>
  <dc:creator>Admin</dc:creator>
  <dc:description/>
  <dc:language>en-US</dc:language>
  <cp:lastModifiedBy>Мария</cp:lastModifiedBy>
  <dcterms:modified xsi:type="dcterms:W3CDTF">2019-08-27T18:42:03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