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D521-DE5E-43C7-8D80-7762080A82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дача предметов искусства развивать и  прививать  вкус к прекрасному. Поэтому мы работаем с самым совершенным материалом – шедевр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прос учащимся: Как вы можете прокомментировать это высказывание Гёт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 вы знаете об этих людях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е ли вы уже сегодня предположительно ответить на эти вопросы? Надеюсь, они будут вам понятны более глубоко, когда наш экскурс в историю искусства эпохи Возрож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умайте, какой вид искусства вас больше привлекает, что вы уже знаете, что и о чем хотите узна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ись в группы по интересам. Каждая группа составляет свою программу исследования, намечает маршрут, формы взаимодействия, устанавливает сроки, проводит промежуточные обсуждения, оценивает свою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здается пять групп, в которых будут распределены роли: библиографы, исследователи, оформители, критики и т.д. Важно, чтобы каждый побывал во всех ро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говой штурм проводится во всех группах, затем проводится общее обсуждение, составляется план исследования по конкретным темам, выбор тем определяют учащиеся, посоветовавшись с консульта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тогам первого этапа можно создать Вики-статью,  «Галерею проекта» с использованием социальных фотосервисов, заполнить страничку информационных источников, соблюдая авторское право и все условия  безопасности работы  в Интерн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понимаете эти слова? Приведите примеры из жизни по данным понятиям. Предполагается дискуссия, можно ее провести в форме «Работа в группах», где каждая группа может представить свое видение в различных формах: текст, графическое изображение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ащиеся должны продолжить ряд возможных высказы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жно ли назвать совершенной картину «Сикстинская Мадонна» Рафаэля? Почему? Опишите ваше впечатление. Что отличает это произведение на евангельский сюжет от иконы. Как вы думаете, почему автор именно так изобразил Богоматерь с Младенце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яд предположений дополнят учащие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ъявляется тема проекта, поясняется ее тракто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рождение — качественно новый этап в истории западноевропейской культуры. Суть его — переход от эпохи средневекового видения мира к культуре Нового времени. Переход этот совершался во всех областях мировоззрения и мироощущения человека — в науке, религии, искус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че всего этот «культурный переворот» выразился в изменении целей и способов творческой деятельности. Новые методы приобретения научных знаний и образования, новая изобразительная система в живописи, новые жанры в литературе, новые формы социального поведения. Эпоха Возрождения была не временем воскрешения античной древности, а эпохой рождения принципиально новой европейск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постичь законы, по которым творили представители этой замечательной эпохи! Для этого мы можем совершить увлекательное путешествие в прошлое, которое не обязательно закончится с окончанием проекта, это путешествие может длиться всю жизнь, поскольку, чем больше мы узнаем, понимаем, что знаем очень мал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то вопросы, на которые мы будем искать ответы во время проведени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00A-7B7A-4BFE-864B-013CAE00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43C-F379-4D80-9F95-FA4CE459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7F7-D6F4-4F2D-85D5-F455DB59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F1E-4E5A-48D0-A702-2B28F6A7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22E-9009-4426-BD8A-8D4A79BF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3792-678F-485B-B4D3-60100F12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804-0459-4670-9AB0-41D6DCE7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D2E-A193-47C6-959C-AA3DB422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2773-B57B-4156-8585-1976A5B0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5F0-DDE9-45C3-889D-CADF4F21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F48-70C8-4461-AC48-6CAF1EE8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91C-2FB6-4ED8-B0B1-6EE07B84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EA7B-ED24-4EA5-9A7D-5BA9E677C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mallbay.ru/images/da_vinci0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Arial"/>
              </a:rPr>
              <a:t>Вкус развивается не на посредственном, а на самом совершенном материа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                                              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Гё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Микеланджело. Фрагмент фрески  Дж. Вазари"/>
          <p:cNvPicPr/>
          <p:nvPr/>
        </p:nvPicPr>
        <p:blipFill>
          <a:blip r:embed="rId1"/>
          <a:stretch/>
        </p:blipFill>
        <p:spPr>
          <a:xfrm>
            <a:off x="152280" y="228600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228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келандж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76720" y="914400"/>
            <a:ext cx="3117600" cy="4091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248520" y="3048120"/>
            <a:ext cx="2689200" cy="3659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00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2286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фаэ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Учебны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Каковы идеалы гуманизма в искусстве итальянского Ренессан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Где искать корни эпохи Возрожд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Как рождался новый тип эстетического созн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Учебны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Яркие представители разных видов искусства эпохи Возрожд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Архите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Изобразительное искус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Му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086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Участник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905120"/>
            <a:ext cx="3047760" cy="129528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752480"/>
            <a:ext cx="3352680" cy="144792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572000"/>
            <a:ext cx="3048120" cy="129528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4724280"/>
            <a:ext cx="3505320" cy="129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2362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Философ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22860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Истор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0292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Искусствов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5181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Музыков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124080"/>
            <a:ext cx="3429000" cy="129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35812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Литературов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609480"/>
            <a:ext cx="1219320" cy="99072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762120"/>
            <a:ext cx="1143000" cy="91440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295280" y="1676520"/>
            <a:ext cx="6172200" cy="22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сь в группы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981080" y="4572000"/>
            <a:ext cx="5410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интересам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Мозговой штур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Что будем 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С чего начн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Какую тему выбер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Как будем действ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Кого привлечем в качестве консультантов и помощн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В какой форме представим матери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Первый этап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Сбор матери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Определяем формы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Проводим отбор материала с учетом медиа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981080" y="3505320"/>
            <a:ext cx="5105520" cy="27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чнем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1" name="" descr="Идеальная голова"/>
          <p:cNvPicPr/>
          <p:nvPr/>
        </p:nvPicPr>
        <p:blipFill>
          <a:blip r:embed="rId1"/>
          <a:stretch/>
        </p:blipFill>
        <p:spPr>
          <a:xfrm>
            <a:off x="3200400" y="457200"/>
            <a:ext cx="26416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Что есть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совершенств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Что есть идеа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Что вы можете назвать совершенным (идеальным)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ир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Художественные шедевр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41972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Сикстинская мадонна. Рафаель"/>
          <p:cNvPicPr/>
          <p:nvPr/>
        </p:nvPicPr>
        <p:blipFill>
          <a:blip r:embed="rId1"/>
          <a:stretch/>
        </p:blipFill>
        <p:spPr>
          <a:xfrm>
            <a:off x="2362320" y="0"/>
            <a:ext cx="484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Как приблизиться к идеал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Узнать побольше о художественных произведениях и их авто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Изучить приемы работы творцов искусства и художественные средства изобразитель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оникнуть в тайны эпохи и узнать, что послужило появлению таких шедевр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Тема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600200"/>
            <a:ext cx="69343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Художественные особенности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95280" y="4267080"/>
            <a:ext cx="6705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эпохи Возрожде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743200" y="2908440"/>
            <a:ext cx="3733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ультур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Эпоха Возро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это вершина, с которой мы обозреваем мировую культуру в развитии, с жизнью и творчеством знаменитых поэтов, художников, мыслителей, писателей, композиторов, с описанием выдающихся созданий искус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Леонардо да Винчи Мона Лиза (Джоконда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22860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Основополагающи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480" y="1371600"/>
            <a:ext cx="8077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приблизиться к идеалу?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240012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Проблемны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Близки ли ценности эпохи Возрождения современному челове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Каков нравственный идеал человека эпохи Возрожд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Кто такие титаны Возрождения. Что мы знаем о н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1-19T20:14:05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