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01D-D24A-4787-89E6-F215A9F8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492-A864-4C48-B503-8E764DC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60B-6C0B-49C2-9178-C6468994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B79-AF43-438C-8C83-9C422397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48ED-DEC5-415C-8225-E9CA5FE8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4294-74CF-40BE-989F-C6365B3E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AB3A-AE37-4ECD-BE4D-F12EE44F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15EA-8D0F-4A43-9F41-156DBB70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9AD7-F314-4665-A0E6-5440D445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CE31-653D-464D-BE86-C37486C4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3E62-1D62-4832-BF85-A599E97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559-0FE1-40FE-ADF4-1FA19B5C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3C29-D7F6-4365-8FE5-0D9F6195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07A0-B39A-4E19-AA08-29A5161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860B-1874-473F-AE84-897B9B12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CD6-CA6B-49A2-9D15-7B575D77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FEAB-7BA8-4211-8D91-8D213049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2236-8A1E-40B5-A8D0-6F131D1F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AD75-D663-4A3E-A239-333C3008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8B0D-0B1C-4DED-B838-0F1BFDEA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A2CA-2F3D-4122-AF49-1E9E6684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3722-CF07-4B98-963C-E79C691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F8C-110E-4030-9509-CE85B8F9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22E2-473F-4398-8C1C-2184B0C2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9B7E-B95E-4E79-8D55-B4D8CAF4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215A-842A-4DB6-BE4E-13EAD5BC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DE33-0A98-43C1-A64D-B4D84D4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6614-B6E5-4FEA-94BB-160F7375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9DDE-D0C1-45A8-9AC0-2151F43E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A963-8DA7-480F-8D7E-4AE49B41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C1EC2-8CE1-4F1A-ADDC-88376849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8393C-81D9-4C30-A8B8-15CCF39D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8DB86-1748-4102-BFAA-47684B49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373-CAAC-49E5-A89B-E95DBED5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820F-E277-4AEA-9C35-69A0B9A7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37BF5-8A1C-438E-8C4D-D6AD9318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FBCC-6460-434C-AFAA-91EA4C13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80E4-863D-47FA-8824-D8B555F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311D0-58AD-4AAC-9494-0B04629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03832-3B01-4282-923D-CF565CEC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7D730-28BA-47B4-AB70-F0282B09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2598-1D1A-4466-8BEA-3950EB68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05C8-E68B-4542-BD48-415E0FEA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9647B-D697-4CCB-9A3F-B5C939F6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87A-21ED-4198-8A68-74F32931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57F3-9576-440D-9503-5DCB4C0C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EA42-1922-4071-A178-098B2C21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EC48-FADD-4359-BD75-8F44984C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6A6BC-610F-4E59-9C39-5699D9BF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1F7F-D06B-433E-80D0-E694E5D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96B3F-67C9-4B2E-9882-55182D06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348F1-D856-446F-862D-6E800BCF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B98E-74B4-44A4-9809-F4DAF123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C5163-75EB-4C84-91AD-4D405243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4153C-9061-4982-B84E-1D908297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A2C-8D0E-4502-8B8A-A6E31D09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66CD3-8D50-447D-97E2-7F028065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C92F9-9843-42E4-A259-ABDEC752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72785-1DD5-43A3-8929-D8FB97E4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277C2-24D4-43C9-866E-303FEE1C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BD259-C073-47F5-AC4B-EAB7B75D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D5604-FFFF-4110-9214-26926F8D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F65A-B24F-49A7-8D6A-A32F7BE6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93CB8-18B5-407F-B957-9DFF6C3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9FBB6-2A78-405E-B980-D54FE85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C8A65-4EB3-44DF-ABB2-D610E275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72F-9735-497B-A39A-F44B18EC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27FCC-65C4-4A92-88F4-CF9CA661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D04EA-DA79-4A4F-8501-4F0D8941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3C958-4242-4420-99FA-0A890426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496B2-4466-444C-A7D8-0956FB60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A588E-D9D4-4E66-B048-93C24A93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EC008-C3BA-47DA-B7E8-E9219739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C6B6-5B9D-4549-909D-3E912BBF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24F5F-00E1-4EEB-8AC8-9B6DDDA6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A2ED8-FB61-4989-A2EA-19890CE6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666C3-8351-4CE5-B774-F7E9AE8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B50-1B63-4768-BF8E-0D7B180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A92B-3208-436A-BB9F-31F9C9DE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D3E4E-9512-4EDD-86F5-42F369C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9493-2C6A-4CD4-9458-D13DB856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0ABF9-94AC-4731-8447-7CACCEDB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130E-E604-450D-963A-79EB2E4A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E6D51-FEAF-4CEF-90A6-37614A50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E524-7D23-4B09-8C01-786334B6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20523-4A64-4AA1-BF86-6316F90F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83ABC-B6C4-4FFF-97FD-FF9ADDFF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D984-691F-411A-BC4E-B2457E7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395-09FA-4BE5-9DDA-90571D70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704E9-0319-4476-AFC9-BBF2DD4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D9FF8-DB69-4207-AE28-B566C2E3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C0DE6-9DE0-42DD-A563-21E6C44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F0D51-0DEE-435B-97B1-9A4B97C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42641-F278-414E-A1AB-FDA10520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9F8D-2DE8-4AE5-A604-6497E63A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8AFFF-748D-47B4-928A-6BB1DD01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83C2-69EF-4A9E-BD26-1AC25E7BC7A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8096-4A07-4201-9733-E07B7D47DF2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6D3C-DC61-4500-93D7-B6C65BCBFA52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ый треугольник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Равнобедренный треугольник 10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2E28-C5B5-4A4F-8677-1415A7FA6E1C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497F-AE79-4DEE-8854-343F910BA9F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9657-530D-467D-8E05-EBDA15E09917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BBA3-1E3F-46F8-BC61-E11E5B45CF61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олилиния 7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5C8F-5EE8-4E9D-AC92-74D3FC28FC5E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00680" cy="21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КАЛАШНИКОВ: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человек и </a:t>
            </a:r>
            <a:r>
              <a:rPr b="1" lang="ru-RU" sz="4600" spc="-1" strike="noStrike">
                <a:solidFill>
                  <a:srgbClr val="000000"/>
                </a:solidFill>
                <a:latin typeface="Franklin Gothic Heavy"/>
              </a:rPr>
              <a:t>автомат.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1" name="Содержимое 5" descr="200px-Michael_Kalashikov.jpg"/>
          <p:cNvPicPr/>
          <p:nvPr/>
        </p:nvPicPr>
        <p:blipFill>
          <a:blip r:embed="rId1"/>
          <a:stretch/>
        </p:blipFill>
        <p:spPr>
          <a:xfrm>
            <a:off x="5364000" y="404640"/>
            <a:ext cx="3106800" cy="40071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571680" y="2857680"/>
            <a:ext cx="4535280" cy="3315960"/>
          </a:xfrm>
          <a:prstGeom prst="rect">
            <a:avLst/>
          </a:prstGeom>
          <a:ln w="57240">
            <a:solidFill>
              <a:srgbClr val="8b7606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876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Franklin Gothic Book"/>
              </a:rPr>
              <a:t>Автомат Калашникова той или иной модели является самым популярным оружием в компьютерных играх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67" name="Содержимое 3" descr="180px-Rifle_AKS_MON.jpg"/>
          <p:cNvPicPr/>
          <p:nvPr/>
        </p:nvPicPr>
        <p:blipFill>
          <a:blip r:embed="rId1"/>
          <a:stretch/>
        </p:blipFill>
        <p:spPr>
          <a:xfrm>
            <a:off x="395280" y="3500280"/>
            <a:ext cx="3414600" cy="1611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logomt"/>
          <p:cNvPicPr/>
          <p:nvPr/>
        </p:nvPicPr>
        <p:blipFill>
          <a:blip r:embed="rId2"/>
          <a:stretch/>
        </p:blipFill>
        <p:spPr>
          <a:xfrm>
            <a:off x="5940360" y="2852640"/>
            <a:ext cx="284328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Содержимое 3" descr="180px-USMC_checking_rifle.JPEG"/>
          <p:cNvPicPr/>
          <p:nvPr/>
        </p:nvPicPr>
        <p:blipFill>
          <a:blip r:embed="rId1"/>
          <a:stretch/>
        </p:blipFill>
        <p:spPr>
          <a:xfrm>
            <a:off x="2230560" y="2847960"/>
            <a:ext cx="3563640" cy="3111480"/>
          </a:xfrm>
          <a:prstGeom prst="rect">
            <a:avLst/>
          </a:prstGeom>
          <a:ln w="0">
            <a:noFill/>
          </a:ln>
        </p:spPr>
      </p:pic>
      <p:sp>
        <p:nvSpPr>
          <p:cNvPr id="370" name="WordArt 6"/>
          <p:cNvSpPr txBox="1"/>
          <p:nvPr/>
        </p:nvSpPr>
        <p:spPr>
          <a:xfrm>
            <a:off x="2050920" y="189000"/>
            <a:ext cx="5185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мат Калашников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ходит в вооружение    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мии РФ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>
            <a:off x="428760" y="285840"/>
            <a:ext cx="518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дели автоматов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лашников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2" name="Picture 16" descr="144000301"/>
          <p:cNvPicPr/>
          <p:nvPr/>
        </p:nvPicPr>
        <p:blipFill>
          <a:blip r:embed="rId5"/>
          <a:stretch/>
        </p:blipFill>
        <p:spPr>
          <a:xfrm>
            <a:off x="6119640" y="122400"/>
            <a:ext cx="2853000" cy="2828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6"/>
          <a:stretch/>
        </p:blipFill>
        <p:spPr>
          <a:xfrm>
            <a:off x="4754520" y="3359160"/>
            <a:ext cx="4614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7" descr="at44"/>
          <p:cNvPicPr/>
          <p:nvPr/>
        </p:nvPicPr>
        <p:blipFill>
          <a:blip r:embed="rId1"/>
          <a:stretch/>
        </p:blipFill>
        <p:spPr>
          <a:xfrm>
            <a:off x="250920" y="260280"/>
            <a:ext cx="6191280" cy="1571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ak46_1"/>
          <p:cNvPicPr/>
          <p:nvPr/>
        </p:nvPicPr>
        <p:blipFill>
          <a:blip r:embed="rId2"/>
          <a:stretch/>
        </p:blipFill>
        <p:spPr>
          <a:xfrm>
            <a:off x="2195640" y="1916280"/>
            <a:ext cx="6191280" cy="1847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as44"/>
          <p:cNvPicPr/>
          <p:nvPr/>
        </p:nvPicPr>
        <p:blipFill>
          <a:blip r:embed="rId3"/>
          <a:stretch/>
        </p:blipFill>
        <p:spPr>
          <a:xfrm>
            <a:off x="468360" y="3933720"/>
            <a:ext cx="6191280" cy="17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akmn"/>
          <p:cNvPicPr/>
          <p:nvPr/>
        </p:nvPicPr>
        <p:blipFill>
          <a:blip r:embed="rId1"/>
          <a:stretch/>
        </p:blipFill>
        <p:spPr>
          <a:xfrm>
            <a:off x="2500200" y="2500200"/>
            <a:ext cx="6191280" cy="15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akms"/>
          <p:cNvPicPr/>
          <p:nvPr/>
        </p:nvPicPr>
        <p:blipFill>
          <a:blip r:embed="rId2"/>
          <a:stretch/>
        </p:blipFill>
        <p:spPr>
          <a:xfrm>
            <a:off x="395280" y="189000"/>
            <a:ext cx="6191280" cy="1952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ab46-1"/>
          <p:cNvPicPr/>
          <p:nvPr/>
        </p:nvPicPr>
        <p:blipFill>
          <a:blip r:embed="rId3"/>
          <a:stretch/>
        </p:blipFill>
        <p:spPr>
          <a:xfrm>
            <a:off x="324000" y="4365720"/>
            <a:ext cx="619128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famas_f1part"/>
          <p:cNvPicPr/>
          <p:nvPr/>
        </p:nvPicPr>
        <p:blipFill>
          <a:blip r:embed="rId1"/>
          <a:stretch/>
        </p:blipFill>
        <p:spPr>
          <a:xfrm>
            <a:off x="3786120" y="357120"/>
            <a:ext cx="4973760" cy="33829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4"/>
          <p:cNvSpPr/>
          <p:nvPr/>
        </p:nvSpPr>
        <p:spPr>
          <a:xfrm>
            <a:off x="5580000" y="2068560"/>
            <a:ext cx="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85840" y="357120"/>
            <a:ext cx="2324160" cy="34560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9"/>
          <p:cNvSpPr/>
          <p:nvPr/>
        </p:nvSpPr>
        <p:spPr>
          <a:xfrm>
            <a:off x="1357200" y="4286160"/>
            <a:ext cx="714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луги Михаила Калашникова были отмечены двумя званиями Героя Социалистического Труда и орденами «Андрея Первозванног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м году знаменитому конструктору исполнится 91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56960" cy="1523880"/>
          </a:xfrm>
          <a:prstGeom prst="rect">
            <a:avLst/>
          </a:prstGeom>
          <a:ln w="0">
            <a:noFill/>
          </a:ln>
        </p:spPr>
      </p:pic>
      <p:pic>
        <p:nvPicPr>
          <p:cNvPr id="388" name="Содержимое 3" descr="150px-Michail_Timofejewitsch_Kalaschnikow_Izhevsk.jpg"/>
          <p:cNvPicPr/>
          <p:nvPr/>
        </p:nvPicPr>
        <p:blipFill>
          <a:blip r:embed="rId2"/>
          <a:stretch/>
        </p:blipFill>
        <p:spPr>
          <a:xfrm>
            <a:off x="3193920" y="1835280"/>
            <a:ext cx="2689200" cy="47242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"/>
          <p:cNvSpPr/>
          <p:nvPr/>
        </p:nvSpPr>
        <p:spPr>
          <a:xfrm>
            <a:off x="5586120" y="628668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Скульптор  Владимир Куроч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6840" y="2917440"/>
            <a:ext cx="746748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9120" indent="-3099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одился в многодетной крестьянской семье в селе Курья Алтайского края. Он был семнадцатым ребенком в многодетной крестьянской семье, в которой родилось девятнадцать, а выжило восемь дет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120" indent="-3099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детских лет интересовался техникой, с интересом исследуя устройство и принципы работы разных механизмов. В школе увлекался физикой, геометрией и литературо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120" indent="-3099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 лет покинул родное село и переехал в Казахстан, где начал работать на станции железной дороги. Общение с машинистами, токарями, слесарями депо укрепило интерес Михаила к технике, и зародило желание сделать что-нибудь самом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120" indent="-3099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120" indent="-3099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120" indent="-3099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2143080" y="357120"/>
            <a:ext cx="44211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472572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Franklin Gothic Book"/>
              </a:rPr>
              <a:t>Впервые познакомился с устройством оружия, разобрав собственными руками пистолет браунинг.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638520" cy="32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Содержимое 3" descr="150px-Mikhail_Kalashnikov.jpg"/>
          <p:cNvPicPr/>
          <p:nvPr/>
        </p:nvPicPr>
        <p:blipFill>
          <a:blip r:embed="rId1"/>
          <a:stretch/>
        </p:blipFill>
        <p:spPr>
          <a:xfrm>
            <a:off x="6119640" y="262080"/>
            <a:ext cx="2738520" cy="3644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5472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38 Михаил Калашников был призван в ряды Красной Армии, окончил школу механиков-водителей та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армейской службе Калашников проявил себя как изобретатель. Талантливый юноша был направлен Г.К. Жуковым в Москву, а оттуда в Ленинград для внедрения изобретений в произ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началом Великой Отечественной войны старший сержант Калашников участвовал в боях как командир танка. В октябре 1941 в боях под Брянском был тяжело ранен и конту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госпитале Калашников задумал конструкцию пистолета-пулемета. Получив шестимесячный отпуск по состоянию здоровья, приехал на станцию Матай и в мастерских депо изготовил пробный образ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Содержимое 3" descr="300px-AK47.jpg"/>
          <p:cNvPicPr/>
          <p:nvPr/>
        </p:nvPicPr>
        <p:blipFill>
          <a:blip r:embed="rId2"/>
          <a:stretch/>
        </p:blipFill>
        <p:spPr>
          <a:xfrm rot="2153400">
            <a:off x="5927760" y="4970160"/>
            <a:ext cx="316080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Содержимое 6" descr="180px-LCpl_Cheema_on_the_AK-47.JPG"/>
          <p:cNvPicPr/>
          <p:nvPr/>
        </p:nvPicPr>
        <p:blipFill>
          <a:blip r:embed="rId1"/>
          <a:stretch/>
        </p:blipFill>
        <p:spPr>
          <a:xfrm>
            <a:off x="285840" y="3857760"/>
            <a:ext cx="3236760" cy="24289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352" name="Содержимое 7" descr="290px-Afgan1987GardezUAZ452.jpg"/>
          <p:cNvPicPr/>
          <p:nvPr/>
        </p:nvPicPr>
        <p:blipFill>
          <a:blip r:embed="rId2"/>
          <a:stretch/>
        </p:blipFill>
        <p:spPr>
          <a:xfrm>
            <a:off x="285840" y="928800"/>
            <a:ext cx="3279600" cy="22860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4"/>
          <p:cNvSpPr/>
          <p:nvPr/>
        </p:nvSpPr>
        <p:spPr>
          <a:xfrm>
            <a:off x="3786120" y="285840"/>
            <a:ext cx="45720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й случай применения АК на мировой арене произошёл в 1956 году, в ходе подавления восстания в Венгрии. АК хорошо зарекомендовал себя в городских боях, благодаря своей мощи, и компак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 также стал одним из символов Вьетнамской войны. В неблагоприятных условиях джунглей другие автоматы быстро выходили из строя, а их ремонт был сложен. Южновьетнамская армия и американцы боялись АК, потому что более тяжёлые пули русского автомата из-за стального сердечника не отклонялись при ударе о листву джунглей в отличие от НАТОвского оруж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на в Афганистане дала начало распространению АК по всему миру. За всю историю производства АК было выпущено около 100 миллионов экземпляров этого оруж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42560" y="428760"/>
            <a:ext cx="578628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мат входит в «Книгу рекордов Гиннеса» — он и его модификации занимают 15 % всех единиц стрелкового оружия в мире, являясь самым распространённым стрелковым оруж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 занял первое место в списке самых значимых изобретений XX века, по версии французского журнала «Либерасьон» (оставив позади атомное оружие и космические технологи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2" descr="logokalash"/>
          <p:cNvPicPr/>
          <p:nvPr/>
        </p:nvPicPr>
        <p:blipFill>
          <a:blip r:embed="rId1"/>
          <a:stretch/>
        </p:blipFill>
        <p:spPr>
          <a:xfrm rot="2068200">
            <a:off x="5576400" y="768240"/>
            <a:ext cx="331164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Franklin Gothic Book"/>
              </a:rPr>
              <a:t>Автомат Калашникова используется в гербах некоторых стран</a:t>
            </a:r>
            <a:endParaRPr b="0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57" name="Содержимое 3" descr="к1.png"/>
          <p:cNvPicPr/>
          <p:nvPr/>
        </p:nvPicPr>
        <p:blipFill>
          <a:blip r:embed="rId1"/>
          <a:stretch/>
        </p:blipFill>
        <p:spPr>
          <a:xfrm>
            <a:off x="4903920" y="1641600"/>
            <a:ext cx="2617560" cy="26924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5"/>
          <p:cNvSpPr/>
          <p:nvPr/>
        </p:nvSpPr>
        <p:spPr>
          <a:xfrm>
            <a:off x="932040" y="242892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рб Мозамб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5856480" y="457200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рб Буркина-Фа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428760" y="2928960"/>
            <a:ext cx="3493800" cy="37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Franklin Gothic Book"/>
              </a:rPr>
              <a:t>Среди оружия, конфискованного у сомалийских пиратов есть и автомат Калашникова</a:t>
            </a:r>
            <a:endParaRPr b="0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62" name="Содержимое 3" descr="н.jpg"/>
          <p:cNvPicPr/>
          <p:nvPr/>
        </p:nvPicPr>
        <p:blipFill>
          <a:blip r:embed="rId1"/>
          <a:stretch/>
        </p:blipFill>
        <p:spPr>
          <a:xfrm>
            <a:off x="2311560" y="3286080"/>
            <a:ext cx="3457440" cy="26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Герб Зимбабве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286160" cy="377208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3"/>
          <p:cNvSpPr/>
          <p:nvPr/>
        </p:nvSpPr>
        <p:spPr>
          <a:xfrm>
            <a:off x="5000760" y="2000160"/>
            <a:ext cx="371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которых странах Африки детям дают имя «Калаш» в честь авто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3:21:45Z</dcterms:created>
  <dc:creator>Дмитрий</dc:creator>
  <dc:description/>
  <dc:language>en-US</dc:language>
  <cp:lastModifiedBy>Елена Николаевна</cp:lastModifiedBy>
  <dcterms:modified xsi:type="dcterms:W3CDTF">2019-11-13T07:51:25Z</dcterms:modified>
  <cp:revision>28</cp:revision>
  <dc:subject/>
  <dc:title>Слайд 1</dc:title>
</cp:coreProperties>
</file>