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3.png" ContentType="image/png"/>
  <Override PartName="/ppt/media/image22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ED6-12BE-489E-95AE-E27E9D17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A86-F88C-4949-9FE6-4A38B545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9F0-4FEC-45A3-939D-F03F76A0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000-F229-494C-8C44-F8E311F5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A6A2-74FE-4E95-8209-3963DE75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31E5-BE2E-4D11-B2D5-2800E42C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496C-1E58-4F92-AAED-38E616D5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8FEB-2971-4C2E-B08D-93DBFF94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AB96-9FF6-4321-99E7-AF634BE9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BCD0-A3C3-4544-800C-8425A220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0787-5DD8-40DE-9E4B-B85E8FFD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5D2-914F-4F94-831E-7B5B2B4F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A879-D202-4983-975B-7A01089B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D36D-EEA7-4950-910A-1B795BF5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25B8-F978-4062-BB7C-737EA1B2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9CC9-A003-465A-B694-261A3620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AC60-D844-4C30-83EC-87505B64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EFAA-D327-4A38-8A09-5E56160E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4501-B407-44C7-934D-E6113598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8DC38-8E0C-492A-8B4A-802A8506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9F160-CDF5-4B7E-BDB6-347DF898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9E3F4-B1DA-4DFA-9352-C75F7DA4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5C5-FB95-4443-97CF-7ECD03F5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13863-ED9D-4A92-8F37-41A0EA50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0C3E-8CB5-4E49-A4F1-A5144BEF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9D479-E58C-41F0-A272-A8B26DE0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1C2C-2B51-41B6-9AF3-C75C6AA2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C37EA-C1C9-4D9E-B046-5C620B2F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780A3-3019-4DA8-93E8-FC3A3E77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898FB-69B3-4F8E-B735-D65B26D4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7340C-C233-4188-81F8-1A7ECE46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FE6DE-9EFB-4792-AAD8-50CF934E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64F42-8054-42D6-B705-99C4369E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45B-325F-4B55-857C-B69E9C8E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5A809-DD8C-42C3-8490-5DE89604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B58FE-3F36-4FF1-A0D6-CFAAFBD8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CDA08-429E-4FFF-A8B0-51D1A6F4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FC23B-A9E3-4360-A2EC-5451C152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92AD5-78B7-416F-8605-A63D28E7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963BD-8176-45EC-A714-FD0AA544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3C61D-F740-4622-97E0-99011022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D17B4-DC6C-49D7-BC1B-D42105A9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0610E-8964-45E6-B2DA-E342FDCF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4D2C1-9BDC-44B8-9C33-63508335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5A6-0B22-4CDC-8AF4-6BE049BD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ED72C-7AA3-4441-ADAD-C5FE3C24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132CD-EB25-4233-AEBF-01D4D32C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F39DD-C478-4546-AEDA-B47AC6C4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9B6DC-7D6D-43FC-B885-87EB84FE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DCCD7-0A23-41D0-AF44-1D7299F9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642C7-87E7-4865-BB2F-4153B42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641E9-6B22-446B-9B72-419A9FC7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AFED1-A1D0-4188-95A1-B8121082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DFBC4-9131-4F24-8046-638C88A2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E6CA8-8D7E-4D58-96D0-DFB4C1BF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A05-F0B4-4F8D-B0E1-8CD4E139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0A930-925E-4A42-A173-5BEE0D42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652-211A-4245-83B5-DD890E09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1D6-8FCC-421B-A8C6-F46ECFA5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FFF-ADAF-4FF6-B3BD-2C5FA63C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ED0E-0C5B-4077-944C-B768243E744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C733-44AA-48CC-A0DA-CF62B5DE4E2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36A2-7C1C-4B25-9A42-26BF5163F75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D2B6-B8D0-42FA-9A71-2937C9D8A67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7FF0-02F5-4142-A8A5-CCE56CCA014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77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Verdana"/>
              </a:rPr>
              <a:t>Великие дипломаты в истории нашего кра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езентация учащих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Б клас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8254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ниципальное автономное общеобразовательное учреждение «Средняя общеобразовательная школа №65 г.Улан-Удэ имени Г.С.Асеев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7" descr="hello_html_8a8541b"/>
          <p:cNvPicPr/>
          <p:nvPr/>
        </p:nvPicPr>
        <p:blipFill>
          <a:blip r:embed="rId1"/>
          <a:stretch/>
        </p:blipFill>
        <p:spPr>
          <a:xfrm>
            <a:off x="1403280" y="404640"/>
            <a:ext cx="6335640" cy="4618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0" name="Text Box 8"/>
          <p:cNvSpPr/>
          <p:nvPr/>
        </p:nvSpPr>
        <p:spPr>
          <a:xfrm>
            <a:off x="755640" y="508464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HY그래픽M"/>
              </a:rPr>
              <a:t>А уже в 1690 г. острог был переименован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HY그래픽M"/>
              </a:rPr>
              <a:t>в город Верхнеудинс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936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02920" y="1341360"/>
            <a:ext cx="4213080" cy="4680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Verdana"/>
              </a:rPr>
              <a:t>Первый кавалер ордена Святого Андрея Первозванного. Головин особенно замечателен тем, что, несмотря на солидный возраст, успешно действовал в новом духе, когда гораздо более молодые сотрудники Петра только ещё тому училис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5076720" y="1125360"/>
            <a:ext cx="383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991280" cy="12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 Black"/>
              </a:rPr>
              <a:t>Владиславич-Рагузинский Савва Лукич (</a:t>
            </a:r>
            <a:r>
              <a:rPr b="1" lang="ru-RU" sz="3600" spc="-1" strike="noStrike">
                <a:solidFill>
                  <a:srgbClr val="660033"/>
                </a:solidFill>
                <a:latin typeface="Verdana"/>
              </a:rPr>
              <a:t>1669г-1738г)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95280" y="2491920"/>
            <a:ext cx="4464000" cy="381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аф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а́вва Луки́ч Владиславич- Рагузи́нский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 рагузский негоциант, состоявший на русской дипломатической службе. Возглавлял русское посольство в Китай, основал город Троицкосавск, ныне Кя́хта, подписав Буринский (1727 г) и Кяхтинский (1728 г) трактаты, ставшими основой русско-китайских отнош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Рисунок 3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814920" cy="407196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682560" y="274680"/>
            <a:ext cx="7778880" cy="1573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c7c694d041852671ef64b8937b631c62"/>
          <p:cNvPicPr/>
          <p:nvPr/>
        </p:nvPicPr>
        <p:blipFill>
          <a:blip r:embed="rId2"/>
          <a:stretch/>
        </p:blipFill>
        <p:spPr>
          <a:xfrm>
            <a:off x="539640" y="1700280"/>
            <a:ext cx="8236080" cy="48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66880" y="225000"/>
            <a:ext cx="6618240" cy="112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Arial Black"/>
              </a:rPr>
              <a:t>Биография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099280" cy="4751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Принадлежал к сербскому дворянскому роду из Рагузской республики (отсюда прозвище «Рагузинский»). В юношеские годы занимался торговлей во Франции, Испании и Венеции. Российскую дипломатическую службу начал в Константинополе, где выполнял неофициальные поручения В. В. Голицина и Е. И. Украинцева. В 1703 г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Впервые посетил Москву; Пётр I выдал ему жалованную грамоту на десять лет, которой предоставил право свободной торговли в России с уплатой пошлины наравне с русскими купцами, монополию на продажу в течение трёх лет лисьего меха из Сибирского приказа, право ввозить в Россию и вывозить из неё товары. В 1703—1708 гг. был тайным агентом украинского гетмана И. Мазепы в Турц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6880" y="-672480"/>
            <a:ext cx="661824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26560" y="620280"/>
            <a:ext cx="7596360" cy="5697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Обосновался в Москве в 1708 году. Инициировал чеканку в России разменной медной монеты. В 1710 году получил чин надворного советника. В 1711 году — представитель России в Черногории и Молдавии. Поддерживал идею Прутского похода с целью освобождения славян Балканского полуострова от турецкого иг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В 1716—1722 гг. в качестве представителя Петра I вёл переговоры в Риме и Венеции. По наставлению Петра I заказал в Италии скульптуры для Летнего сада, отправил в Санкт-Петербург итальянских специалистов, а также инструменты и приборы для мастерской Петра; получил в подарок от папы античную статую Венеры Таврической (ныне хранится в Эрмитаже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В 1725 году был назначен полномочным послом России в Цинском Китае, выполнил свою миссию с высоким искусством, заключив вначале Буринский трактат, а затем на его основании Кяхтинский договор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По возвращении в 1728 году в Петербург был награждён орденом Святого Александра Невского и произведён в действительные статские советники. Составил для российского правительства подробную записку о Цинской империи. Позднее участвовал в различных переговорах и обсуждениях проблем российско-цинской торговл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936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02920" y="1844640"/>
            <a:ext cx="4716360" cy="4608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иллинг - русский дипломат, историк- востоковед и изобретатель-электротехник. Балтийский немец по происхождению. Барон фон Шиллинг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ужил в Министерстве иностранных дел. В конце 1828 года Шиллинг был избран в члены-корреспонденты Петербургской академии наук. Участвовал в научной экспедиции в Восточную Сибирь (1830—1832), собрал ценную коллекцию тибето-монгольских литературных памя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5435640" y="1989000"/>
            <a:ext cx="3159000" cy="41878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267" name="TextBox 5"/>
          <p:cNvSpPr/>
          <p:nvPr/>
        </p:nvSpPr>
        <p:spPr>
          <a:xfrm>
            <a:off x="468360" y="333360"/>
            <a:ext cx="827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alibri"/>
                <a:ea typeface="Arial"/>
              </a:rPr>
              <a:t>Павел Львович Шиллин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alibri"/>
                <a:ea typeface="Arial"/>
              </a:rPr>
              <a:t>(1786 – 1837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1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1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1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itle 1"/>
          <p:cNvSpPr/>
          <p:nvPr/>
        </p:nvSpPr>
        <p:spPr>
          <a:xfrm>
            <a:off x="1338120" y="0"/>
            <a:ext cx="64310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АВЕЛ ЛЬВОВИЧ ШИЛЛИН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(Шиллинг фон Канштадт)</a:t>
            </a:r>
            <a:br>
              <a:rPr sz="13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Content Placeholder 2"/>
          <p:cNvSpPr/>
          <p:nvPr/>
        </p:nvSpPr>
        <p:spPr>
          <a:xfrm>
            <a:off x="0" y="4581360"/>
            <a:ext cx="49323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Прямоугольник 10"/>
          <p:cNvSpPr/>
          <p:nvPr/>
        </p:nvSpPr>
        <p:spPr>
          <a:xfrm>
            <a:off x="449280" y="76500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Шиллинг - русский дипломат, историк- востоковед и изобретатель-электротехник. Балтийский немец по происхождению. Барон фон Шиллинг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ужил в Министерстве иностранных дел. Участвовал в сражениях во время Отечественной войны 1812 года. За проявленный в боях героизм был награждён орденами и саблей «За храбрость». В конце 1828 года Шиллинг был избран в члены-корреспонденты Петербургской академии наук. Участвовал в научной экспедиции в Восточную Сибирь (1830—1832), собрал ценную коллекцию тибето-монгольских литературных памятников. Установил 21 октября 1832 года в Санкт-Петербурге первый в истории электромагнитный телеграф. Прибор, созданный Шиллингом, имел стрелочную индикацию передаваемых по электрическим проводам сигналов, которые легко расшифровывались в буквы оператором приёмного телеграфного аппарата, согласно разработанной Шиллингом специальной таблице кодов. П. Л. Шиллинг также известен как разработчик метода электрического подрыва мин (1812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 advTm="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357120" y="285840"/>
            <a:ext cx="607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ажнейшим достижением Шиллинга стало изобретение системы кодирования букв русского алфавита. Условную азбуку уже применяли в семафорном телеграфе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7" descr="http://900igr.net/datai/informatika/Ponjatie-algoritma/0009-011-Popytki-postroenija-formalnogo-opredelenija-algoritma-priveli-k.jpg"/>
          <p:cNvPicPr/>
          <p:nvPr/>
        </p:nvPicPr>
        <p:blipFill>
          <a:blip r:embed="rId1"/>
          <a:stretch/>
        </p:blipFill>
        <p:spPr>
          <a:xfrm>
            <a:off x="6372360" y="404640"/>
            <a:ext cx="2371680" cy="292896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4"/>
          <p:cNvSpPr/>
          <p:nvPr/>
        </p:nvSpPr>
        <p:spPr>
          <a:xfrm>
            <a:off x="357120" y="1844640"/>
            <a:ext cx="536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Verdana"/>
              </a:rPr>
              <a:t>Шиллинг устроил 21 октября 1832 года в Санкт-Петербурге первый в истории электромагнитный телеграф, который собрал во время дипломатической экспедиции в Восточную Сибирь в 1830-1832 г. Его модель хранится в Кяхтинском краеведческом музе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3533760" y="3786120"/>
            <a:ext cx="561024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"/>
          <p:cNvSpPr/>
          <p:nvPr/>
        </p:nvSpPr>
        <p:spPr>
          <a:xfrm>
            <a:off x="826920" y="17928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  <a:ea typeface="Calibri"/>
              </a:rPr>
              <a:t>Михаил Михайлович Сперанский (1772-1839 )</a:t>
            </a:r>
            <a:r>
              <a:rPr b="1" lang="en-US" sz="3600" spc="-1" strike="noStrike">
                <a:solidFill>
                  <a:srgbClr val="660033"/>
                </a:solidFill>
                <a:latin typeface="Calibri"/>
                <a:ea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Рисунок 13" descr="Описание: ÐÐ¸ÑÐ°Ð¸Ð»Ð° ÐÐ¸ÑÐ°Ð¹Ð»Ð¾Ð²Ð¸ÑÐ° Ð¡Ð¿ÐµÑÐ°Ð½ÑÐºÐ¾Ð³Ð¾. "/>
          <p:cNvPicPr/>
          <p:nvPr/>
        </p:nvPicPr>
        <p:blipFill>
          <a:blip r:embed="rId2"/>
          <a:stretch/>
        </p:blipFill>
        <p:spPr>
          <a:xfrm>
            <a:off x="5076720" y="2781360"/>
            <a:ext cx="3578400" cy="33116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278" name="Прямоугольник 4"/>
          <p:cNvSpPr/>
          <p:nvPr/>
        </p:nvSpPr>
        <p:spPr>
          <a:xfrm>
            <a:off x="468360" y="1413000"/>
            <a:ext cx="4044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усский общественный и государственный деятель, реформатор, законотворец. Выходец из низов, благодаря своим способностям и трудолюбию привлёк внимание императора Александра I и, заслужив его доверие, возглавил его реформаторскую деятельность. В 1819—1821 гг. сибирский генерал-губернато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5013360"/>
            <a:ext cx="8147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f2936"/>
                </a:solidFill>
                <a:latin typeface="Verdana"/>
              </a:rPr>
              <a:t>Особенность освоения Предбайкалья и Забайкалья заключалась в том, что вместе с отрядами казаков-первопроходцев на восток были направлены русские дипломаты, задачей которых было установление дипломатических отношений со странами Востока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img1003527" descr="Маршруты землепроходцев"/>
          <p:cNvPicPr/>
          <p:nvPr/>
        </p:nvPicPr>
        <p:blipFill>
          <a:blip r:embed="rId2"/>
          <a:stretch/>
        </p:blipFill>
        <p:spPr>
          <a:xfrm>
            <a:off x="1476360" y="260280"/>
            <a:ext cx="627840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37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Verdana"/>
              </a:rPr>
              <a:t>Реформа управления Сибирью Сперанского в 1822 г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140360" y="1700280"/>
            <a:ext cx="4535280" cy="468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хаил Сперанский лично объехал большую часть Сибири, посетил кроме губернских городов Омск, Верхнеудинск, Кяхт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1822 году он провел реформы управления Сибирью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гласно реформе Сперанского М.М. был образован Верхнеудинский округ, а сам Верхнеудинск получает статус окружного города Иркутской обла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8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225600" cy="3889440"/>
          </a:xfrm>
          <a:prstGeom prst="rect">
            <a:avLst/>
          </a:prstGeom>
          <a:ln w="47520">
            <a:solidFill>
              <a:srgbClr val="993300"/>
            </a:solidFill>
            <a:miter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Verdana"/>
              </a:rPr>
              <a:t>Муравьёв-Амурский Николай Николаевич (1809-1881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4" name="Рисунок 5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410280" cy="43210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24000" y="1735200"/>
            <a:ext cx="475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24 году, будучи уже в старших классах Пажеского корпуса, Николай Муравьёв был произведён в камер-пажи великой княгине Елене Павловне, юной жене Михаила Павловича, младшего брата Александра 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 позже она способствовала назначению Муравьёва генерал-губернатором Восточной Сибир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47-1861 занимал пост генерал-губернатора Вост. Сибир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ил активную политику освоения и изучения восточно-сибирских земель, привлекая к работе многих ссыльных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кабрис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140000" y="529920"/>
            <a:ext cx="4546440" cy="5923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buClr>
                <a:srgbClr val="660033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Verdana"/>
              </a:rPr>
              <a:t>Николай Николаевич оказал содействие Г.И. Невельскому в его исследованиях устья Амура и открытии России свободного пути к Тихому океан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buClr>
                <a:srgbClr val="660033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Verdana"/>
              </a:rPr>
              <a:t>В 1858-1860, благодаря решительности Муравьева-Амурского, осуществлявшего хозяйственное освоение и фактическое занятие Уссурийского края военными силами, удалось подготовить почву для подписания Айгунского (1858) и Пекинского (1860) договоров, по котрым территория, находившаяся в совместном владении России и </a:t>
            </a:r>
            <a:r>
              <a:rPr b="0" i="1" lang="ru-RU" sz="1800" spc="-1" strike="noStrike">
                <a:solidFill>
                  <a:srgbClr val="660033"/>
                </a:solidFill>
                <a:latin typeface="Verdana"/>
              </a:rPr>
              <a:t>Китая</a:t>
            </a:r>
            <a:r>
              <a:rPr b="0" lang="ru-RU" sz="1800" spc="-1" strike="noStrike">
                <a:solidFill>
                  <a:srgbClr val="660033"/>
                </a:solidFill>
                <a:latin typeface="Verdana"/>
              </a:rPr>
              <a:t>, вошла в состав Росс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buClr>
                <a:srgbClr val="660033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Verdana"/>
              </a:rPr>
              <a:t>В 1858 Муравьев-Амурский получил титул графа. В 1861 вышел в отставку, входил в число членов Гос. совет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Рисунок 2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025800" cy="418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549360"/>
            <a:ext cx="818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Verdana"/>
              </a:rPr>
              <a:t>Заключение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3527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Verdana"/>
              </a:rPr>
              <a:t>Таким образом, благодаря деятельности русских дипломатов </a:t>
            </a:r>
            <a:r>
              <a:rPr b="0" lang="en-US" sz="2400" spc="-1" strike="noStrike">
                <a:solidFill>
                  <a:srgbClr val="660033"/>
                </a:solidFill>
                <a:latin typeface="Verdana"/>
              </a:rPr>
              <a:t>XVII-XIX</a:t>
            </a:r>
            <a:r>
              <a:rPr b="0" lang="ru-RU" sz="2400" spc="-1" strike="noStrike">
                <a:solidFill>
                  <a:srgbClr val="660033"/>
                </a:solidFill>
                <a:latin typeface="Verdana"/>
              </a:rPr>
              <a:t> вв. происходит экономическое освоение нашего кра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Verdana"/>
              </a:rPr>
              <a:t>устанавливаются граница и дипломатические отношения с Китаем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Verdana"/>
              </a:rPr>
              <a:t>изменяется статус нашего города – из небольшого зимовья он превращается в окружной торгово-промышленный город – центр международной торговли между Востоком и Запад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2204640"/>
            <a:ext cx="8183520" cy="16556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Verdana"/>
              </a:rPr>
              <a:t>СПАСИБО ЗА ВНИМАНИЕ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f2936"/>
                </a:solidFill>
                <a:latin typeface="Verdana"/>
              </a:rPr>
              <a:t>Цель работы: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 определить роль русских дипломатов в истории развития Забайкаль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112240" cy="36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3352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Verdana"/>
              </a:rPr>
              <a:t>Собрать сведения о дипломатах, чья деятельность связана с историей нашего кра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Verdana"/>
              </a:rPr>
              <a:t>Раскрыть роль выдающихся русских дипломатов </a:t>
            </a:r>
            <a:r>
              <a:rPr b="0" lang="en-US" sz="2800" spc="-1" strike="noStrike">
                <a:solidFill>
                  <a:srgbClr val="660033"/>
                </a:solidFill>
                <a:latin typeface="Verdana"/>
              </a:rPr>
              <a:t>XVII-XIX</a:t>
            </a:r>
            <a:r>
              <a:rPr b="0" lang="ru-RU" sz="2800" spc="-1" strike="noStrike">
                <a:solidFill>
                  <a:srgbClr val="660033"/>
                </a:solidFill>
                <a:latin typeface="Verdana"/>
              </a:rPr>
              <a:t> вв в становлении и развитии нашего кр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28180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Николай Гаврилович Спафарий (</a:t>
            </a:r>
            <a:r>
              <a:rPr b="1" lang="ru-RU" sz="3200" spc="-1" strike="noStrike">
                <a:solidFill>
                  <a:srgbClr val="660033"/>
                </a:solidFill>
                <a:latin typeface="Verdana"/>
                <a:ea typeface="HY그래픽M"/>
              </a:rPr>
              <a:t>Милеску-Спэтару)  (1636-1708)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5327640" cy="4753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Verdana"/>
              </a:rPr>
              <a:t>Молдавский боярин, происходивший из православной греко-молдавской семьи. Вошёл в историю как видный русский дипломат, политический деятель, учёный, переводчик, богослов, путешественник и географ. Известен, прежде всего, своими учёными трудами и воспоминаниями о посольстве в Китай. Владел, помимо молдавского, девятью языками: русским, латынью, греческим (включая древнегреческий), турецким, итальянским, китайским, французским и шведски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Рисунок 4" descr="Изображение выглядит как текст, книга&#10;&#10;Описание создано с очень высокой степенью достоверности"/>
          <p:cNvPicPr/>
          <p:nvPr/>
        </p:nvPicPr>
        <p:blipFill>
          <a:blip r:embed="rId2"/>
          <a:stretch/>
        </p:blipFill>
        <p:spPr>
          <a:xfrm>
            <a:off x="5867280" y="1700280"/>
            <a:ext cx="2905200" cy="4011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9280" y="1988640"/>
            <a:ext cx="424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HY그래픽M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HY그래픽M"/>
              </a:rPr>
              <a:t>побывав в Удинском зимовье в 1677 г., он рекомендует, что «подле реки Уды можно и острог ставить, и суда делать, и места хлеборобного сыскать можно». И уже в 1678-1680г. Удинское зимовье превращается в острог, важное звено военно-оборонительной системы Забайкаль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4" descr="180px-Spafarii_trip_stamp"/>
          <p:cNvPicPr/>
          <p:nvPr/>
        </p:nvPicPr>
        <p:blipFill>
          <a:blip r:embed="rId1"/>
          <a:stretch/>
        </p:blipFill>
        <p:spPr>
          <a:xfrm>
            <a:off x="4788000" y="2421000"/>
            <a:ext cx="3949560" cy="3182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55640" y="49680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 1675-1678 гг  Н.Г.Спафарий возглавил русское посольство в Пеки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Verdana"/>
              </a:rPr>
              <a:t>Русское посольство в Китай 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1557360"/>
            <a:ext cx="8245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1675—1678 годах Николай Спафарий возглавлял русское посольство в Пекин, в ходе которого проделал огромный путь по Сибири, Забайкалью и Китаю. В отличие от предыдущих посланников, Спафарий всерьёз занялся изучением Китая и китайского языка, что позволило ему собрать много ценных свед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своём дорожном дневнике дал подробное и в общем верное описание среднего течения Оби (истоком которой он определил Телецкое озеро), её притоков — Иртыша и Кети, а также Ангары. Спафарию принадлежит первое в географической литературе подробное описание Байкала и острова Ольхон, верно оценил глубину озера, отметив, что оно сравнимо с высотой го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секая Сибирь, Спафарий выполнял первые определения географической широты ряд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других своих трудах, основанных на докладах землепроходцев и расспросах, он дал первое описание Амура, считая его крупнейшей рекой не только Сибири, но и всего мира; верно указал, что Амур образуется слиянием Аргуни и Шилки, и составляющие последней — реки Онон и Ингода. Отметил ряд притоков Амура, в том числе главный — Сунгар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афарий сообщил расспросные сведения о Сахалине, ошибочно преувеличив его длину и ширину, так как «присоединил» к нему остров Хоккайд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 своём путешествии в Китай Спафарий представил в Посольский приказ три описания на русском языке — «Путешествие через Сибирь до границ Китая», «Путевые заметки» и «Описание Китая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 возвращении в Москву Спафарий участвовал в переговорах России с Молдавией и Валахией, в 1674 году выступал посредником в переговорах Молдавии с русским правительством об освобождении княжества от турецкой зависимости. Принимал участие в подготовке посольства Фёдора Головина в Китай (1688—1689). В 1695 году участвовал в Азовском походе Петра I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мер в 1708 году в Москв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66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Verdana"/>
              </a:rPr>
              <a:t>Головин Федор Алексеевич</a:t>
            </a:r>
            <a:r>
              <a:rPr b="1" i="1" lang="en-US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660033"/>
                </a:solidFill>
                <a:latin typeface="Verdana"/>
              </a:rPr>
              <a:t>(1650-1706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459240" cy="47512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4"/>
          <p:cNvSpPr/>
          <p:nvPr/>
        </p:nvSpPr>
        <p:spPr>
          <a:xfrm>
            <a:off x="395280" y="1628640"/>
            <a:ext cx="4392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-apple-system"/>
              </a:rPr>
              <a:t>Происходил из боярского рода Ховриных-Головиных. Сын боярина Алексея Петровича Головина При царевне Софье обратил на себя внимание первого министра В. В. Голицына и в чине окольничего был послан на Амур (в Дауры) «для договоров и успокоении ссор китайского богдыхана»По возвращении из посольства пожалован должностью Сибирского наместника. Стал одним из ближайших помощников нового царя Петра I в деле преобразования России. Утверждается, что Головин первым из бояр сбрил бороду, чем заслужил одобрение молодого Петра </a:t>
            </a:r>
            <a:r>
              <a:rPr b="1" i="1" lang="en-US" sz="1600" spc="-1" strike="noStrike">
                <a:solidFill>
                  <a:srgbClr val="000000"/>
                </a:solidFill>
                <a:latin typeface="-apple-system"/>
              </a:rPr>
              <a:t>I</a:t>
            </a:r>
            <a:r>
              <a:rPr b="1" i="1" lang="ru-RU" sz="1600" spc="-1" strike="noStrike">
                <a:solidFill>
                  <a:srgbClr val="000000"/>
                </a:solidFill>
                <a:latin typeface="-apple-syste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 rot="10800000">
            <a:off x="9325080" y="6857280"/>
            <a:ext cx="2016000" cy="747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Прямоугольник 4"/>
          <p:cNvSpPr/>
          <p:nvPr/>
        </p:nvSpPr>
        <p:spPr>
          <a:xfrm>
            <a:off x="539640" y="549360"/>
            <a:ext cx="60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Провёл организационные и информационные работы по подготовке второго Азовского похода Петра 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За участие во второй Азовской кампании был награждён серебряной медалью и указом Петра 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Головин сыграл выдающуюся роль в создании русского флот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https://upload.wikimedia.org/wikipedia/ru/thumb/b/b8/Golovin_medal.jpg/220px-Golovin_medal.jpg"/>
          <p:cNvPicPr/>
          <p:nvPr/>
        </p:nvPicPr>
        <p:blipFill>
          <a:blip r:embed="rId1"/>
          <a:stretch/>
        </p:blipFill>
        <p:spPr>
          <a:xfrm>
            <a:off x="6516720" y="549360"/>
            <a:ext cx="2095560" cy="215244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"/>
          <p:cNvSpPr/>
          <p:nvPr/>
        </p:nvSpPr>
        <p:spPr>
          <a:xfrm>
            <a:off x="531720" y="286056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 Под надзором Головина была создана система дипломатических представительств России за рубежом. В 1704 году подписал от имени царя русско-польский договор, лично составлял русско-датский договор, курировал демаркацию границы с турками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 В его ведении находилась и Навигацкая школа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1699 году, после смерти Ф. Лефорта, Головин сделан генерал-адмиралом, стал первым кавалером ордена Святого Андрея Первозв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10920" y="981000"/>
            <a:ext cx="352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1687 году  при царевне Софье он был отправлен на Амур, для «договоров и успокоения ссор китайского богдыхана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4284720" y="620640"/>
            <a:ext cx="4680000" cy="2232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1-2"/>
          <p:cNvPicPr/>
          <p:nvPr/>
        </p:nvPicPr>
        <p:blipFill>
          <a:blip r:embed="rId2"/>
          <a:stretch/>
        </p:blipFill>
        <p:spPr>
          <a:xfrm>
            <a:off x="4500720" y="3141720"/>
            <a:ext cx="4176720" cy="28782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0T07:04:53Z</dcterms:created>
  <dc:creator>ДИМА</dc:creator>
  <dc:description/>
  <dc:language>en-US</dc:language>
  <cp:lastModifiedBy>Admin</cp:lastModifiedBy>
  <dcterms:modified xsi:type="dcterms:W3CDTF">2019-12-30T21:37:35Z</dcterms:modified>
  <cp:revision>16</cp:revision>
  <dc:subject/>
  <dc:title>Презентация PowerPoint</dc:title>
</cp:coreProperties>
</file>