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990-FE70-401F-9F36-167A526A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6B6-0DDD-40CD-B83A-CDFAFC4D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D3C-E30A-4E8F-99B6-07EE6827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32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276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32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276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012-A5D2-4E56-8EED-AA46996B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8C8-9417-4D34-82AC-52214D1B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32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276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224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32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276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7E3-D3E2-45C9-96F2-D571F575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507-98A9-4EDB-8FB5-3E079111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BFA-EAAE-44C7-A242-6C7FEA7B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F7F-2C2A-4351-BD32-7C30A804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1CB-320F-4575-A655-B735E3C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382-413E-4F6E-99C6-18824ADC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289-3980-44D3-95EC-7147908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E1261B-8F54-4B7B-BB52-3618330AC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4000" spc="-1" strike="noStrike">
                <a:solidFill>
                  <a:srgbClr val="99284c"/>
                </a:solidFill>
                <a:latin typeface="Arial"/>
              </a:rPr>
              <a:t>Путешествие в Африку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Picture 3" descr="file:///C:/Users/комп 1/Desktop/развит речи проект/189_0115.jpg"/>
          <p:cNvPicPr/>
          <p:nvPr/>
        </p:nvPicPr>
        <p:blipFill>
          <a:blip r:embed="rId1"/>
          <a:stretch/>
        </p:blipFill>
        <p:spPr>
          <a:xfrm>
            <a:off x="1584360" y="1959120"/>
            <a:ext cx="6669000" cy="44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41240" y="744480"/>
            <a:ext cx="860760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Ты узнать меня сумей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Я лошадка с длинной шейк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Ты дружок конечно пра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Понял ты, что я ........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file:///C:/Users/комп 1/Desktop/развит речи проект/manyara35.jpg"/>
          <p:cNvPicPr/>
          <p:nvPr/>
        </p:nvPicPr>
        <p:blipFill>
          <a:blip r:embed="rId1"/>
          <a:stretch/>
        </p:blipFill>
        <p:spPr>
          <a:xfrm>
            <a:off x="5327640" y="4238640"/>
            <a:ext cx="3492360" cy="228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741240" y="744480"/>
            <a:ext cx="8607600" cy="37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Слышите могучий топот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Видите длинющий хобот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Это не волшебный со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Это африканский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Рисунок 3" descr="13 слайд.jpg"/>
          <p:cNvPicPr/>
          <p:nvPr/>
        </p:nvPicPr>
        <p:blipFill>
          <a:blip r:embed="rId1"/>
          <a:stretch/>
        </p:blipFill>
        <p:spPr>
          <a:xfrm>
            <a:off x="4626000" y="4140360"/>
            <a:ext cx="4367160" cy="27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741240" y="744480"/>
            <a:ext cx="86076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Arial"/>
              </a:rPr>
              <a:t>Рассмешит всех без обм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Arial"/>
              </a:rPr>
              <a:t>Мастер в построенье ро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Arial"/>
              </a:rPr>
              <a:t>Уморителен, но все ж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Arial"/>
              </a:rPr>
              <a:t>Сей циркач на нас похо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Arial"/>
              </a:rPr>
              <a:t>Кто же это........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file:///C:/Users/комп 1/Desktop/развит речи проект/00016253.jpg"/>
          <p:cNvPicPr/>
          <p:nvPr/>
        </p:nvPicPr>
        <p:blipFill>
          <a:blip r:embed="rId1"/>
          <a:stretch/>
        </p:blipFill>
        <p:spPr>
          <a:xfrm>
            <a:off x="4824360" y="4089240"/>
            <a:ext cx="4519800" cy="29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41240" y="744480"/>
            <a:ext cx="8607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Не спеши тушить пожа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В джунглях не огонь мелька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Полосатая девиц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Здесь охотиться........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file:///C:/Users/комп 1/Desktop/развит речи проект/00014248.jpg"/>
          <p:cNvPicPr/>
          <p:nvPr/>
        </p:nvPicPr>
        <p:blipFill>
          <a:blip r:embed="rId1"/>
          <a:stretch/>
        </p:blipFill>
        <p:spPr>
          <a:xfrm>
            <a:off x="4464000" y="3786120"/>
            <a:ext cx="4145040" cy="31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741240" y="744480"/>
            <a:ext cx="8607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99284c"/>
                </a:solidFill>
                <a:latin typeface="Arial"/>
              </a:rPr>
              <a:t>Все слова он за тобо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99284c"/>
                </a:solidFill>
                <a:latin typeface="Arial"/>
              </a:rPr>
              <a:t>Повторит как заводно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99284c"/>
                </a:solidFill>
                <a:latin typeface="Arial"/>
              </a:rPr>
              <a:t>Кто же это угада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99284c"/>
                </a:solidFill>
                <a:latin typeface="Arial"/>
              </a:rPr>
              <a:t>Ну конечно …..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file:///C:/Users/комп 1/Desktop/развит речи проект/af25c8ea2eeb.jpg"/>
          <p:cNvPicPr/>
          <p:nvPr/>
        </p:nvPicPr>
        <p:blipFill>
          <a:blip r:embed="rId1"/>
          <a:stretch/>
        </p:blipFill>
        <p:spPr>
          <a:xfrm>
            <a:off x="5256360" y="4067280"/>
            <a:ext cx="2797200" cy="28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741240" y="744480"/>
            <a:ext cx="8607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99284c"/>
                </a:solidFill>
                <a:latin typeface="Arial"/>
              </a:rPr>
              <a:t>Обитает в речке Ни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99284c"/>
                </a:solidFill>
                <a:latin typeface="Arial"/>
              </a:rPr>
              <a:t>Злой зубастый.........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file:///C:/Users/комп 1/Desktop/развит речи проект/00000118.jpg"/>
          <p:cNvPicPr/>
          <p:nvPr/>
        </p:nvPicPr>
        <p:blipFill>
          <a:blip r:embed="rId1"/>
          <a:stretch/>
        </p:blipFill>
        <p:spPr>
          <a:xfrm>
            <a:off x="3745080" y="3370320"/>
            <a:ext cx="5344920" cy="35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720720" y="728640"/>
            <a:ext cx="860760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Гордый, важный словно гра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По саванне шел жира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Вдруг он замер обомле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284c"/>
                </a:solidFill>
                <a:latin typeface="Arial"/>
              </a:rPr>
              <a:t>Повстречался грозный ......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file:///C:/Users/комп 1/Desktop/развит речи проект/8swzm730.bmp"/>
          <p:cNvPicPr/>
          <p:nvPr/>
        </p:nvPicPr>
        <p:blipFill>
          <a:blip r:embed="rId1"/>
          <a:stretch/>
        </p:blipFill>
        <p:spPr>
          <a:xfrm>
            <a:off x="4464000" y="3817800"/>
            <a:ext cx="4322880" cy="32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741240" y="744480"/>
            <a:ext cx="860760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284c"/>
                </a:solidFill>
                <a:latin typeface="Arial"/>
              </a:rPr>
              <a:t>Полосатые лошадк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284c"/>
                </a:solidFill>
                <a:latin typeface="Arial"/>
              </a:rPr>
              <a:t>Африканские лошадк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284c"/>
                </a:solidFill>
                <a:latin typeface="Arial"/>
              </a:rPr>
              <a:t>Хорошо играть вам в прят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284c"/>
                </a:solidFill>
                <a:latin typeface="Arial"/>
              </a:rPr>
              <a:t>На лугу среди травы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284c"/>
                </a:solidFill>
                <a:latin typeface="Arial"/>
              </a:rPr>
              <a:t>Разлинованы лошадк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284c"/>
                </a:solidFill>
                <a:latin typeface="Arial"/>
              </a:rPr>
              <a:t>Словно школьные тетрадк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284c"/>
                </a:solidFill>
                <a:latin typeface="Arial"/>
              </a:rPr>
              <a:t>Разрисованы лошад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Arial"/>
              </a:rPr>
              <a:t>От копыт до головы.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file:///C:/Users/комп 1/Desktop/развит речи проект/642313247.jpg"/>
          <p:cNvPicPr/>
          <p:nvPr/>
        </p:nvPicPr>
        <p:blipFill>
          <a:blip r:embed="rId1"/>
          <a:stretch/>
        </p:blipFill>
        <p:spPr>
          <a:xfrm>
            <a:off x="5040360" y="4140360"/>
            <a:ext cx="3779640" cy="25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741240" y="744480"/>
            <a:ext cx="86076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99284c"/>
                </a:solidFill>
                <a:latin typeface="Arial"/>
              </a:rPr>
              <a:t>Кто имеет один рог …....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file:///C:/Users/комп 1/Desktop/развит речи проект/1223235900_ea058.jpg"/>
          <p:cNvPicPr/>
          <p:nvPr/>
        </p:nvPicPr>
        <p:blipFill>
          <a:blip r:embed="rId1"/>
          <a:stretch/>
        </p:blipFill>
        <p:spPr>
          <a:xfrm>
            <a:off x="2879640" y="2611440"/>
            <a:ext cx="6120000" cy="43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2400" y="44784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99284c"/>
                </a:solidFill>
                <a:latin typeface="Arial"/>
              </a:rPr>
              <a:t>Жители Африк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" name="Picture 3" descr="file:///C:/Users/комп 1/Desktop/развит речи проект/Afrika_2323.jpg"/>
          <p:cNvPicPr/>
          <p:nvPr/>
        </p:nvPicPr>
        <p:blipFill>
          <a:blip r:embed="rId1"/>
          <a:stretch/>
        </p:blipFill>
        <p:spPr>
          <a:xfrm>
            <a:off x="1944720" y="1440000"/>
            <a:ext cx="618948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Посмотрите на эти картинки и представьте себе Африку. Пустыня... Вокруг — то желтые, мелкие, нежные, как пудра, пески, то серые, выветренные камни. </a:t>
            </a:r>
            <a:endParaRPr b="1" i="1" lang="en-US" sz="1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21880" y="222732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8" name="Picture 3" descr="file:///C:/Users/комп 1/Desktop/развит речи проект/1201619062_dvizhushhiesja-peski.jpg"/>
          <p:cNvPicPr/>
          <p:nvPr/>
        </p:nvPicPr>
        <p:blipFill>
          <a:blip r:embed="rId1"/>
          <a:stretch/>
        </p:blipFill>
        <p:spPr>
          <a:xfrm>
            <a:off x="961920" y="1536840"/>
            <a:ext cx="810108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539280"/>
            <a:ext cx="8607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284c"/>
                </a:solidFill>
                <a:latin typeface="Times New Roman"/>
              </a:rPr>
              <a:t>Посмотрите как живут местные жители. Они живут в небольших хижинах,</a:t>
            </a: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3" name="Picture 3" descr="file:///C:/Users/комп 1/Desktop/развит речи проект/santakhut_nuwe.jpg"/>
          <p:cNvPicPr/>
          <p:nvPr/>
        </p:nvPicPr>
        <p:blipFill>
          <a:blip r:embed="rId1"/>
          <a:stretch/>
        </p:blipFill>
        <p:spPr>
          <a:xfrm>
            <a:off x="1440000" y="161928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720" y="447480"/>
            <a:ext cx="860760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99284c"/>
                </a:solidFill>
                <a:latin typeface="Arial"/>
              </a:rPr>
              <a:t>пасут скот,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6" name="Picture 3" descr="file:///C:/Users/комп 1/Desktop/развит речи проект/213347.jpg"/>
          <p:cNvPicPr/>
          <p:nvPr/>
        </p:nvPicPr>
        <p:blipFill>
          <a:blip r:embed="rId1"/>
          <a:stretch/>
        </p:blipFill>
        <p:spPr>
          <a:xfrm>
            <a:off x="2344680" y="1079640"/>
            <a:ext cx="539136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2400" y="36036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Arial"/>
              </a:rPr>
              <a:t>выращивают и собирают различные съедобные растения, 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9" name="Picture 3" descr="file:///C:/Users/комп 1/Desktop/развит речи проект/af_html_m2832d732.gif"/>
          <p:cNvPicPr/>
          <p:nvPr/>
        </p:nvPicPr>
        <p:blipFill>
          <a:blip r:embed="rId1"/>
          <a:stretch/>
        </p:blipFill>
        <p:spPr>
          <a:xfrm>
            <a:off x="1170000" y="1649520"/>
            <a:ext cx="7740720" cy="48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7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284c"/>
                </a:solidFill>
                <a:latin typeface="Times New Roman"/>
              </a:rPr>
              <a:t>охотяться на диких животных,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2" name="Picture 3" descr="file:///C:/Users/комп 1/Desktop/развит речи проект/7483.4-@session@.gif"/>
          <p:cNvPicPr/>
          <p:nvPr/>
        </p:nvPicPr>
        <p:blipFill>
          <a:blip r:embed=""/>
          <a:stretch/>
        </p:blipFill>
        <p:spPr>
          <a:xfrm>
            <a:off x="900000" y="1440000"/>
            <a:ext cx="8280360" cy="540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ile:///F:/%D1%80%D0%B0%D0%B7%D0%B2%D0%B8%D1%82%20%D1%80%D0%B5%D1%87%D0%B8%20%D0%BF%D1%80%D0%BE%D0%B5%D0%BA%D1%82/7483.4-@session@.gif"/>
          <p:cNvPicPr/>
          <p:nvPr/>
        </p:nvPicPr>
        <p:blipFill>
          <a:blip r:embed="rId1"/>
          <a:stretch/>
        </p:blipFill>
        <p:spPr>
          <a:xfrm>
            <a:off x="1087560" y="1576440"/>
            <a:ext cx="790560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9928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284c"/>
                </a:solidFill>
                <a:latin typeface="Times New Roman"/>
              </a:rPr>
              <a:t>ловят рыбу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3" descr="file:///C:/Users/комп 1/Desktop/развит речи проект/1239220335_1.jpg"/>
          <p:cNvPicPr/>
          <p:nvPr/>
        </p:nvPicPr>
        <p:blipFill>
          <a:blip r:embed="rId1"/>
          <a:stretch/>
        </p:blipFill>
        <p:spPr>
          <a:xfrm>
            <a:off x="1319040" y="1260360"/>
            <a:ext cx="744084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0720" y="44784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Так как вокруг очень красочная природа, то люди стараются  украсить себя яркой одеждой,</a:t>
            </a:r>
            <a:endParaRPr b="1" i="1" lang="en-US" sz="1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9" name="Picture 3" descr="file:///C:/Users/комп 1/Desktop/развит речи проект/de6824d2d214.jpg"/>
          <p:cNvPicPr/>
          <p:nvPr/>
        </p:nvPicPr>
        <p:blipFill>
          <a:blip r:embed="rId1"/>
          <a:stretch/>
        </p:blipFill>
        <p:spPr>
          <a:xfrm>
            <a:off x="1319040" y="1440000"/>
            <a:ext cx="744084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Arial"/>
              </a:rPr>
              <a:t>бусами, перьями, расписывают тела и лица.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3" descr="file:///C:/Users/комп 1/Desktop/развит речи проект/156055282.jpg"/>
          <p:cNvPicPr/>
          <p:nvPr/>
        </p:nvPicPr>
        <p:blipFill>
          <a:blip r:embed="rId1"/>
          <a:stretch/>
        </p:blipFill>
        <p:spPr>
          <a:xfrm>
            <a:off x="1530360" y="1606680"/>
            <a:ext cx="7020000" cy="50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744480"/>
            <a:ext cx="86076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Arial"/>
              </a:rPr>
              <a:t>Ни один праздник не обходиться без танцев под звуки барабанов.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Picture 3" descr="file:///C:/Users/комп 1/Desktop/развит речи проект/32513729_af11.jpg"/>
          <p:cNvPicPr/>
          <p:nvPr/>
        </p:nvPicPr>
        <p:blipFill>
          <a:blip r:embed="rId1"/>
          <a:stretch/>
        </p:blipFill>
        <p:spPr>
          <a:xfrm>
            <a:off x="1284120" y="1440000"/>
            <a:ext cx="743904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Arial"/>
              </a:rPr>
              <a:t>Танцами отмечают удачную охоту, сбор урожая и другие события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8" name="Picture 3" descr="file:///C:/Users/комп 1/Desktop/развит речи проект/1259154589_1207141523-1-.jpg"/>
          <p:cNvPicPr/>
          <p:nvPr/>
        </p:nvPicPr>
        <p:blipFill>
          <a:blip r:embed="rId1"/>
          <a:stretch/>
        </p:blipFill>
        <p:spPr>
          <a:xfrm>
            <a:off x="1349280" y="1619280"/>
            <a:ext cx="7380360" cy="53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0720" y="44784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Arial"/>
              </a:rPr>
              <a:t>В некоторых танцах используют ритуальные маски, чтобы придать себе смелости перед охотой или напугать врагов. 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Picture 3" descr="file:///C:/Users/комп 1/Desktop/развит речи проект/sanghakanagas2.jpg"/>
          <p:cNvPicPr/>
          <p:nvPr/>
        </p:nvPicPr>
        <p:blipFill>
          <a:blip r:embed="rId1"/>
          <a:stretch/>
        </p:blipFill>
        <p:spPr>
          <a:xfrm>
            <a:off x="900000" y="1467000"/>
            <a:ext cx="828036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720" y="44784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Знойное небо дышит жарой. Ни воды, ни кустика зелени. Это Африка.</a:t>
            </a:r>
            <a:endParaRPr b="1" i="1" lang="en-US" sz="1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1880" y="222732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1" name="Picture 3" descr="file:///C:/Users/комп 1/Desktop/развит речи проект/1227738734_usl12.jpg"/>
          <p:cNvPicPr/>
          <p:nvPr/>
        </p:nvPicPr>
        <p:blipFill>
          <a:blip r:embed="rId1"/>
          <a:stretch/>
        </p:blipFill>
        <p:spPr>
          <a:xfrm>
            <a:off x="1322280" y="1260360"/>
            <a:ext cx="74376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1240" y="360000"/>
            <a:ext cx="8607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99284c"/>
                </a:solidFill>
                <a:latin typeface="Arial"/>
              </a:rPr>
              <a:t>маск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Picture 3" descr="file:///C:/Users/комп 1/Desktop/развит речи проект/026_061.jpg"/>
          <p:cNvPicPr/>
          <p:nvPr/>
        </p:nvPicPr>
        <p:blipFill>
          <a:blip r:embed="rId1"/>
          <a:stretch/>
        </p:blipFill>
        <p:spPr>
          <a:xfrm>
            <a:off x="1079640" y="1558800"/>
            <a:ext cx="79200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6" name="Содержимое 3" descr="7998f67ea749042850d53567b706630d.jpg"/>
          <p:cNvPicPr/>
          <p:nvPr/>
        </p:nvPicPr>
        <p:blipFill>
          <a:blip r:embed="rId1"/>
          <a:stretch/>
        </p:blipFill>
        <p:spPr>
          <a:xfrm>
            <a:off x="0" y="0"/>
            <a:ext cx="5081760" cy="40654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54c0d08443157_54c0d08443191.jpg"/>
          <p:cNvPicPr/>
          <p:nvPr/>
        </p:nvPicPr>
        <p:blipFill>
          <a:blip r:embed="rId2"/>
          <a:stretch/>
        </p:blipFill>
        <p:spPr>
          <a:xfrm>
            <a:off x="4183200" y="2976480"/>
            <a:ext cx="58975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9" name="Содержимое 3" descr="20-СМ-Фантастические-Африканских-Зернистость-Маска-Висит-Бытовые-Украшения-Осторожны-Цветной-Рисунок-Специальный-Таиланд-Куроки-Подарок.jpg"/>
          <p:cNvPicPr/>
          <p:nvPr/>
        </p:nvPicPr>
        <p:blipFill>
          <a:blip r:embed="rId1"/>
          <a:stretch/>
        </p:blipFill>
        <p:spPr>
          <a:xfrm>
            <a:off x="1611360" y="422280"/>
            <a:ext cx="667872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71" name="Содержимое 3" descr="700-nw.jpg"/>
          <p:cNvPicPr/>
          <p:nvPr/>
        </p:nvPicPr>
        <p:blipFill>
          <a:blip r:embed="rId1"/>
          <a:stretch/>
        </p:blipFill>
        <p:spPr>
          <a:xfrm>
            <a:off x="438120" y="395280"/>
            <a:ext cx="3527280" cy="352908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6" descr="57228.750x0.jpg"/>
          <p:cNvPicPr/>
          <p:nvPr/>
        </p:nvPicPr>
        <p:blipFill>
          <a:blip r:embed="rId2"/>
          <a:stretch/>
        </p:blipFill>
        <p:spPr>
          <a:xfrm>
            <a:off x="5977080" y="395280"/>
            <a:ext cx="3527280" cy="35290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Aboriginal-Tribal-African-Mask-Decor-Carved-Dot-Art.jpg"/>
          <p:cNvPicPr/>
          <p:nvPr/>
        </p:nvPicPr>
        <p:blipFill>
          <a:blip r:embed="rId3"/>
          <a:stretch/>
        </p:blipFill>
        <p:spPr>
          <a:xfrm>
            <a:off x="5286240" y="3924360"/>
            <a:ext cx="2300400" cy="306684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8" descr="468466526.jpg"/>
          <p:cNvPicPr/>
          <p:nvPr/>
        </p:nvPicPr>
        <p:blipFill>
          <a:blip r:embed="rId4"/>
          <a:stretch/>
        </p:blipFill>
        <p:spPr>
          <a:xfrm>
            <a:off x="1471680" y="3924360"/>
            <a:ext cx="295272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76" name="Содержимое 3" descr="s-l1600.jpg"/>
          <p:cNvPicPr/>
          <p:nvPr/>
        </p:nvPicPr>
        <p:blipFill>
          <a:blip r:embed="rId1"/>
          <a:stretch/>
        </p:blipFill>
        <p:spPr>
          <a:xfrm>
            <a:off x="468360" y="493560"/>
            <a:ext cx="4214880" cy="5619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s-l1000.jpg"/>
          <p:cNvPicPr/>
          <p:nvPr/>
        </p:nvPicPr>
        <p:blipFill>
          <a:blip r:embed="rId2"/>
          <a:stretch/>
        </p:blipFill>
        <p:spPr>
          <a:xfrm>
            <a:off x="4968720" y="1136520"/>
            <a:ext cx="44784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39280"/>
            <a:ext cx="860760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Желтая равнина с высохшей травой и редкими деревьями. По ней проходят стада диких животных.</a:t>
            </a:r>
            <a:endParaRPr b="1" i="1" lang="en-US" sz="1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21880" y="222732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4" name="Picture 3" descr="file:///C:/Users/комп 1/Desktop/развит речи проект/c84e898ecaba.jpg"/>
          <p:cNvPicPr/>
          <p:nvPr/>
        </p:nvPicPr>
        <p:blipFill>
          <a:blip r:embed="rId1"/>
          <a:stretch/>
        </p:blipFill>
        <p:spPr>
          <a:xfrm>
            <a:off x="1079640" y="1407960"/>
            <a:ext cx="792000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6840" y="549360"/>
            <a:ext cx="860724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А рядом сплошная стена тропического леса: деревья, кусты, лианы. Листья на них толстые и сочные. Летают птицы, похожие на волшебные цветы. </a:t>
            </a:r>
            <a:endParaRPr b="1" i="1" lang="en-US" sz="1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21880" y="222732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7" name="Picture 3" descr="file:///C:/Users/комп 1/Desktop/развит речи проект/VictoriaFalls1.jpg"/>
          <p:cNvPicPr/>
          <p:nvPr/>
        </p:nvPicPr>
        <p:blipFill>
          <a:blip r:embed="rId1"/>
          <a:stretch/>
        </p:blipFill>
        <p:spPr>
          <a:xfrm>
            <a:off x="2316240" y="1619280"/>
            <a:ext cx="54482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Здесь всегда сумрачно и влажно. Слышится рев хищников и крики птиц. Это тоже Африка.</a:t>
            </a:r>
            <a:endParaRPr b="1" i="1" lang="en-US" sz="1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1880" y="222732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0" name="Picture 3" descr="file:///C:/Users/комп 1/Desktop/развит речи проект/27537112_1463.jpg"/>
          <p:cNvPicPr/>
          <p:nvPr/>
        </p:nvPicPr>
        <p:blipFill>
          <a:blip r:embed="rId1"/>
          <a:stretch/>
        </p:blipFill>
        <p:spPr>
          <a:xfrm>
            <a:off x="1303200" y="1440000"/>
            <a:ext cx="7473960" cy="56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447840"/>
            <a:ext cx="860724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 еще конечно здесь есть горы. Это знаменитая гора Килиманджаро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21880" y="222732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3" name="Picture 3" descr="file:///C:/Users/комп 1/Desktop/развит речи проект/2537097.jpg"/>
          <p:cNvPicPr/>
          <p:nvPr/>
        </p:nvPicPr>
        <p:blipFill>
          <a:blip r:embed="rId1"/>
          <a:stretch/>
        </p:blipFill>
        <p:spPr>
          <a:xfrm>
            <a:off x="1112760" y="1620720"/>
            <a:ext cx="785520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99284c"/>
                </a:solidFill>
                <a:latin typeface="Arial"/>
              </a:rPr>
              <a:t>И побережье океана – все это тоже Африка.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1880" y="222732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6" name="Picture 3" descr="file:///C:/Users/комп 1/Desktop/развит речи проект/wide-wallpaper-1920x1200-034.jpg"/>
          <p:cNvPicPr/>
          <p:nvPr/>
        </p:nvPicPr>
        <p:blipFill>
          <a:blip r:embed="rId1"/>
          <a:stretch/>
        </p:blipFill>
        <p:spPr>
          <a:xfrm>
            <a:off x="809640" y="1417680"/>
            <a:ext cx="8459640" cy="52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0720" y="44784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99284c"/>
                </a:solidFill>
                <a:latin typeface="Arial"/>
              </a:rPr>
              <a:t>Загадки о животных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1880" y="222732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9" name="Picture 3" descr="file:///C:/Users/комп 1/Desktop/развит речи проект/24.jpg"/>
          <p:cNvPicPr/>
          <p:nvPr/>
        </p:nvPicPr>
        <p:blipFill>
          <a:blip r:embed="rId1"/>
          <a:stretch/>
        </p:blipFill>
        <p:spPr>
          <a:xfrm>
            <a:off x="1552680" y="1260360"/>
            <a:ext cx="6975360" cy="55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3Z</dcterms:created>
  <dc:creator>User</dc:creator>
  <dc:description/>
  <dc:language>en-US</dc:language>
  <cp:lastModifiedBy>User</cp:lastModifiedBy>
  <dcterms:modified xsi:type="dcterms:W3CDTF">2019-12-31T07:49:24Z</dcterms:modified>
  <cp:revision>12</cp:revision>
  <dc:subject/>
  <dc:title>Путешествие в Африку.</dc:title>
</cp:coreProperties>
</file>