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F0F-3EBF-4E23-BCD0-BA7325E3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3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3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293-AF1A-49A1-BEE2-32A7A947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0FE-514D-4262-8A6D-2036EF01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800" y="182844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7800" y="182844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800" y="403992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7800" y="403992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E34-51CE-4370-84A3-7AC0D8B9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5966-8BB8-49EE-8E08-E75BD1C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32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080C-FB33-4F44-B6D2-C98E42E6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32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FDDF-D23B-4881-AF23-403CAD7E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7808-D20B-476B-A8C2-27F18CD0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B970-FDB2-461B-B681-49F8E10C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-354240"/>
            <a:ext cx="6867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8DAD-861A-450C-A2E5-7FBB4395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7073-457F-404F-865C-1F21C83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32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0B9-AF6F-4E85-AD4B-479D50D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7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7192-9E78-4B83-800B-122C4B0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3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F0E4-319F-4672-A7D2-73BA988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3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3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E7DB-0C69-435B-8BDB-1EFA7FC5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7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0F48-F7CF-4CCF-853E-6C8F78F6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6800" y="182844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7800" y="182844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6800" y="403992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7800" y="4039920"/>
            <a:ext cx="2476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AE99-42BA-4AD1-943D-42ECB0BF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32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578-924C-44DA-A8AD-8CE857B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B70-4BFF-48F4-AF20-B80E46F5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2DE-71EB-4C0E-A33D-DB35B3ED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54240"/>
            <a:ext cx="6867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C66-1142-461D-A00D-5B2FA268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C1B-86A5-4181-9EA2-62F028A6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800" y="403992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24A-38ED-492A-BAF4-D70A332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800" y="1828440"/>
            <a:ext cx="3754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3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01F-CE1B-4764-A633-7FD7069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54240"/>
            <a:ext cx="68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32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2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796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BE691C-822D-4154-9654-DD98EB9E712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3480" y="25560"/>
            <a:ext cx="1165320" cy="209736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2097360"/>
              <a:gd name="textAreaBottom" fmla="*/ 2097720 h 20973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9640" y="192960"/>
            <a:ext cx="1025640" cy="15717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1280" cy="1243080"/>
            <a:chOff x="7920" y="5540400"/>
            <a:chExt cx="1781280" cy="1243080"/>
          </a:xfrm>
        </p:grpSpPr>
        <p:sp>
          <p:nvSpPr>
            <p:cNvPr id="9" name="Freeform 10"/>
            <p:cNvSpPr/>
            <p:nvPr/>
          </p:nvSpPr>
          <p:spPr>
            <a:xfrm>
              <a:off x="38160" y="5564160"/>
              <a:ext cx="1725480" cy="1027080"/>
            </a:xfrm>
            <a:custGeom>
              <a:avLst/>
              <a:gdLst>
                <a:gd name="textAreaLeft" fmla="*/ 0 w 1725480"/>
                <a:gd name="textAreaRight" fmla="*/ 1725840 w 1725480"/>
                <a:gd name="textAreaTop" fmla="*/ 0 h 1027080"/>
                <a:gd name="textAreaBottom" fmla="*/ 1027080 h 102708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560"/>
              <a:ext cx="109440" cy="201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1120"/>
              <a:ext cx="1254240" cy="6476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5120"/>
              <a:ext cx="830160" cy="5907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590760"/>
                <a:gd name="textAreaBottom" fmla="*/ 590760 h 590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7000"/>
              <a:ext cx="210960" cy="189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8880"/>
              <a:ext cx="117360" cy="174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6160"/>
              <a:ext cx="303120" cy="604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9160"/>
              <a:ext cx="574560" cy="2728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2600"/>
              <a:ext cx="244440" cy="10332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1280" cy="1235160"/>
              <a:chOff x="7920" y="5540400"/>
              <a:chExt cx="1781280" cy="123516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6880" cy="1121040"/>
                <a:chOff x="792000" y="5654520"/>
                <a:chExt cx="866880" cy="112104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4480"/>
                  <a:ext cx="246240" cy="135000"/>
                </a:xfrm>
                <a:custGeom>
                  <a:avLst/>
                  <a:gdLst>
                    <a:gd name="textAreaLeft" fmla="*/ 0 w 246240"/>
                    <a:gd name="textAreaRight" fmla="*/ 246600 w 24624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800" y="6567480"/>
                  <a:ext cx="179280" cy="208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3720" y="5654520"/>
                  <a:ext cx="65160" cy="1828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82880"/>
                    <a:gd name="textAreaBottom" fmla="*/ 182880 h 18288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4520"/>
                <a:ext cx="941400" cy="393840"/>
              </a:xfrm>
              <a:custGeom>
                <a:avLst/>
                <a:gdLst>
                  <a:gd name="textAreaLeft" fmla="*/ 0 w 941400"/>
                  <a:gd name="textAreaRight" fmla="*/ 941760 w 94140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8960"/>
                <a:ext cx="384120" cy="2318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2080"/>
                <a:ext cx="167040" cy="3744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1280" cy="1073160"/>
                <a:chOff x="7920" y="5540400"/>
                <a:chExt cx="1781280" cy="107316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2000" y="6426360"/>
                  <a:ext cx="115920" cy="13464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8040"/>
                  <a:ext cx="1333440" cy="695520"/>
                </a:xfrm>
                <a:custGeom>
                  <a:avLst/>
                  <a:gdLst>
                    <a:gd name="textAreaLeft" fmla="*/ 0 w 1333440"/>
                    <a:gd name="textAreaRight" fmla="*/ 1333800 w 13334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8120" y="5985000"/>
                  <a:ext cx="123840" cy="2617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261720"/>
                    <a:gd name="textAreaBottom" fmla="*/ 261720 h 26172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800" y="5540400"/>
                  <a:ext cx="507960" cy="939600"/>
                </a:xfrm>
                <a:custGeom>
                  <a:avLst/>
                  <a:gdLst>
                    <a:gd name="textAreaLeft" fmla="*/ 0 w 507960"/>
                    <a:gd name="textAreaRight" fmla="*/ 508320 w 50796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7640" y="5794200"/>
                  <a:ext cx="149040" cy="39708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397080"/>
                    <a:gd name="textAreaBottom" fmla="*/ 397440 h 39708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20560" y="5762520"/>
                  <a:ext cx="306360" cy="211320"/>
                </a:xfrm>
                <a:custGeom>
                  <a:avLst/>
                  <a:gdLst>
                    <a:gd name="textAreaLeft" fmla="*/ 0 w 306360"/>
                    <a:gd name="textAreaRight" fmla="*/ 306360 w 3063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4720" y="5616720"/>
                  <a:ext cx="744480" cy="333360"/>
                </a:xfrm>
                <a:custGeom>
                  <a:avLst/>
                  <a:gdLst>
                    <a:gd name="textAreaLeft" fmla="*/ 0 w 744480"/>
                    <a:gd name="textAreaRight" fmla="*/ 744840 w 744480"/>
                    <a:gd name="textAreaTop" fmla="*/ 0 h 333360"/>
                    <a:gd name="textAreaBottom" fmla="*/ 333720 h 33336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8320" y="5724360"/>
                  <a:ext cx="385560" cy="133560"/>
                </a:xfrm>
                <a:custGeom>
                  <a:avLst/>
                  <a:gdLst>
                    <a:gd name="textAreaLeft" fmla="*/ 0 w 385560"/>
                    <a:gd name="textAreaRight" fmla="*/ 385920 w 38556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2320" cy="4305240"/>
            <a:chOff x="8680320" y="2116080"/>
            <a:chExt cx="382320" cy="430524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9080"/>
              <a:ext cx="322560" cy="2262240"/>
            </a:xfrm>
            <a:custGeom>
              <a:avLst/>
              <a:gdLst>
                <a:gd name="textAreaLeft" fmla="*/ 0 w 322560"/>
                <a:gd name="textAreaRight" fmla="*/ 322560 w 32256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080" y="2116080"/>
              <a:ext cx="322200" cy="25891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541200" y="-196920"/>
            <a:ext cx="3686040" cy="3529440"/>
            <a:chOff x="6541200" y="-196920"/>
            <a:chExt cx="3686040" cy="3529440"/>
          </a:xfrm>
        </p:grpSpPr>
        <p:grpSp>
          <p:nvGrpSpPr>
            <p:cNvPr id="39" name="Group 40"/>
            <p:cNvGrpSpPr/>
            <p:nvPr/>
          </p:nvGrpSpPr>
          <p:grpSpPr>
            <a:xfrm>
              <a:off x="6541200" y="-196920"/>
              <a:ext cx="3686040" cy="3529440"/>
              <a:chOff x="6541200" y="-196920"/>
              <a:chExt cx="3686040" cy="352944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040" y="1726920"/>
                <a:ext cx="95400" cy="4539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541200" y="-196920"/>
                <a:ext cx="3686040" cy="3529440"/>
                <a:chOff x="6541200" y="-196920"/>
                <a:chExt cx="3686040" cy="352944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637760" y="-68400"/>
                  <a:ext cx="435240" cy="272880"/>
                </a:xfrm>
                <a:custGeom>
                  <a:avLst/>
                  <a:gdLst>
                    <a:gd name="textAreaLeft" fmla="*/ 0 w 435240"/>
                    <a:gd name="textAreaRight" fmla="*/ 435600 w 435240"/>
                    <a:gd name="textAreaTop" fmla="*/ 0 h 272880"/>
                    <a:gd name="textAreaBottom" fmla="*/ 273240 h 27288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779600" y="787680"/>
                  <a:ext cx="770760" cy="96588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965880"/>
                    <a:gd name="textAreaBottom" fmla="*/ 966240 h 96588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283520" y="509040"/>
                  <a:ext cx="1450440" cy="1986120"/>
                </a:xfrm>
                <a:custGeom>
                  <a:avLst/>
                  <a:gdLst>
                    <a:gd name="textAreaLeft" fmla="*/ 0 w 1450440"/>
                    <a:gd name="textAreaRight" fmla="*/ 1450800 w 1450440"/>
                    <a:gd name="textAreaTop" fmla="*/ 0 h 1986120"/>
                    <a:gd name="textAreaBottom" fmla="*/ 1986120 h 198612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294320" y="81000"/>
                  <a:ext cx="2179080" cy="2973240"/>
                </a:xfrm>
                <a:custGeom>
                  <a:avLst/>
                  <a:gdLst>
                    <a:gd name="textAreaLeft" fmla="*/ 0 w 2179080"/>
                    <a:gd name="textAreaRight" fmla="*/ 2179440 w 2179080"/>
                    <a:gd name="textAreaTop" fmla="*/ 0 h 2973240"/>
                    <a:gd name="textAreaBottom" fmla="*/ 2973600 h 297324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64240" y="2314080"/>
                  <a:ext cx="481320" cy="264240"/>
                </a:xfrm>
                <a:custGeom>
                  <a:avLst/>
                  <a:gdLst>
                    <a:gd name="textAreaLeft" fmla="*/ 0 w 481320"/>
                    <a:gd name="textAreaRight" fmla="*/ 481680 w 481320"/>
                    <a:gd name="textAreaTop" fmla="*/ 0 h 264240"/>
                    <a:gd name="textAreaBottom" fmla="*/ 264240 h 26424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61640" y="2059200"/>
                  <a:ext cx="517680" cy="313200"/>
                </a:xfrm>
                <a:custGeom>
                  <a:avLst/>
                  <a:gdLst>
                    <a:gd name="textAreaLeft" fmla="*/ 0 w 517680"/>
                    <a:gd name="textAreaRight" fmla="*/ 518040 w 517680"/>
                    <a:gd name="textAreaTop" fmla="*/ 0 h 313200"/>
                    <a:gd name="textAreaBottom" fmla="*/ 313200 h 3132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663320" y="345960"/>
                  <a:ext cx="517680" cy="321120"/>
                </a:xfrm>
                <a:custGeom>
                  <a:avLst/>
                  <a:gdLst>
                    <a:gd name="textAreaLeft" fmla="*/ 0 w 517680"/>
                    <a:gd name="textAreaRight" fmla="*/ 518040 w 51768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588800" y="140040"/>
                  <a:ext cx="511200" cy="30132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301320"/>
                    <a:gd name="textAreaBottom" fmla="*/ 301680 h 30132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3720" cy="1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975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7275FF-53BE-45EF-808B-6DD499DD8B8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84680" cy="1774800"/>
            <a:chOff x="195120" y="235080"/>
            <a:chExt cx="3784680" cy="1774800"/>
          </a:xfrm>
        </p:grpSpPr>
        <p:sp>
          <p:nvSpPr>
            <p:cNvPr id="93" name="Freeform 7"/>
            <p:cNvSpPr/>
            <p:nvPr/>
          </p:nvSpPr>
          <p:spPr>
            <a:xfrm>
              <a:off x="281160" y="281160"/>
              <a:ext cx="3568680" cy="1611000"/>
            </a:xfrm>
            <a:custGeom>
              <a:avLst/>
              <a:gdLst>
                <a:gd name="textAreaLeft" fmla="*/ 0 w 3568680"/>
                <a:gd name="textAreaRight" fmla="*/ 3569040 w 3568680"/>
                <a:gd name="textAreaTop" fmla="*/ 0 h 1611000"/>
                <a:gd name="textAreaBottom" fmla="*/ 1611360 h 16110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360"/>
              <a:ext cx="3559320" cy="1595520"/>
            </a:xfrm>
            <a:custGeom>
              <a:avLst/>
              <a:gdLst>
                <a:gd name="textAreaLeft" fmla="*/ 0 w 3559320"/>
                <a:gd name="textAreaRight" fmla="*/ 3559680 w 355932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6120"/>
              <a:ext cx="2359080" cy="145584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1455840"/>
                <a:gd name="textAreaBottom" fmla="*/ 1456200 h 1455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84680" cy="1712880"/>
              <a:chOff x="195120" y="235080"/>
              <a:chExt cx="3784680" cy="171288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2760" y="1482840"/>
                <a:ext cx="333720" cy="33660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84680" cy="1712880"/>
              </a:xfrm>
              <a:custGeom>
                <a:avLst/>
                <a:gdLst>
                  <a:gd name="textAreaLeft" fmla="*/ 0 w 3784680"/>
                  <a:gd name="textAreaRight" fmla="*/ 3785040 w 3784680"/>
                  <a:gd name="textAreaTop" fmla="*/ 0 h 1712880"/>
                  <a:gd name="textAreaBottom" fmla="*/ 1713240 h 17128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440" y="250920"/>
                <a:ext cx="2673360" cy="971280"/>
              </a:xfrm>
              <a:custGeom>
                <a:avLst/>
                <a:gdLst>
                  <a:gd name="textAreaLeft" fmla="*/ 0 w 2673360"/>
                  <a:gd name="textAreaRight" fmla="*/ 2673720 w 2673360"/>
                  <a:gd name="textAreaTop" fmla="*/ 0 h 971280"/>
                  <a:gd name="textAreaBottom" fmla="*/ 971640 h 971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440" y="398520"/>
                <a:ext cx="357120" cy="64764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3160" y="851040"/>
                <a:ext cx="1093680" cy="574560"/>
              </a:xfrm>
              <a:custGeom>
                <a:avLst/>
                <a:gdLst>
                  <a:gd name="textAreaLeft" fmla="*/ 0 w 1093680"/>
                  <a:gd name="textAreaRight" fmla="*/ 1094040 w 109368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7610040" y="4128480"/>
            <a:ext cx="1360080" cy="1533960"/>
            <a:chOff x="7610040" y="4128480"/>
            <a:chExt cx="1360080" cy="153396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794000" y="4657320"/>
              <a:ext cx="995400" cy="46188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74920" y="4637880"/>
              <a:ext cx="992160" cy="457200"/>
            </a:xfrm>
            <a:custGeom>
              <a:avLst/>
              <a:gdLst>
                <a:gd name="textAreaLeft" fmla="*/ 0 w 992160"/>
                <a:gd name="textAreaRight" fmla="*/ 992520 w 9921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38360" y="4626360"/>
              <a:ext cx="657360" cy="41760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610040" y="4128480"/>
              <a:ext cx="1360080" cy="1533960"/>
              <a:chOff x="7610040" y="4128480"/>
              <a:chExt cx="1360080" cy="153396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7723440" y="5090040"/>
                <a:ext cx="112320" cy="147960"/>
              </a:xfrm>
              <a:custGeom>
                <a:avLst/>
                <a:gdLst>
                  <a:gd name="textAreaLeft" fmla="*/ 0 w 112320"/>
                  <a:gd name="textAreaRight" fmla="*/ 112320 w 1123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7628040" y="4506840"/>
                <a:ext cx="1323360" cy="776880"/>
              </a:xfrm>
              <a:custGeom>
                <a:avLst/>
                <a:gdLst>
                  <a:gd name="textAreaLeft" fmla="*/ 0 w 1323360"/>
                  <a:gd name="textAreaRight" fmla="*/ 1323360 w 1323360"/>
                  <a:gd name="textAreaTop" fmla="*/ 0 h 776880"/>
                  <a:gd name="textAreaBottom" fmla="*/ 777240 h 7768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8016480" y="4666680"/>
                <a:ext cx="936360" cy="437040"/>
              </a:xfrm>
              <a:custGeom>
                <a:avLst/>
                <a:gdLst>
                  <a:gd name="textAreaLeft" fmla="*/ 0 w 936360"/>
                  <a:gd name="textAreaRight" fmla="*/ 936360 w 9363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8662320" y="4447440"/>
                <a:ext cx="122040" cy="290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0880"/>
                  <a:gd name="textAreaBottom" fmla="*/ 291240 h 29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8126280" y="4696920"/>
                <a:ext cx="380160" cy="25668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рок по обучению грамоте в первом клас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гласные звук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буква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Улыбающееся лицо 1"/>
          <p:cNvSpPr/>
          <p:nvPr/>
        </p:nvSpPr>
        <p:spPr>
          <a:xfrm>
            <a:off x="428760" y="1714680"/>
            <a:ext cx="2500200" cy="2428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Улыбающееся лицо 2"/>
          <p:cNvSpPr/>
          <p:nvPr/>
        </p:nvSpPr>
        <p:spPr>
          <a:xfrm>
            <a:off x="3071880" y="1714680"/>
            <a:ext cx="2428920" cy="2428560"/>
          </a:xfrm>
          <a:prstGeom prst="smileyFace">
            <a:avLst>
              <a:gd name="adj" fmla="val 58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Улыбающееся лицо 3"/>
          <p:cNvSpPr/>
          <p:nvPr/>
        </p:nvSpPr>
        <p:spPr>
          <a:xfrm>
            <a:off x="5786280" y="1785960"/>
            <a:ext cx="2500560" cy="24289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413160" cy="381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Object 3"/>
          <p:cNvGraphicFramePr/>
          <p:nvPr/>
        </p:nvGraphicFramePr>
        <p:xfrm>
          <a:off x="6300720" y="5950080"/>
          <a:ext cx="233352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5950080"/>
                    <a:ext cx="23335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414360"/>
            <a:ext cx="837072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303"/>
                </a:solidFill>
                <a:latin typeface="Times New Roman"/>
              </a:rPr>
              <a:t>Инстру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Для выполнения заданий вам необходимо выбрать инструмент, которым можно записывать ответы на вопросы. Для этого после запуска показа файлов щелкните правой кнопкой мыши в любом месте экрана для вызова контекстного меню и выберит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казатель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 в вид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рандаш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ил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учки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. Там же можно задать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цвет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чернил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Для перехода со слайда на слайд используйте кнопки на экране или  в контекстном меню (правая кнопка мыши) выберите команды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Далее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Назад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303"/>
                </a:solidFill>
                <a:latin typeface="Times New Roman"/>
              </a:rPr>
              <a:t>Желаем удачи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4">
            <a:hlinkClick r:id="" action="ppaction://hlinkshowjump?jump=nextslide"/>
          </p:cNvPr>
          <p:cNvSpPr/>
          <p:nvPr/>
        </p:nvSpPr>
        <p:spPr>
          <a:xfrm>
            <a:off x="8874000" y="6534000"/>
            <a:ext cx="270000" cy="324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324000"/>
              <a:gd name="textAreaBottom" fmla="*/ 306720 h 3240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5951"/>
                </a:moveTo>
                <a:lnTo>
                  <a:pt x="17806" y="12957"/>
                </a:lnTo>
                <a:lnTo>
                  <a:pt x="3794" y="19964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5">
            <a:hlinkClick r:id="" action="ppaction://hlinkshowjump?jump=previousslide"/>
          </p:cNvPr>
          <p:cNvSpPr/>
          <p:nvPr/>
        </p:nvSpPr>
        <p:spPr>
          <a:xfrm>
            <a:off x="8199360" y="6534000"/>
            <a:ext cx="316080" cy="32400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24000"/>
              <a:gd name="textAreaBottom" fmla="*/ 303840 h 324000"/>
            </a:gdLst>
            <a:ahLst/>
            <a:rect l="textAreaLeft" t="textAreaTop" r="textAreaRight" b="textAreaBottom"/>
            <a:pathLst>
              <a:path w="21600" h="22141">
                <a:moveTo>
                  <a:pt x="0" y="0"/>
                </a:moveTo>
                <a:lnTo>
                  <a:pt x="21600" y="0"/>
                </a:lnTo>
                <a:lnTo>
                  <a:pt x="21600" y="22141"/>
                </a:lnTo>
                <a:lnTo>
                  <a:pt x="0" y="22141"/>
                </a:lnTo>
                <a:close/>
              </a:path>
              <a:path fill="lightenLess" w="21600" h="22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1">
                <a:moveTo>
                  <a:pt x="21600" y="0"/>
                </a:moveTo>
                <a:lnTo>
                  <a:pt x="21600" y="22141"/>
                </a:lnTo>
                <a:lnTo>
                  <a:pt x="20200" y="20741"/>
                </a:lnTo>
                <a:lnTo>
                  <a:pt x="20200" y="1400"/>
                </a:lnTo>
                <a:close/>
              </a:path>
              <a:path fill="darkenLess" w="21600" h="22141">
                <a:moveTo>
                  <a:pt x="21600" y="22141"/>
                </a:moveTo>
                <a:lnTo>
                  <a:pt x="0" y="22141"/>
                </a:lnTo>
                <a:lnTo>
                  <a:pt x="1400" y="20741"/>
                </a:lnTo>
                <a:lnTo>
                  <a:pt x="20200" y="20741"/>
                </a:lnTo>
                <a:close/>
              </a:path>
              <a:path fill="lighten" w="21600" h="22141">
                <a:moveTo>
                  <a:pt x="0" y="22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1"/>
                </a:lnTo>
                <a:close/>
              </a:path>
              <a:path fill="darken" w="21600" h="22141">
                <a:moveTo>
                  <a:pt x="3794" y="11070"/>
                </a:moveTo>
                <a:lnTo>
                  <a:pt x="17806" y="4064"/>
                </a:lnTo>
                <a:lnTo>
                  <a:pt x="17806" y="18077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6">
            <a:hlinkClick r:id="rId1" action="ppaction://hlinksldjump"/>
          </p:cNvPr>
          <p:cNvSpPr/>
          <p:nvPr/>
        </p:nvSpPr>
        <p:spPr>
          <a:xfrm>
            <a:off x="8513640" y="653400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837"/>
                </a:moveTo>
                <a:lnTo>
                  <a:pt x="14587" y="6448"/>
                </a:ln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lnTo>
                  <a:pt x="18974" y="10800"/>
                </a:lnTo>
                <a:lnTo>
                  <a:pt x="17320" y="10800"/>
                </a:lnTo>
                <a:lnTo>
                  <a:pt x="17320" y="17989"/>
                </a:lnTo>
                <a:lnTo>
                  <a:pt x="6701" y="17989"/>
                </a:lnTo>
                <a:lnTo>
                  <a:pt x="6701" y="10800"/>
                </a:lnTo>
                <a:lnTo>
                  <a:pt x="5048" y="10800"/>
                </a:lnTo>
                <a:close/>
              </a:path>
              <a:path fill="darkenLess" w="24021" h="21600">
                <a:moveTo>
                  <a:pt x="14587" y="6448"/>
                </a:move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close/>
              </a:path>
              <a:path fill="darkenLess" w="24021" h="21600">
                <a:moveTo>
                  <a:pt x="11088" y="14299"/>
                </a:moveTo>
                <a:lnTo>
                  <a:pt x="12933" y="14299"/>
                </a:lnTo>
                <a:lnTo>
                  <a:pt x="12933" y="17989"/>
                </a:lnTo>
                <a:lnTo>
                  <a:pt x="17320" y="17989"/>
                </a:lnTo>
                <a:lnTo>
                  <a:pt x="17320" y="10800"/>
                </a:lnTo>
                <a:lnTo>
                  <a:pt x="6701" y="10800"/>
                </a:lnTo>
                <a:lnTo>
                  <a:pt x="6701" y="17989"/>
                </a:lnTo>
                <a:lnTo>
                  <a:pt x="1108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C41-32 копия"/>
          <p:cNvPicPr/>
          <p:nvPr/>
        </p:nvPicPr>
        <p:blipFill>
          <a:blip r:embed="rId2"/>
          <a:stretch/>
        </p:blipFill>
        <p:spPr>
          <a:xfrm>
            <a:off x="8016840" y="0"/>
            <a:ext cx="11271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685800" y="1522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6600cc"/>
                </a:solidFill>
                <a:latin typeface="Times New Roman"/>
              </a:rPr>
              <a:t>Спит спокойно  сытый сом,   смотрит сладко сотый сон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45925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2d2db9"/>
                </a:solidFill>
                <a:latin typeface="Times New Roman"/>
              </a:rPr>
              <a:t>Слон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4400" spc="-1" strike="noStrike">
                <a:solidFill>
                  <a:srgbClr val="2d2db9"/>
                </a:solidFill>
                <a:latin typeface="Times New Roman"/>
              </a:rPr>
              <a:t>Сен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1476360" y="2133720"/>
          <a:ext cx="3219480" cy="29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33720"/>
                    <a:ext cx="32194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4859280" y="2133720"/>
          <a:ext cx="3745080" cy="29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133720"/>
                    <a:ext cx="374508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73440"/>
            <a:ext cx="68706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2d2db9"/>
                </a:solidFill>
                <a:latin typeface="Times New Roman"/>
              </a:rPr>
              <a:t>Сундук, силач, сок, седина, сад, сутки, сироп, сода, сарафан, секунда, солдат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2565360"/>
            <a:ext cx="734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Силач, седина,  сироп, секун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3492360" y="4221000"/>
          <a:ext cx="228600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221000"/>
                    <a:ext cx="22860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6870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Д о с к а ж и    с л о в е ч к 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</a:rPr>
              <a:t>на        но          ну         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</a:rPr>
              <a:t>ка        ко          ку          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</a:rPr>
              <a:t>та        то          ту           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</a:rPr>
              <a:t>са        со          су           си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762120" y="6094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йди слово в слове. Обведи кружочк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182880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Дубок, кусток, краны, спор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коса, ростк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914400" y="685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оставь из букв слова. Запиши 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90720" y="2133720"/>
            <a:ext cx="322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С,О,Р,К,О,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71640" y="31417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И,Р,А,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90720" y="41497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О,Н,К,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20T21:12:16Z</dcterms:modified>
  <cp:revision>12</cp:revision>
  <dc:subject/>
  <dc:title>PowerPoint Presentation</dc:title>
</cp:coreProperties>
</file>