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D77F-EBCB-484C-838B-857B36035D32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3F54-E405-45A9-96B7-9AA86DAF0E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7911-33EC-4FE1-8D49-2C42C69397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165-4A63-4A08-9FFB-BB043228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FAA-1973-4BC7-806F-F6D6527C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6E845-0C1A-4180-BF06-A0F78C81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363A8-B050-43CC-A5E1-54399F18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22FB2-730D-403F-8BCE-0310C878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14A91-EA85-48CA-8420-64169F30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945D5-2466-4AC4-92EA-A3F337EF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6EA94-C253-43C0-8549-1306BBC9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1E12A-3D15-413F-88E8-9B51C73C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D3C37-4209-4213-8FA8-DFF5D505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5C8B3-08C0-455F-A4EC-6E7255D7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24251-558F-4C26-95B8-95F341B4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DD4-0438-4ADC-A289-6B5BA1ED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BF730-DE16-49D5-837C-8A1EAECC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9D43B-2C3D-4601-8AAB-DDAB5350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55B00-07FE-4E01-923C-03B9A4E8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D21E0-74A9-42E1-8791-3D20908D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6CB60-89FB-4692-A06C-06195BF4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6C9F4-2281-49BB-ABB6-E74C2F27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407F7-B78B-408C-869A-AA8AB9DA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91C02-081D-4192-A2C0-99C7F4DE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612A1-2D81-46DA-B1A4-8D92EB9F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E250D-43EC-4527-926C-E87C3233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714-09AF-48E5-BCD7-B872A527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90475-60A5-41BE-85F1-F1ED56D8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AC980-15BA-4C80-B300-F957E771B2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2E78F-6A17-4AE6-9455-CF983670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3A3DE-12C0-4133-B25A-D086F27B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4A6F2-CD58-47B5-BA08-C80C7111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AAF75-F428-4846-A359-37ED503A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E7519-40C1-440E-8112-911CE4C8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B0763-E2FF-4A8B-A35C-23B83485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28F-A26F-48CF-90B4-7B6209C8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B85CA-2746-4C22-8766-D3B1AEAB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3AA13-AF1D-479D-9299-76200B86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C7786-E524-4A11-B632-35DCB0CC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B1AD5-656A-406A-B788-E5DD2807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33368-6993-473D-865F-641451DE94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F8E81-1D64-42C0-812C-3A279490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121FE-E0DA-4824-9409-4F79F55E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74184-F0BC-4AC9-8402-2D68C9C0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4D3F7-88F3-4048-94F3-9346822A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B14B8-09A1-4893-AC2C-9CBC592A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510-E973-4D7D-A01E-8DC49DAE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434AD-F9D5-4024-8240-35EF9D76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2F8BA-AE21-49A2-9B85-07B5822D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294CE-881B-4B16-B0F2-17C9FD9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4B344-DA5B-441A-99F2-3EA7F14E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552AE-0932-4043-B8BF-09E2FFF5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5E5A3-0365-4D12-A147-EA7EC245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F7C88-3B19-42DA-870F-4A4F6CC9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2E382-91EC-4492-9955-CDAD98E6FB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2C00C1-E5A7-4AA8-842A-0E3CF3AD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947ED5-DA46-4559-B5C2-644CDCD7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7A6-77C8-4F6B-96BC-7719F41A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317C1B-C1C1-47E4-9992-35187A5D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8A51F4-0164-4FAE-B4B3-848CAC19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8F464E-A01C-410C-B6DA-79AC0AFF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61093-8B74-465F-BA6E-E5791068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626F70-A394-4D25-AA2B-202E3BEB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8DC177-0828-47A6-BD8A-79396B2C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76BDAE-1151-4D92-BD9E-8B3C882E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D64064-1F33-4134-B188-F3401DFE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A621C8-3611-4E36-809E-D83A7540C5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73C3A-F74D-420D-A143-15D1204068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B7B-AB8E-4899-88F2-63A8D3E4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3E94E-CE27-4F44-92BD-6E511E2F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2D721-0E7C-43E8-B13C-D9B59154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DBEC3-696A-463B-87FD-62FA85F6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CC894-401B-4823-B67C-625FFC2D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4DC3D-5DD8-483B-8D23-8ECF61C1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315DF-CCD2-48EB-AF7F-E54E8D59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E99B0-D9EC-4CEA-BF60-689AE9EC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79FCA-92B6-4B11-B730-29431652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A4616-A8BE-42D7-85BE-472C1D43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F228E-BB77-4A58-AAC7-9D6EF40C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344-251A-4A63-85BB-D80E998F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4843D-7C63-4DA7-A58B-852A1672E9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48715-E0B3-4467-9CCD-037B6893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15A46-CB7C-476E-8BF9-E531BEBC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B56AC-39E4-4ACD-9089-AE030BE2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4FE7D-1E30-40F8-AE0C-07BDBF6A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58891-9C6F-4E64-893A-65D867DB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4B434-4549-4D67-90DD-F94401EA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FAF64-8D7F-4975-A303-C3B2828E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B2340-F551-418F-9139-784F56E9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05EA9-7977-4E14-87A4-C21FD0C8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1C4-80AD-4DFA-BB0B-217623DE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B90E9-74AA-477A-885D-7E2F563F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43697-0884-4C1B-9A06-824B8F0C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9AC0B-E2AB-445E-88ED-4465872E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D5A74-1591-42A7-9403-D233D40E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0CF2E-D3C9-4272-AA2F-4F7A43F3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E48CB-9C2B-44FE-8E80-ABF70485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4B7C7-69CE-4656-AD2C-D7AC6E24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E8319-CE10-4D96-957C-F758CBCA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D0EE7-F425-408B-89A7-A372D438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BE1EC-D82E-427E-B201-64A66FC0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319-279C-43CC-A9E0-06109565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B59F7-0D5D-4BF9-82FD-A4365EE4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F8E20-50A7-4676-82D0-E31B7AD0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E1603-16B7-42C3-B44A-DF633657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01934-E2CC-430F-B0CC-773D3265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07702-8ED7-4AE2-9407-0076FB24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FA2EB-FAEA-4F8E-BD04-6DFFEBE4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7AEEB-70A1-41C0-9EC9-F9260D1D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AA45A-28BE-429D-B53A-A28EA973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152A6-DA8E-43E1-99D4-22E0D312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1911D-8EC2-4453-80AA-A68B05A8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D24-E7F6-4A0C-B56F-A02EF0E4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96E56-E882-4075-B2E2-CC7C36A5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82584-DEF0-4E14-B0AB-03818E5B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50D42-DCCA-40B5-BB13-2AA0E20A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88C9D-E34D-49F6-8334-32001D55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76260-FAD3-4661-AA23-3D27B3D9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8593A-B0A2-40F1-87E7-BDCC8455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6E216-71ED-44C0-8099-4AEA5BDD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EB9E9-9DD7-4D50-897B-636B2204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3DBDD-9B33-4A5E-958B-0A0B0F1D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EAEBF-F75C-4E2F-8472-09CE8260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BF65-F30F-4C35-A62D-8ADA36421B4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7EA4-66D9-43D7-9D23-27FDAEB092C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87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8860-83BC-4B1C-8020-9187E832FEC1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B367-3377-4941-A4CA-D2C4130F2CB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90EF-DA86-4E95-84AB-AB1D5894B3E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B915-15D7-4AA8-952D-0B6816CCF5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6B9C-BA5F-4FC2-A139-F2C81E26CFC3}" type="datetime">
              <a:rPr b="0" lang="ru-RU" sz="1400" spc="-1" strike="noStrike">
                <a:solidFill>
                  <a:srgbClr val="000000"/>
                </a:solidFill>
                <a:latin typeface="Corbe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МОУ "Сош № 72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3A5E-4A67-4711-9AE7-21351E9C8551}" type="slidenum">
              <a:rPr b="0" lang="ru-RU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2CC0-9666-40F1-98DA-EE2C03064B5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507F-9CE0-43FF-B3B8-E938C5BAB0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A56C-857D-43C0-8859-BD2FAE20A3D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D7F5-06E7-40A6-AEE3-1E28E6D87F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2828-04EB-40FC-B87C-5649D7B13BA0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88D4-AB18-45D4-9C89-F1832CA7A39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ирог 12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13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Кольцо 15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51" name="Кольцо 15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Прямоугольник 1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A9AF-312D-4C29-A9CC-20E1605126F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0ACC-55E9-40A2-9145-C2634E61B59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99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DB91-F672-424E-9B52-98CCC2E3E370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DC0A-6621-4657-8C21-1BC0D3D43B1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1E15-E34A-48D4-A93B-128AF18A4486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AEC2-B5F7-43C4-A46A-B3D794BF702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«Организация учебного процесса в 9 классе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й класс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0563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изменения содержания КИ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спективные модели измерительных материалов для государственной итоговой аттестации по программам ООО стали разрабатываться с 2018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начение КИМ остается прежним – оценить уровень общеобразовательной подготовки выпускников 9-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 КИМ определяется на основе ФГОС и примерной образовательной программы ОО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-20 августа 2019 года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фициальном сайте ФИПИ опубликован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роекты документов, определяющие содержание контрольных измерительных материалов ОГЭ 2020 г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обсуждение которых должно быть завершено к 01.10.2019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457200" y="620640"/>
          <a:ext cx="8229600" cy="5832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38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20 г. изменено количество заданий в экзаменационной работе с 15 до 9, изменён первичный балл за выполнение работы с 39 до 33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ы задание 1 (изложение) и альтернативные задания (9.1; 9.2; 9.3), система оценивания ответов на них. При этом изменилась жанровая специфика текста для изложения (могут быть предложены тексты различных жанров (путевые заметки, записки, очерк, рецензия, дневник и т.д.)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ционная работа предполагает выполнение экзаменуемым различных видов анализа языкового материала: 4 задания (задания 2–5) проверяют умение выполнять орфографический, пунктуационный, грамматический анализ; 3 задания (задания 6–8) нацелены на анализ текста, а именно проверяют глубину и точность понимания содержания текста; понимание отношений синонимии и антонимии, важных для содержательного анализа текста; опознавание изученных средств выразительности ре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457200" y="1600200"/>
          <a:ext cx="8229600" cy="1558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ИМ включён новый блок практико-ориентированных заданий 1-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яются практические умения и навы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611280" y="476280"/>
          <a:ext cx="8075520" cy="5905440"/>
        </p:xfrm>
        <a:graphic>
          <a:graphicData uri="http://schemas.openxmlformats.org/drawingml/2006/table">
            <a:tbl>
              <a:tblPr/>
              <a:tblGrid>
                <a:gridCol w="2058840"/>
                <a:gridCol w="3533760"/>
                <a:gridCol w="248292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40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. изменилась структура экзаменационной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. Задания в работе выстраиваются, исходя из проверяемых групп умений. По сравнению с предыдущим годом общее количество заданий в экзаменационной работе уменьшено с 26 до 25. Количество заданий с развёрнутым ответом увеличено с 5 до 6. Максимальный балл за выполнение всех заданий работы увеличился с 40 до 43 балло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ИМ 2020 г. используются новые модели зад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илось содержание заданий 22 на объяснение явлений, в которых преимущественно используется практико-ориентированный контекст. Изменились требования к выполнению экспериментальных заданий: обязательным является запись прямых измерений с учётом абсолютной погрешности. Кроме того, введены новые критерии оценивания экспериментальных заданий. Максимальный балл за выполнение этих заданий 3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имо решения задач, выпускникам придется работать с измерительными приборами, анализировать предоставленные графики и схемы, а также проводить опы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395280" y="549360"/>
          <a:ext cx="8291520" cy="5786280"/>
        </p:xfrm>
        <a:graphic>
          <a:graphicData uri="http://schemas.openxmlformats.org/drawingml/2006/table">
            <a:tbl>
              <a:tblPr/>
              <a:tblGrid>
                <a:gridCol w="2179800"/>
                <a:gridCol w="3348000"/>
                <a:gridCol w="2763720"/>
              </a:tblGrid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8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. предлагается только одна модель КИ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ена доля заданий с множественным выбором ответа (6, 7, 12, 14, 15) и заданий на установление соответствия между позициями двух множеств (10, 13, 16). Добавлено задание 1, предусматривающее проверку умения работать с текстовой информаци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часть 2 включено задание 21, направленное на проверку понимания существования взаимосвязи между различными классами неорганических веществ и сформированности умения составлять уравнения реакций, отражающих эту связь. Ещё одним контролируемым умением является умение составлять уравнения реакций ионного обмена, в частности сокращённое ионное уравнени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экзаменационный вариант добавлена обязательная для выполнения практическая ча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бязательные испытания добавится проведение опытов, а также выявление вещества (раствора), находящегося в пробирке. Выпускникам, стремящимся за высокой оценкой, необходимо будет понимать, что из себя представляет каждый элемент таблицы Менделеева и как он себя ведет при различных внешних услов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539640" y="333360"/>
          <a:ext cx="8147160" cy="6048360"/>
        </p:xfrm>
        <a:graphic>
          <a:graphicData uri="http://schemas.openxmlformats.org/drawingml/2006/table">
            <a:tbl>
              <a:tblPr/>
              <a:tblGrid>
                <a:gridCol w="2232000"/>
                <a:gridCol w="3198960"/>
                <a:gridCol w="2716200"/>
              </a:tblGrid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8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а структура экзаменационной работы: снято разделение заданий по частям на основе формы записи ответа. Задания в работе выстраиваются, исходя из проверяемых групп ум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ичество заданий КИМ сокращено с 31 до 24, максимальный первичный балл уменьшен с 39 до 35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на различение фактов и мнений в социальной информации в том виде, как оно существовало в КИМ предыдущих лет, исключено из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влены задания, проверяющее умение раскрывать смысл ключевых обществоведческих понятий, задание-задача с контекстом финансовой грамотности и задание на анализ статистической информации (преобразовано из существовавшего в КИМ прошлых лет блока из 2 заданий с кратким ответом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ена аналитическая составляющая КИМ: большинство заданий требует анализа практических ситуаций, умений рассуждать, объяснять, аргументировать, выражать своё мнение с опорой на факты социальной жизни, личный социальный опыт и обществоведческие зн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должен продемонстрировать умения и знания, которые характеризуют уровень его социализации  и социальную зре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539640" y="549360"/>
          <a:ext cx="8147160" cy="5832360"/>
        </p:xfrm>
        <a:graphic>
          <a:graphicData uri="http://schemas.openxmlformats.org/drawingml/2006/table">
            <a:tbl>
              <a:tblPr/>
              <a:tblGrid>
                <a:gridCol w="2716200"/>
                <a:gridCol w="2714760"/>
                <a:gridCol w="2716200"/>
              </a:tblGrid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6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тся только одна модель КИМ, соответствующая линейной системе изучения истории на основе Историко-культурного стандарта и единого учебник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овой модели КИМ сохранены некоторые задания, которые были представлены в прежней модели (нумерация по новой модели: 2–5, 7, 11, 12, 20, 21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ы новые задания на работу с исторической картой, увеличено число заданий на основе визуальных источников исторической информации, выделен блок заданий, проверяющих знание истории культуры, расширен спектр аналитических зада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Проверяются практико-ориентированные умения: работать с разными видами информационных источников, владеть навыками смыслового чт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монстрируются умения анализировать  события, рассуждать, аргументировать, выражать свое мн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"/>
          <p:cNvGraphicFramePr/>
          <p:nvPr/>
        </p:nvGraphicFramePr>
        <p:xfrm>
          <a:off x="468360" y="1484280"/>
          <a:ext cx="8280360" cy="3422520"/>
        </p:xfrm>
        <a:graphic>
          <a:graphicData uri="http://schemas.openxmlformats.org/drawingml/2006/table">
            <a:tbl>
              <a:tblPr/>
              <a:tblGrid>
                <a:gridCol w="2759040"/>
                <a:gridCol w="2760480"/>
                <a:gridCol w="2760840"/>
              </a:tblGrid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19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а дополнительная тема сочинения в части 2. Все темы 2.1–2.5 формулируются по творчеству тех писателей, чьи произведения не были включены в часть 1, что обеспечивает более широкий охват элементов проверяемого содерж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ы критерии оценки практической грамотности (максимально 6 баллов), что привело к увеличению максимального количества баллов за всю работу с 33 до 39 балло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яется уровень читательской грамо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468360" y="1268280"/>
          <a:ext cx="8289720" cy="4938840"/>
        </p:xfrm>
        <a:graphic>
          <a:graphicData uri="http://schemas.openxmlformats.org/drawingml/2006/table">
            <a:tbl>
              <a:tblPr/>
              <a:tblGrid>
                <a:gridCol w="2762280"/>
                <a:gridCol w="2763720"/>
                <a:gridCol w="2763720"/>
              </a:tblGrid>
              <a:tr h="45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7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ИМ 2020 г. количество заданий сокращено до 15. Расширен набор заданий, выполняемых на компьютере за счёт включения 3 новых заданий, проверяющих умения и навыки практической работы с компьютером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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информации средствами текстового редактора или операционной системы (задание 11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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содержимого каталогов файловой системы (задание 12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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езентации или текстового документа (задание 13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личие от КИМ 2019 г., в КИМ 2020 г. во всех заданиях предусмотрен либо краткий, либо развёрнутый ответ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коснулось разграничения тестов на три уровня: базовый, средний, повышенный. Увеличено количество заданий практической направ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5" name=""/>
          <p:cNvGraphicFramePr/>
          <p:nvPr/>
        </p:nvGraphicFramePr>
        <p:xfrm>
          <a:off x="468360" y="1600200"/>
          <a:ext cx="8218440" cy="3448080"/>
        </p:xfrm>
        <a:graphic>
          <a:graphicData uri="http://schemas.openxmlformats.org/drawingml/2006/table">
            <a:tbl>
              <a:tblPr/>
              <a:tblGrid>
                <a:gridCol w="2374920"/>
                <a:gridCol w="3103560"/>
                <a:gridCol w="2739960"/>
              </a:tblGrid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98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е язы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экзаменационной работе 2020 г. были внесены изменения в разделы 2 («Задания по чтению») и 5 («Задания по говорению»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зделе 2 («Задания по чтению»):  было изменено задание 9: участникам ОГЭ предлагается осуществить информационный поиск и определить, в каком из шести письменных текстов содержится ответ на предложенный вопрос (в задании есть один лишний вопрос). Максимальное количество баллов за выполнение задания – 6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яются практико-ориентированные умения: работать с информационными источниками, владеть навыками устной ре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вестка д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ормативно-правовая основа деятельности МАОУ «СОШ №65 г.Улан-Удэ имени Г.С.Асее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Безопасность обучающихся и профилактика правонарушений несовершеннолет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ововведения в ОГЭ-2020 на основе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рганизация деятельности родк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Раз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539640" y="404640"/>
          <a:ext cx="8136000" cy="6120000"/>
        </p:xfrm>
        <a:graphic>
          <a:graphicData uri="http://schemas.openxmlformats.org/drawingml/2006/table">
            <a:tbl>
              <a:tblPr/>
              <a:tblGrid>
                <a:gridCol w="2376720"/>
                <a:gridCol w="3047760"/>
                <a:gridCol w="2711520"/>
              </a:tblGrid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 в КИМ ОГЭ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2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ращено количество заданий с 32 до 30 и максимальный первичный балл - с 46 до 45. Отдельные изменения коснулись следующих позиций: в части 1 работы включены новые модели заданий в линиях 1 и 20, в части 2 добавлена новая линия заданий (27), линия 30 (задания 31 и 32 в модели 2019 г.) претерпела значительную переработку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влены практико-ориентированные зад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ерьезных изменений не произошл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2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ИМ 2020 г. изменена последовательность заданий, изменена форма записи ответа в заданиях (2, 3, 14, 15, 21, 22, 24, 26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ИМ 2020 г. включён мини-тест из трёх заданий (27–29), проверяющих сформированность умений работать с текстом географического содержания. Максимальный первичный балл уменьшен с 32 до 31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влены задания, определяющие умения работать с информационными источниками. (Серьезных изменений не произошл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вод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341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Можно с уверенностью сказать, что изменятся все составляющие ОГЭ 202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улировка зад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кращается тестовая часть, увеличивается количество заданий по видам проверяемых умений и способов действ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итерии оцен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Некоторые тесты, которые входили в открытый банк заданий ФИПИ сохранятся, но будут видоизмен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ГЭ становится более схожим с ЕГЭ, по некоторым заданиям даже слож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68000" y="1599840"/>
            <a:ext cx="82184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Подготовку к экзаменам необходимо начинать как можно ра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Отношение к подготовке к экзаменам  должно быть мотивированным не только у выпускников, но и у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но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Организация деятельности родк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я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режима работы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ормативно-правовая основа деятельности МАОУ «СОШ №65 г.Улан-Удэ имени Г.С.Асеев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а поведения обуч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декс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ческие рекомендации МОиН РБ об использовании устройств мобильной связи в О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Безопасность обучающихся и профилактика правонарушений несовершеннолетних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жданская обо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жарная 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дорож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иводействие террори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опасность в интер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785880" y="242892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Нововведения в ОГЭ-202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на основе ФГОС ОО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чина нововвед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539280" y="1599840"/>
            <a:ext cx="81471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2011 года в общеобразовательных школах России обучение по учебным программам осуществляется на основе федеральных государственных образовательных стандартов (ФГОС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как ФГОС диктует правила для всего процесса обучения, изменениям подвергнется и ОГЭ для девятикласс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 изменений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стижение более высоких образовательных показа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ышение уровня теоретических и практических знаний уче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252720" y="274320"/>
            <a:ext cx="89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изменения ОГЭ-2020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53964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е содержания КИМ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будут разительно отличаться от заданий предшествующих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яется цель заданий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мену проверки информированности ученика по той или иной дисциплины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КИМ ОГЭ 2020 нацелены на определение и оценку практико-ориентированных знаний выпускников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сравнении с экзаменационными моделями 2019 г.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ах КИМ  ОГЭ 2020 г. уси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ная составляющ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ий характер зад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ованы некоторые принятые в международных сопоставительных исследованиях подходы к конструированию заданий по математике и предметам естественнонаучного цик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нозируется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то итоговая отметка, выставляемая по конкретному предмету в аттестат ученика, зависит от его результатов на ОГЭ. Если за год у выпускника выходила пятерка по русскому языку, но экзамен он сдал на четвертку, то в аттестат об окончании 9-ти классов пойдет оценка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6:05:59Z</dcterms:created>
  <dc:creator>Алекс</dc:creator>
  <dc:description/>
  <dc:language>en-US</dc:language>
  <cp:lastModifiedBy>Admin</cp:lastModifiedBy>
  <dcterms:modified xsi:type="dcterms:W3CDTF">2019-12-15T14:21:01Z</dcterms:modified>
  <cp:revision>96</cp:revision>
  <dc:subject/>
  <dc:title>Проект.технологии</dc:title>
</cp:coreProperties>
</file>