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168-96F6-4239-9301-EFCBA039D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A3F-19BF-4B4E-B6BF-7B135CFDA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CC1-4D57-4535-A22C-36CEFD12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56B-BF21-4D9B-945C-E3E2A56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043-F79E-47CF-9E5E-EB52C3A5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36C-A72A-41D1-8A31-00DE353C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C655-6C22-4BAD-B9EC-32CB1137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41B8-D2AB-454A-A170-F111AE63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431D-F10F-467C-B10B-1E3A2B70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531-E3D3-4752-B6A4-2732694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D3B-D7F2-432F-8209-44DA1AB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21C8-FD6F-4D72-BA65-842859B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05A6-385D-4B49-BD6F-7C5FBC5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38E-14EE-42D8-9EF9-A742AF3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A757-8F53-4E2E-B94A-A88C573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402E-D380-4D95-B63A-7754CDA4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543-7E30-4720-9D08-1FD4EE6B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EF8-3F9E-4386-AF55-CB27213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EA3D-A12E-484F-B1F8-B10BD2FE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91344-30CD-455C-AEEA-3382754B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678E1-4E83-425D-A7A3-25CF99B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3BF19-3D9A-4AB5-9392-AB3BC69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459F8-115B-4072-9062-66450EFB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0447B-004F-48F5-8A0D-3CC5814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17-90A4-461C-A968-A55E8089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28F01-6555-4A9C-B7B1-F4AF1A5C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EEDEC-C90B-4DB3-B5F8-F6CF427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81EE6-2D81-4799-8BE3-FC646C41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F699C-FBD2-4A35-B320-5EFD5531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3B75E-3C74-437E-B522-EAA5164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13A21-8FB2-40AB-8076-C76AD2D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61E36-68A6-4343-AA15-FAD2B854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01E2-96E3-430F-9C37-F8472CA3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69A3-D657-463C-890A-903BBA11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5AC9-43CD-4F22-A76D-7101A8E9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0EE-EAB7-4F81-8CD0-92E57E6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4B01-C333-485C-B631-0B71ABC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72BF-452F-4B4F-A4AA-AECCF2C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81BE-A052-461F-9F85-7D220F9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95B6-4570-416E-AA81-ECABF849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7B8E-769B-4C58-90C8-C7E277A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EF35-B63C-42B9-B9A1-4C4A474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D790-492C-48B6-A59C-6EE7891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0DB0-5A20-40AF-BBB1-889B8FB2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1360-AA5A-4C45-BD81-852446C7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6D083-7B60-45B0-9088-7F8E683D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D37-6649-4284-9114-ECE7D67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3E0FC-8C7D-4E72-A1DC-ED0A130C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12892-49E6-461B-9C73-B4568BA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330BF-28EC-4BC2-963B-A839BE38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038FD-545E-408F-B2E2-592E077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FFA6A-E88C-42AB-A592-14A5153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75AD3-8853-4FD7-A5FF-BA5391BE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EB004-41B3-4826-B69F-FCC8420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91198-80BE-44A2-B936-DCBFC06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0DB79-94E8-4ABD-B046-E5D82A26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E801F-A22D-4C75-864D-37B423A9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562-7C9C-4FED-B16F-73858A4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3D876-D3CC-4A00-94FA-4F7653B2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CA950-9032-4B6E-A18E-A03CFA4E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E9A44-BF82-4273-AF38-FE21F0F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5BC7D-4E00-4309-A6EA-EC13FC06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C2C07-3F47-4229-8A85-04B8A47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81560-D5DB-4CFF-9569-0690BF3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3B24E-CA10-4A9B-8315-DB93D5B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18075-CA9C-4DD0-B6FA-4153220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9C3E5-ABB5-4D68-AF45-2452950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F0B49-9149-4FFA-A5D2-B64D549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B86-8303-4286-A4FE-1A34FCF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97AB9-7974-4576-9DCF-B15B833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68CCB-7A8B-42D6-BEEE-08FF2808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AC77C-D4D3-4540-94F9-A2653F1F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F4826-CE07-453B-AF38-631401A5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8BC96-9A3B-410B-A119-97932105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A8409-F24C-4717-8A73-B8B1366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AA5FD-3D4F-4C2E-AF6C-CEA50EF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9CAB0-5E6C-47F8-A255-10DA5D1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C306B-D49B-4799-9501-22B74DB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11B5C-B28F-4C85-9183-16D5B83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7B9-D69C-4590-9FAB-B729FBD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25B89-D9D6-4FD0-BAD8-0329422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EF04E-D830-4003-B63E-7EF72E03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9DC43-34BD-469A-86E8-FAC1518C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541DC-9A5F-4F16-8D5D-7678565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F17A6-F524-4974-B5DF-30258FDB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C3A-52A6-4BB9-AB5D-3E40F9B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7EF-284A-4E43-96A8-A1B860D10F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6EDB-5313-477E-B314-0C57B1BE65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D7BF-57F5-4B30-9857-F0989157A4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C3F-418C-4D38-9EF7-7CB4C97AAC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F93C-6B97-4E18-94F0-24B13B0017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7E7-43FD-4EDD-B1BC-9E2DB682B6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8AFC-7B26-479D-BE5A-A71ECA81AE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1.bp.blogspot.com/-EV1aFg-SwNM/WyASLWxL7GI/AAAAAAAAdm0/rmzeZv3NKmws0MXgcK2Kp1ruKjOktfxNACLcBGAs/s1600/635f2601530c93f2fef6e9e210ad13f8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2428560"/>
            <a:ext cx="61722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ЯНСКИЙ КОСТЮМ КОНЦ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5003640"/>
            <a:ext cx="657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учащиеся Староюрьевского 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71680" y="928800"/>
            <a:ext cx="392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ая обувь претерпевает изменения под влиянием военной моды. Высокие сапоги, ботинки и краги — накладные голенища с застежками носят с бриджами и галиф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носили обувь на каблуке: туфли, шнурованные сапожки, высокие 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https://дешевая-обувь.рф/800/600/https/cs6.livemaster.ru/storage/d4/f3/65fc466c327683db7f94813280pj.jpg"/>
          <p:cNvPicPr/>
          <p:nvPr/>
        </p:nvPicPr>
        <p:blipFill>
          <a:blip r:embed="rId1"/>
          <a:stretch/>
        </p:blipFill>
        <p:spPr>
          <a:xfrm>
            <a:off x="5072040" y="500040"/>
            <a:ext cx="3429000" cy="2854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mir-obuvi.org/uploads/posts/2015-05/1432042274_obuv-nachalo-20-veka.jpg"/>
          <p:cNvPicPr/>
          <p:nvPr/>
        </p:nvPicPr>
        <p:blipFill>
          <a:blip r:embed="rId2"/>
          <a:stretch/>
        </p:blipFill>
        <p:spPr>
          <a:xfrm>
            <a:off x="4000680" y="3857760"/>
            <a:ext cx="4000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Прямоугольник 2"/>
          <p:cNvSpPr/>
          <p:nvPr/>
        </p:nvSpPr>
        <p:spPr>
          <a:xfrm>
            <a:off x="785880" y="1785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mir-kostuma.com/19-vek/item/54-20-v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Прямоугольник 3"/>
          <p:cNvSpPr/>
          <p:nvPr/>
        </p:nvSpPr>
        <p:spPr>
          <a:xfrm>
            <a:off x="928800" y="310500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s://lebedinajpesnja1.blogspot.com/2018/06/1887-1914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571680" y="285840"/>
            <a:ext cx="7929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19 века в прикладном искусстве сформировался новый стиль — «модерн», для которого характерны текучие, плавные линии, асимметрия, неуловимые переходы тонов, приглушенные зеленоватые и розоватые оттенки. Типичной чертой этого стиля были «морские» орнаменты: изображения лилий, водорослей, русал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дежды в период «модерна» стали менее четкими, покрой — мешкообразным. В целом, одежда значительно упростилась, что связано с распространившейся модой на занятия спортом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500040" y="1214280"/>
            <a:ext cx="535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ая одежда в период «модерна» окончательно унифицировалась. Крой упростился, цвета костюма стали более однообразными.Мужчины носили белые рубашки со стоячим воротничком с отворотами и туго накрахмаленными манжет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популярным стал сюртучный костюм-тройка: сюртук, жилет и брюки. Чаще всего их шили из темных тканей — черной,серой, синей, реже коричне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-143280"/>
            <a:ext cx="74674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Прямоугольник 2"/>
          <p:cNvSpPr/>
          <p:nvPr/>
        </p:nvSpPr>
        <p:spPr>
          <a:xfrm>
            <a:off x="142920" y="642960"/>
            <a:ext cx="335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мировая война внесла в мужскую моду заметные перемены. Появились новые «военизированные» элементы гражданского костюма (френч, тужурка) из ткани цвета хаки, различных оттенков серого и коричневого. С пиджаками и фраками стали носить бриджи и галиф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https://3.bp.blogspot.com/-NEnaB8YfsNk/WyAOj15lW7I/AAAAAAAAdlU/TXuL5e72x4o34g_3CRW0Yenkefar0s_zgCLcBGAs/s640/%25D0%25BC%25D1%2583%25D0%25B6%25D0%25B6%25D0%25B6.jpg"/>
          <p:cNvPicPr/>
          <p:nvPr/>
        </p:nvPicPr>
        <p:blipFill>
          <a:blip r:embed="rId1"/>
          <a:stretch/>
        </p:blipFill>
        <p:spPr>
          <a:xfrm>
            <a:off x="3429000" y="928800"/>
            <a:ext cx="55720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214200" y="785880"/>
            <a:ext cx="39290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XIX в. повседневная женская одежда стала более простой и удобной. Так проявилось зародившееся в тот период движение за эмансипацию женщин. В моду вошли юбки с блузками, пальто, купальные и спортивные костюмы. Впервые появился деловой костюм, состоящий из юбки и жакета темных то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https://4.bp.blogspot.com/-_aYfFjFYXiQ/WyAM1Us3GtI/AAAAAAAAdkc/pe3hGYySTxYkUFX7kY4JdPom-PjR7qO4QCLcBGAs/s640/005b96844c340a53db0dd109b732834c.jpg"/>
          <p:cNvPicPr/>
          <p:nvPr/>
        </p:nvPicPr>
        <p:blipFill>
          <a:blip r:embed="rId1"/>
          <a:stretch/>
        </p:blipFill>
        <p:spPr>
          <a:xfrm>
            <a:off x="5857920" y="142920"/>
            <a:ext cx="2415960" cy="32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https://1.bp.blogspot.com/-EV1aFg-SwNM/WyASLWxL7GI/AAAAAAAAdm0/rmzeZv3NKmws0MXgcK2Kp1ruKjOktfxNACLcBGAs/s400/635f2601530c93f2fef6e9e210ad13f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4880" y="2928960"/>
            <a:ext cx="2579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785880" y="1428840"/>
            <a:ext cx="364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ные женские аксессуары — перчатки, лорнет, боа, веера из перьев, маленькая сумочка на длинном шнуре, а летом — кружевной зонти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https://1.bp.blogspot.com/-SnZOn3XYMLQ/WyAuMYGXGWI/AAAAAAAAds4/YLK9vLmoPcI6JLNRV8QbR9ceyMpKJI3RQCLcBGAs/s1600/1909%25D0%25B3%25D0%25BE%25D0%25B4%25D0%25BF%25D0%25BB%25D0%25B0%25D1%2582%25D1%258C%25D1%258F.jpg"/>
          <p:cNvPicPr/>
          <p:nvPr/>
        </p:nvPicPr>
        <p:blipFill>
          <a:blip r:embed="rId1"/>
          <a:stretch/>
        </p:blipFill>
        <p:spPr>
          <a:xfrm>
            <a:off x="4500720" y="1285920"/>
            <a:ext cx="41432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БАЛЬНЫЙ КОСТЮ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214200" y="1143000"/>
            <a:ext cx="47865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их украшает масса оборок из белых или черных кружев. Пикантной деталью стал особый тугой корсет, который придавал женской фигу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образную форм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ка приобрела колоколообразную форму благодаря покрою клеш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ов в бальных платьях либо по-прежнему не было, либо имелись пышные короткие рукава-"фонарики". Платья глубоко декольтировал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https://s017.radikal.ru/i427/1501/1e/6271266f7746.jpg"/>
          <p:cNvPicPr/>
          <p:nvPr/>
        </p:nvPicPr>
        <p:blipFill>
          <a:blip r:embed="rId1"/>
          <a:stretch/>
        </p:blipFill>
        <p:spPr>
          <a:xfrm>
            <a:off x="5072040" y="1714680"/>
            <a:ext cx="31608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009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СКИ И ГОЛОВНЫЕ УБОР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357120" y="857160"/>
            <a:ext cx="3786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нские прически в эпоху «модерна» были высокими. Часть волос укладывали в шиньон на темени, а часть — в валики надо лб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https://i.pinimg.com/736x/53/6c/78/536c78f0199b5155cb3edbe55deef807--belle-epoch-gibson-girl.jpg"/>
          <p:cNvPicPr/>
          <p:nvPr/>
        </p:nvPicPr>
        <p:blipFill>
          <a:blip r:embed="rId1"/>
          <a:stretch/>
        </p:blipFill>
        <p:spPr>
          <a:xfrm>
            <a:off x="5357880" y="857160"/>
            <a:ext cx="2948040" cy="2881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s://ya-zhenschina.ru/uploads/posts/2018-12/154488952811fashion-14.jpg"/>
          <p:cNvPicPr/>
          <p:nvPr/>
        </p:nvPicPr>
        <p:blipFill>
          <a:blip r:embed="rId2"/>
          <a:stretch/>
        </p:blipFill>
        <p:spPr>
          <a:xfrm>
            <a:off x="3571920" y="3714840"/>
            <a:ext cx="2786040" cy="300996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ОЛОВНЫЕ УБОРЫ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Picture 2" descr="http://2.bp.blogspot.com/-zamJrypgb-c/T5czbqQoCgI/AAAAAAAAAHs/968cIxpjYWU/w1200-h630-p-k-no-nu/victorian+hats.jpg"/>
          <p:cNvPicPr/>
          <p:nvPr/>
        </p:nvPicPr>
        <p:blipFill>
          <a:blip r:embed="rId1"/>
          <a:stretch/>
        </p:blipFill>
        <p:spPr>
          <a:xfrm>
            <a:off x="3643200" y="2000160"/>
            <a:ext cx="5050080" cy="3429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3"/>
          <p:cNvSpPr/>
          <p:nvPr/>
        </p:nvSpPr>
        <p:spPr>
          <a:xfrm>
            <a:off x="357120" y="1428840"/>
            <a:ext cx="3429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X века излюбленным мужским головным убором оставался котелок, носили также цилиндры. Но в середине 10-х годов на смену цилиндрам и котелкам пришли мягкие фетровые шляпы и канот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1T06:48:15Z</dcterms:created>
  <dc:creator>Таня</dc:creator>
  <dc:description/>
  <dc:language>en-US</dc:language>
  <cp:lastModifiedBy>Таня</cp:lastModifiedBy>
  <dcterms:modified xsi:type="dcterms:W3CDTF">2019-04-21T08:07:58Z</dcterms:modified>
  <cp:revision>24</cp:revision>
  <dc:subject/>
  <dc:title>Дворянский костюм конца XIX – начала XX вв.</dc:title>
</cp:coreProperties>
</file>