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1C7E-26D9-4C59-BF57-25E4782923F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2446-C8CD-4DD8-94D1-9363AA309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7EC-0438-4D26-86EE-003FDE6D73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37F-5C02-4093-AED4-0043C048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7AF-DFAD-43FD-86F4-731851E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4491E-8061-430D-989E-CA438588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30E73-FBC3-492F-956B-541AD5C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2FC8-A8B4-4533-AA78-EB421F5D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9311-E64C-457A-8E3E-27828A7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65081-38A1-4F12-B437-A7BBA9D1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26375-9395-4B5B-A9DE-E03A0FF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63A2-3EA3-4418-B990-DB5CA11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F037-F7C0-434A-9DBF-80FE7868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FAC5-D2A6-4FE1-AB1F-E0618E5D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FBF80-71EF-43DB-B24B-56492C93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F90-A980-463E-8E4C-5FA32B81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2BAC-1713-4690-9C11-11EE3ED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6A71D-EAA5-49F4-9895-D6C11C99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B69A-4782-44D9-BBBF-F4E502D4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F147-7AEB-423F-B2A8-9154431B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815D-702B-4FB2-A4C2-984A2225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B058-B869-41A6-82BD-EC233CA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B8672-469C-4BD2-80A6-0DE5FE4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5CA7F-77E0-4C86-A012-53C0EDF3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0DBE-7D8F-4C7F-A233-D5DFD1CE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3045-39F1-45B4-88D7-39AFFB10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31A-97A5-4138-8BE1-A3CBEB32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3DA94-BDCD-465E-BB03-F0998FC8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C8C87-F129-4365-874B-52D904EDA4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76A81-E851-4D7A-8B84-6799F4B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65E4-DE74-425E-AC98-D9BFBEA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622B4-EB1E-4DE8-B34E-04A9FE2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563A8-F824-4DA7-AFE8-98E57B8C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46BB5-3741-460A-A453-EF98CA0A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C5FA7-414A-401B-A681-001869B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133-B417-44F5-97D3-7F6BEC4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D7646-C3AA-4548-AAC7-D01AF55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F6EA-B052-45B2-9147-FA6FD8D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A684-3E62-4919-BCBC-A679BCA3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B0A5-10B2-4799-BC55-87D7CB1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52A0B-3F61-4FCA-8A77-71CB62E51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7B7B7-BBDD-4786-8D29-F2EB58B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1B6E3-DAAB-4691-8CCC-B27DC3E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2E86-2930-48B3-8030-0D88B315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E7CE0-1DD1-4780-BEC5-DC47C870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6405C-038B-4FFE-B813-268C24F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D7F-C8A5-4568-BC5C-F47DDD34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F5A3D-8625-4453-B484-F098FEFF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F34C8-8E63-4FBD-ACB9-1D967A7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EE9C9-0356-4018-860B-ED8523B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DDA47-23FA-443D-98B0-653AFB2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3FCC6-9B6D-4A9F-8108-1516D4FC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EC487-AE9C-464C-9AC2-C0EC4DEE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1B053-EBE8-47FF-BA1D-2498F6F0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3066E-54BE-4505-BBF2-40EBE41D3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B76C6-620B-4C79-825C-FDF237A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970F6-BB6B-4132-8DFF-BB40EA2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AC1-7192-496B-AED4-36445E0F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51495-0A45-4950-9644-B0A9B42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86FA8-DA12-452D-959D-27DC1EAD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04379-E3CB-4FBC-AE87-339FC6F0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1C8F4-6D2A-459B-9B9F-230DC92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90C47-D9F4-43A6-8F50-4B23543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081A2-A164-42EB-BF20-8719C548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EB191-FC6A-43AD-8D44-E437434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C022F-5A15-488B-B858-D9D57F1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10796-34BB-4250-B3AE-6FA0E3B7A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9E00-5771-4FDF-B626-678C987BD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B20-335B-4493-B95C-4DCA6B2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981B-DFE8-4889-8242-6840B8A0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AAC2-B86B-4A03-AF20-50BE12E6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14FF-C2F1-477F-8921-0229597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B413-C05A-40C6-AD55-BBAA98E4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B775-7F70-4697-AD94-89DA9BC1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1CF9-78E1-4C54-812B-7D42E5B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C08C-B493-4A88-B012-5352417A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CA46-241C-483C-A70C-AC698759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4289-DCD5-4D05-91EA-6F44FAD9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9BB3-D24B-4FDE-8688-003B51F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997-51C7-4266-9BC4-15350E59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C5BC-9529-4F37-A0B6-3FF44B247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B580-9CFA-4B34-93C5-EA0DB055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7B35-2204-49BB-AA4A-648564B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55B6-025A-45C6-A93A-8519D36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3BFF-1ECB-4C51-AAF8-B05A8E6E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FD62D-6C57-4DEF-998F-E556E91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B073-182E-43A7-85FD-C28627D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0C85-5C5D-4069-BAE2-38217D4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839FB-B67E-4A15-B92C-7075A75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65FC-F05F-4214-BF9D-3C0C71D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19F-6BC2-4DA3-9A34-5AE721C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FFD1-98A4-4E41-B38A-E14D38B7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A7CF-E03A-4A0A-877B-6CE6DE83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DE65-EAD9-41E4-8FF5-C3C6293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97708-9803-445B-83A8-6CD26D8F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7616-C7CD-4991-9CC2-07B0A82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51E5-1C12-4DEC-9EBE-F1B9DF2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A8DD-1DA9-4EF4-BFBC-F22CF0E3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1AA22-1997-46A1-9187-0962AF8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22F0-CFE3-4B1C-8D87-A1927A2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529A-A67E-4C9D-B00D-3D34DE3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81B-2215-4A72-837D-7B8E60D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F40A9-F071-4635-AD98-21E914E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E089-BF93-4F7B-964F-F9221E2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5464-97B6-4B63-A17C-D1CA454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32272-F89A-460D-9A6B-1A0DE31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B00B-A998-41F1-932D-4CBB4568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D318B-98E5-43DD-8D17-64736A6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6064-91B8-423A-A825-00DDDFC2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EC40-CFF4-4D79-9E1F-605F03F3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BAC2-3865-4856-9464-346898B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B918-944D-4D62-AE1D-DAF8A99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120-E3A8-4296-87B5-39951A0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E0EF-D03C-467C-B4B5-49591791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2E18-118C-46B8-A107-E1E262F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4FE5-72F3-4008-97F7-D52891C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22E5-DE38-4BA0-85A6-AA0D36A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19D6-886B-4323-AD80-52206C26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9469-9C94-47C4-BCC8-F013956B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BC2D7-401A-4817-868E-83062CE1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347D-4CA1-4444-AC53-74CAFB41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14662-99F4-40FB-9029-B28511B6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4868-5B34-4BD5-B77C-A523E38D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BDE-ED28-4E50-B657-FEB2107F610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4C39-8DD1-4B69-A820-9DAA3E9400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8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F5D-7B8F-4059-9086-9F4F4A7E9578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3D9-613F-4208-A0A3-0B5AE377FC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DE2-7B43-4D6C-9ACE-6AA2F98AC8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B55-CE07-4B9E-BD8C-D798846275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CFD-B1AE-4D9C-8351-195B08819DF4}" type="datetime">
              <a:rPr b="0" lang="ru-RU" sz="1400" spc="-1" strike="noStrike">
                <a:solidFill>
                  <a:srgbClr val="000000"/>
                </a:solidFill>
                <a:latin typeface="Corbe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ОУ "Сош № 72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037-3065-4C04-B125-A63C292D3F02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E81-CCA2-4110-8327-831B38BB5E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044E-DA4D-4A91-BEC3-760AF9686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5CD0-BBAD-4440-A2C6-4725D0257F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EA0-93A2-4F57-B806-A2613EA167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CC8-D15B-4996-A2C5-BEB499F9F629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038-AD35-429F-89F5-72EB56B4F8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ирог 12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13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Кольцо 15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51" name="Кольцо 15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ольник 1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67D3-1A2B-4061-A5D5-64294E8B5AB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4FE-65D5-4FE5-9734-A9D930C607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99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E02-C19C-44D2-845A-166D299326C3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29D-75D2-4B36-9916-4153828397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C780-B9D7-4D73-858A-D189B192C76B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D393-5E21-481C-9358-5FB221DDD5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785880" y="242892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ововведения в ОГЭ-20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а основе ФГОС О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395280" y="549360"/>
          <a:ext cx="8291520" cy="5786280"/>
        </p:xfrm>
        <a:graphic>
          <a:graphicData uri="http://schemas.openxmlformats.org/drawingml/2006/table">
            <a:tbl>
              <a:tblPr/>
              <a:tblGrid>
                <a:gridCol w="2179800"/>
                <a:gridCol w="3348000"/>
                <a:gridCol w="276372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8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. предлагается только одна модель К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а доля заданий с множественным выбором ответа (6, 7, 12, 14, 15) и заданий на установление соответствия между позициями двух множеств (10, 13, 16). Добавлено задание 1, предусматривающее проверку умения работать с текстовой информац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асть 2 включено задание 21, направленное на проверку понимания существования взаимосвязи между различными классами неорганических веществ и сформированности умения составлять уравнения реакций, отражающих эту связь. Ещё одним контролируемым умением является умение составлять уравнения реакций ионного обмена, в частности сокращённое ионное уравн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кзаменационный вариант добавлена обязательная для выполнения практическая ча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язательные испытания добавится проведение опытов, а также выявление вещества (раствора), находящегося в пробирке. Выпускникам, стремящимся за высокой оценкой, необходимо будет понимать, что из себя представляет каждый элемент таблицы Менделеева и как он себя ведет при различных внешних услов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9640" y="333360"/>
          <a:ext cx="8147160" cy="6048360"/>
        </p:xfrm>
        <a:graphic>
          <a:graphicData uri="http://schemas.openxmlformats.org/drawingml/2006/table">
            <a:tbl>
              <a:tblPr/>
              <a:tblGrid>
                <a:gridCol w="2232000"/>
                <a:gridCol w="3198960"/>
                <a:gridCol w="27162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8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а структура экзаменационной работы: снято разделение заданий по частям на основе формы записи ответа. Задания в работе выстраиваются, исходя из проверяемых групп ум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заданий КИМ сокращено с 31 до 24, максимальный первичный балл уменьшен с 39 до 3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различение фактов и мнений в социальной информации в том виде, как оно существовало в КИМ предыдущих лет, исключено из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задания, проверяющее умение раскрывать смысл ключевых обществоведческих понятий, задание-задача с контекстом финансовой грамотности и задание на анализ статистической информации (преобразовано из существовавшего в КИМ прошлых лет блока из 2 заданий с кратким ответом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а аналитическая составляющая КИМ: большинство заданий требует анализа практических ситуаций, умений рассуждать, объяснять, аргументировать, выражать своё мнение с опорой на факты социальной жизни, личный социальный опыт и обществоведческие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должен продемонстрировать умения и знания, которые характеризуют уровень его социализации  и социальную зре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539640" y="549360"/>
          <a:ext cx="8147160" cy="583236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6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ся только одна модель КИМ, соответствующая линейной системе изучения истории на основе Историко-культурного стандарта и единого учебни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овой модели КИМ сохранены некоторые задания, которые были представлены в прежней модели (нумерация по новой модели: 2–5, 7, 11, 12, 20, 21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ы новые задания на работу с исторической картой, увеличено число заданий на основе визуальных источников исторической информации, выделен блок заданий, проверяющих знание истории культуры, расширен спектр аналитических зада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роверяются практико-ориентированные умения: работать с разными видами информационных источников, владеть навыками смыслового чт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монстрируются умения анализировать  события, рассуждать, аргументировать, выражать свое мн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468360" y="1484280"/>
          <a:ext cx="8280360" cy="3422520"/>
        </p:xfrm>
        <a:graphic>
          <a:graphicData uri="http://schemas.openxmlformats.org/drawingml/2006/table">
            <a:tbl>
              <a:tblPr/>
              <a:tblGrid>
                <a:gridCol w="2759040"/>
                <a:gridCol w="2760480"/>
                <a:gridCol w="2760840"/>
              </a:tblGrid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а дополнительная тема сочинения в части 2. Все темы 2.1–2.5 формулируются по творчеству тех писателей, чьи произведения не были включены в часть 1, что обеспечивает более широкий охват элементов проверяемого содерж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ы критерии оценки практической грамотности (максимально 6 баллов), что привело к увеличению максимального количества баллов за всю работу с 33 до 39 балл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тся уровень читательской 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468360" y="1268280"/>
          <a:ext cx="8289720" cy="4938840"/>
        </p:xfrm>
        <a:graphic>
          <a:graphicData uri="http://schemas.openxmlformats.org/drawingml/2006/table">
            <a:tbl>
              <a:tblPr/>
              <a:tblGrid>
                <a:gridCol w="2762280"/>
                <a:gridCol w="2763720"/>
                <a:gridCol w="2763720"/>
              </a:tblGrid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7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количество заданий сокращено до 15. Расширен набор заданий, выполняемых на компьютере за счёт включения 3 новых заданий, проверяющих умения и навыки практической работы с компьютером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нформации средствами текстового редактора или операционной системы (задание 11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держимого каталогов файловой системы (задание 12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 или текстового документа (задание 13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личие от КИМ 2019 г., в КИМ 2020 г. во всех заданиях предусмотрен либо краткий, либо развёрнутый отве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коснулось разграничения тестов на три уровня: базовый, средний, повышенный. Увеличено количество заданий практической напра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468360" y="1600200"/>
          <a:ext cx="8218440" cy="3448080"/>
        </p:xfrm>
        <a:graphic>
          <a:graphicData uri="http://schemas.openxmlformats.org/drawingml/2006/table">
            <a:tbl>
              <a:tblPr/>
              <a:tblGrid>
                <a:gridCol w="2374920"/>
                <a:gridCol w="3103560"/>
                <a:gridCol w="273996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9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кзаменационной работе 2020 г. были внесены изменения в разделы 2 («Задания по чтению») и 5 («Задания по говорению»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2 («Задания по чтению»):  было изменено задание 9: участникам ОГЭ предлагается осуществить информационный поиск и определить, в каком из шести письменных текстов содержится ответ на предложенный вопрос (в задании есть один лишний вопрос). Максимальное количество баллов за выполнение задания – 6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ются практико-ориентированные умения: работать с информационными источниками, владеть навыками устно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539640" y="404640"/>
          <a:ext cx="8136000" cy="6120000"/>
        </p:xfrm>
        <a:graphic>
          <a:graphicData uri="http://schemas.openxmlformats.org/drawingml/2006/table">
            <a:tbl>
              <a:tblPr/>
              <a:tblGrid>
                <a:gridCol w="2376720"/>
                <a:gridCol w="3047760"/>
                <a:gridCol w="271152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2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о количество заданий с 32 до 30 и максимальный первичный балл - с 46 до 45. Отдельные изменения коснулись следующих позиций: в части 1 работы включены новые модели заданий в линиях 1 и 20, в части 2 добавлена новая линия заданий (27), линия 30 (задания 31 и 32 в модели 2019 г.) претерпела значительную переработк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практико-ориентированные зад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ерьезных изменений не произош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2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изменена последовательность заданий, изменена форма записи ответа в заданиях (2, 3, 14, 15, 21, 22, 24, 26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включён мини-тест из трёх заданий (27–29), проверяющих сформированность умений работать с текстом географического содержания. Максимальный первичный балл уменьшен с 32 до 3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задания, определяющие умения работать с информационными источниками. (Серьезных изменений не произош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ожно с уверенностью сказать, что изменятся все составляющие ОГЭ 202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а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 тестовая часть, увеличивается количество заданий по видам проверяемых умений и способов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и оцен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екоторые тесты, которые входили в открытый банк заданий ФИПИ сохранятся, но будут видоизме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ГЭ становится более схожим с ЕГЭ, по некоторым заданиям даже слож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68000" y="1599840"/>
            <a:ext cx="8218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одготовку к экзаменам необходимо начинать как можно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тношение к подготовке к экзаменам  должно быть мотивированным не только у выпускников, но и у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а нововве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9280" y="1599840"/>
            <a:ext cx="8147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2011 года в общеобразовательных школах России обучение по учебным программам осуществляется на основе федеральных государственных образовательных стандартов (ФГО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ФГОС диктует правила для всего процесса обучения, изменениям подвергнется и ОГЭ для девятикласс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изменен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жение более высоких образовательных показ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теоретических и практических знаний уче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89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изменения ОГЭ-2020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3964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содержания КИМ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будут разительно отличаться от заданий предшествующи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ется цель заданий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мену проверки информированности ученика по той или иной дисциплины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КИМ ОГЭ 2020 нацелены на определение и оценку практико-ориентированных знаний выпускнико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равнении с экзаменационными моделями 2019 г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ах КИМ  ОГЭ 2020 г. уси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ная составляющ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й характер зад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ны некоторые принятые в международных сопоставительных исследованиях подходы к конструированию заданий по математике и предметам естественнонауч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нозирует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 итоговая отметка, выставляемая по конкретному предмету в аттестат ученика, зависит от его результатов на ОГЭ. Если за год у выпускника выходила пятерка по русскому языку, но экзамен он сдал на четвертку, то в аттестат об окончании 9-ти классов пойдет оценк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056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изменения содержания КИ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пективные модели измерительных материалов для государственной итоговой аттестации по программам ООО стали разрабатываться с 201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ИМ остается прежним – оценить уровень общеобразовательной подготовки выпускников 9-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КИМ определяется на основе ФГОС и примерной образовательной программы ОО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-20 августа 2019 года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м сайте ФИПИ опубликова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ы документов, определяющие содержание контрольных измерительных материалов ОГЭ 20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суждение которых должно быть завершено к 01.10.201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57200" y="620640"/>
          <a:ext cx="8229600" cy="5832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38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0 г. изменено количество заданий в экзаменационной работе с 15 до 9, изменён первичный балл за выполнение работы с 39 до 3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ы задание 1 (изложение) и альтернативные задания (9.1; 9.2; 9.3), система оценивания ответов на них. При этом изменилась жанровая специфика текста для изложения (могут быть предложены тексты различных жанров (путевые заметки, записки, очерк, рецензия, дневник и т.д.)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работа предполагает выполнение экзаменуемым различных видов анализа языкового материала: 4 задания (задания 2–5) проверяют умение выполнять орфографический, пунктуационный, грамматический анализ; 3 задания (задания 6–8) нацелены на анализ текста, а именно проверяют глубину и точность понимания содержания текста; понимание отношений синонимии и антонимии, важных для содержательного анализа текста; опознавание изученных средств выразительности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457200" y="1600200"/>
          <a:ext cx="8229600" cy="155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ИМ включён новый блок практико-ориентированных заданий 1-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ются практические умения и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611280" y="476280"/>
          <a:ext cx="8075520" cy="5905440"/>
        </p:xfrm>
        <a:graphic>
          <a:graphicData uri="http://schemas.openxmlformats.org/drawingml/2006/table">
            <a:tbl>
              <a:tblPr/>
              <a:tblGrid>
                <a:gridCol w="2058840"/>
                <a:gridCol w="3533760"/>
                <a:gridCol w="24829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40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. изменилась структура экзаменационн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. Задания в работе выстраиваются, исходя из проверяемых групп умений. По сравнению с предыдущим годом общее количество заданий в экзаменационной работе уменьшено с 26 до 25. Количество заданий с развёрнутым ответом увеличено с 5 до 6. Максимальный балл за выполнение всех заданий работы увеличился с 40 до 43 балл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используются новые модели зад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илось содержание заданий 22 на объяснение явлений, в которых преимущественно используется практико-ориентированный контекст. Изменились требования к выполнению экспериментальных заданий: обязательным является запись прямых измерений с учётом абсолютной погрешности. Кроме того, введены новые критерии оценивания экспериментальных заданий. Максимальный балл за выполнение этих заданий 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мо решения задач, выпускникам придется работать с измерительными приборами, анализировать предоставленные графики и схемы, а также проводить опы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05:59Z</dcterms:created>
  <dc:creator>Алекс</dc:creator>
  <dc:description/>
  <dc:language>en-US</dc:language>
  <cp:lastModifiedBy>user</cp:lastModifiedBy>
  <dcterms:modified xsi:type="dcterms:W3CDTF">2019-08-29T09:10:54Z</dcterms:modified>
  <cp:revision>93</cp:revision>
  <dc:subject/>
  <dc:title>Проект.технологии</dc:title>
</cp:coreProperties>
</file>