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19D-CC57-4175-B0D2-23290B36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964320"/>
            <a:ext cx="706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75B-2BDC-4559-9075-EAAEDD18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34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0880" y="1600200"/>
            <a:ext cx="34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964320"/>
            <a:ext cx="34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0880" y="3964320"/>
            <a:ext cx="34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C3A-3A07-4589-9E31-3AC83CFE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2275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08960" y="1600200"/>
            <a:ext cx="2275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275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964320"/>
            <a:ext cx="2275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08960" y="3964320"/>
            <a:ext cx="2275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64320"/>
            <a:ext cx="2275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D86-EE7E-4AA6-85CB-2184144D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11B-ED57-42F4-858E-2111CBD6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FCB-8BF7-4519-A48E-99D2978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34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0880" y="1600200"/>
            <a:ext cx="34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94A-C641-46F9-83B2-191B6BC4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289-CBC1-47E6-B69D-9B693AF5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1E9-714B-4558-8531-5A63D71A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34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880" y="1600200"/>
            <a:ext cx="34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964320"/>
            <a:ext cx="34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346-AB0F-47E7-891F-444E042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34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880" y="1600200"/>
            <a:ext cx="34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0880" y="3964320"/>
            <a:ext cx="34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0C7-AE03-46E6-AEEB-9CD493C8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34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0880" y="1600200"/>
            <a:ext cx="34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964320"/>
            <a:ext cx="706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F31-0D2D-4D56-AE95-B5991DE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-4680" y="0"/>
            <a:ext cx="3497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e1c11"/>
                </a:solidFill>
                <a:latin typeface="Century"/>
              </a:rPr>
              <a:t>Click to edit the title text format</a:t>
            </a: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E9D2-E44F-4470-9652-334B7AC4B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844040" cy="24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66"/>
                </a:solidFill>
                <a:latin typeface="Arial"/>
              </a:rPr>
              <a:t>Объекты культурного наследия города Улан-Удэ. </a:t>
            </a:r>
            <a:br>
              <a:rPr sz="3200"/>
            </a:br>
            <a:r>
              <a:rPr b="1" i="1" lang="en-US" sz="3200" spc="-1" strike="noStrike">
                <a:solidFill>
                  <a:srgbClr val="993366"/>
                </a:solidFill>
                <a:latin typeface="Arial"/>
              </a:rPr>
              <a:t>Памятники истории и культуры, расположенные на территории микрорайона школы №65.</a:t>
            </a:r>
            <a:endParaRPr b="0" i="1" lang="en-US" sz="32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455640" y="4653000"/>
            <a:ext cx="4932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ы проекта: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нконог Дарья,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ца 9 «Б» класса»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нконог Анна,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ца 7 «Б» класса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ОУ «СОШ №65 г. Улан-Удэ 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и Г.С.Асеева»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66"/>
                </a:solidFill>
                <a:latin typeface="Arial"/>
              </a:rPr>
              <a:t>Реализация проекта </a:t>
            </a:r>
            <a:br>
              <a:rPr sz="2800"/>
            </a:br>
            <a:r>
              <a:rPr b="1" i="1" lang="en-US" sz="2800" spc="-1" strike="noStrike">
                <a:solidFill>
                  <a:srgbClr val="993366"/>
                </a:solidFill>
                <a:latin typeface="Arial"/>
              </a:rPr>
              <a:t>«Объекты культурного наследия города Улан-Удэ»</a:t>
            </a:r>
            <a:endParaRPr b="0" i="1" lang="en-US" sz="2800" spc="-1" strike="noStrike">
              <a:solidFill>
                <a:srgbClr val="1e1c11"/>
              </a:solidFill>
              <a:latin typeface="Century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00000" y="1600200"/>
          <a:ext cx="8064720" cy="4997520"/>
        </p:xfrm>
        <a:graphic>
          <a:graphicData uri="http://schemas.openxmlformats.org/drawingml/2006/table">
            <a:tbl>
              <a:tblPr/>
              <a:tblGrid>
                <a:gridCol w="2013120"/>
                <a:gridCol w="1879560"/>
                <a:gridCol w="2155680"/>
                <a:gridCol w="2016360"/>
              </a:tblGrid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и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. Здание бывшего Железнодорожного училища, расположенное на улице Революции, 1905 г., являющиеся историко-культурным памятником регионального знач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. Собрать сведения о историко-культурных памятниках микрорайон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. Показать их значимость в истории развития школы и района и необходимость сохранения и восстановле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. Раскрыть историю возникновения объектов историко-культурного наслед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. Показать их современное состоя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. Определить возможные пути решения проблемы сохранения и восстановления памятников культуры и истории на территории микрорайона школ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. Составить электронную версию  «Памятники культурно-исторического наследия на территории микрорайона школы №6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. Изучение объекта исследования и 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ключение в экскурсионный маршрут школы «Есть улицы центральны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. Использование материала во внеурочной и внеклассной работ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e1c11"/>
                </a:solidFill>
                <a:latin typeface="Century"/>
              </a:rPr>
              <a:t> </a:t>
            </a:r>
            <a:r>
              <a:rPr b="1" i="1" lang="ru-RU" sz="25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5 августа 1899 году в Верхнеудинске были торжественно  открыты железнодорожная станция и локомотивное депо.</a:t>
            </a:r>
            <a:r>
              <a:rPr b="0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5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92000" y="5084640"/>
            <a:ext cx="7056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Увеличился приток железнодорожных служащих в Верхнеудинск, численность детей резко увеличилась и учебных мест в учебных заведениях города стало не хватать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643280" y="162864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4206960" cy="3330360"/>
          </a:xfrm>
          <a:prstGeom prst="rect">
            <a:avLst/>
          </a:prstGeom>
          <a:ln w="34920">
            <a:solidFill>
              <a:srgbClr val="3c3e42"/>
            </a:solidFill>
            <a:miter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c00000"/>
                </a:solidFill>
                <a:latin typeface="Century"/>
              </a:rPr>
              <a:t>7 </a:t>
            </a:r>
            <a:r>
              <a:rPr b="1" i="1" lang="ru-RU" sz="2500" spc="-1" strike="noStrike">
                <a:solidFill>
                  <a:srgbClr val="990033"/>
                </a:solidFill>
                <a:latin typeface="Century"/>
              </a:rPr>
              <a:t>января 1903 года на ул. Вокзальной, ныне ул.Революции 1905 г. было открыто Верхнеудинское железнодорожное училище</a:t>
            </a:r>
            <a:endParaRPr b="0" i="1" lang="en-US" sz="25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72" name="Picture 3" descr="DSC00319"/>
          <p:cNvPicPr/>
          <p:nvPr/>
        </p:nvPicPr>
        <p:blipFill>
          <a:blip r:embed="rId1"/>
          <a:stretch/>
        </p:blipFill>
        <p:spPr>
          <a:xfrm>
            <a:off x="1619280" y="1700280"/>
            <a:ext cx="6035760" cy="4525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619280" y="1125000"/>
            <a:ext cx="706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Постановлением Совета Министров Бурятской АССР 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№ 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379 от 29.09.1971 г. здание бывшего Железнодорожного училища признано историко-культурным памятником регионального значения под 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№ 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031610423430005 и поставлено на государственную охрану.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71516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entury"/>
              </a:rPr>
              <a:t>               </a:t>
            </a:r>
            <a:br>
              <a:rPr sz="2000"/>
            </a:br>
            <a:r>
              <a:rPr b="1" i="1" lang="en-US" sz="2400" spc="-1" strike="noStrike">
                <a:solidFill>
                  <a:srgbClr val="993366"/>
                </a:solidFill>
                <a:latin typeface="Century"/>
              </a:rPr>
              <a:t>В годы революции в 1905-1906 гг. в здании школы заседал</a:t>
            </a:r>
            <a:r>
              <a:rPr b="1" i="1" lang="en-US" sz="2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3366"/>
                </a:solidFill>
                <a:latin typeface="Century"/>
              </a:rPr>
              <a:t>стачечный комитет. </a:t>
            </a:r>
            <a:br>
              <a:rPr sz="2400"/>
            </a:br>
            <a:r>
              <a:rPr b="1" i="1" lang="en-US" sz="2400" spc="-1" strike="noStrike">
                <a:solidFill>
                  <a:srgbClr val="993366"/>
                </a:solidFill>
                <a:latin typeface="Century"/>
              </a:rPr>
              <a:t>10 (23) февраля 1906 г. в здании школы состоялся суд над 13 организаторами революционного движения. </a:t>
            </a:r>
            <a:br>
              <a:rPr sz="2400"/>
            </a:br>
            <a:r>
              <a:rPr b="1" i="1" lang="en-US" sz="2000" spc="-1" strike="noStrike">
                <a:solidFill>
                  <a:srgbClr val="c00000"/>
                </a:solidFill>
                <a:latin typeface="Century"/>
              </a:rPr>
              <a:t>                   </a:t>
            </a:r>
            <a:endParaRPr b="0" i="1" lang="en-US" sz="20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75" name="Picture 6" descr="IMG_0018"/>
          <p:cNvPicPr/>
          <p:nvPr/>
        </p:nvPicPr>
        <p:blipFill>
          <a:blip r:embed="rId1"/>
          <a:stretch/>
        </p:blipFill>
        <p:spPr>
          <a:xfrm>
            <a:off x="324000" y="2781360"/>
            <a:ext cx="1581120" cy="23097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76" name="Picture 7" descr="IMG_0018"/>
          <p:cNvPicPr/>
          <p:nvPr/>
        </p:nvPicPr>
        <p:blipFill>
          <a:blip r:embed="rId2"/>
          <a:stretch/>
        </p:blipFill>
        <p:spPr>
          <a:xfrm>
            <a:off x="2124000" y="4005360"/>
            <a:ext cx="1568520" cy="22287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77" name="Picture 9" descr="IMG_0018"/>
          <p:cNvPicPr/>
          <p:nvPr/>
        </p:nvPicPr>
        <p:blipFill>
          <a:blip r:embed="rId3"/>
          <a:stretch/>
        </p:blipFill>
        <p:spPr>
          <a:xfrm>
            <a:off x="3851280" y="2708280"/>
            <a:ext cx="1544760" cy="223200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  <p:pic>
        <p:nvPicPr>
          <p:cNvPr id="78" name="Picture 10" descr="IMG_0018"/>
          <p:cNvPicPr/>
          <p:nvPr/>
        </p:nvPicPr>
        <p:blipFill>
          <a:blip r:embed="rId4"/>
          <a:stretch/>
        </p:blipFill>
        <p:spPr>
          <a:xfrm>
            <a:off x="5651640" y="3933720"/>
            <a:ext cx="1598400" cy="23385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79" name="Picture 11" descr="IMG_0018"/>
          <p:cNvPicPr/>
          <p:nvPr/>
        </p:nvPicPr>
        <p:blipFill>
          <a:blip r:embed="rId5"/>
          <a:stretch/>
        </p:blipFill>
        <p:spPr>
          <a:xfrm>
            <a:off x="7451640" y="2492280"/>
            <a:ext cx="1487520" cy="22608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292360" y="4005360"/>
            <a:ext cx="33829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ядом с основным зданием строится дополнительное и мастерские.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0" algn="ctr">
              <a:lnSpc>
                <a:spcPct val="6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81" name="Picture 5" descr="File0013"/>
          <p:cNvPicPr/>
          <p:nvPr/>
        </p:nvPicPr>
        <p:blipFill>
          <a:blip r:embed="rId1"/>
          <a:stretch/>
        </p:blipFill>
        <p:spPr>
          <a:xfrm>
            <a:off x="4932360" y="476280"/>
            <a:ext cx="3889440" cy="28004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82" name="Текст 2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392360" cy="3294000"/>
          </a:xfrm>
          <a:prstGeom prst="rect">
            <a:avLst/>
          </a:prstGeom>
          <a:ln w="34920">
            <a:solidFill>
              <a:srgbClr val="990033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826920" y="62064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Arial"/>
              </a:rPr>
              <a:t>С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1909 по 1923 гг. железнодорожное училище было преобразовано в школу №2 Первой и Второй сту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</a:rPr>
              <a:t>После  ликвидации школы № 39 в ноябре 2010 года, здание долгое время никому не принадлежало. Сегодня  в нем располагается реабилитационный центр для детей-инвалидов «Аватар».</a:t>
            </a:r>
            <a:endParaRPr b="0" i="1" lang="en-US" sz="24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85" name="Текст 2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421240" cy="4065840"/>
          </a:xfrm>
          <a:prstGeom prst="rect">
            <a:avLst/>
          </a:prstGeom>
          <a:ln w="349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66"/>
                </a:solidFill>
                <a:latin typeface="Arial"/>
              </a:rPr>
              <a:t>Сегодня здание находится в удовлетворительном состоянии, но требуется постоянные средства для его поддержки.</a:t>
            </a:r>
            <a:r>
              <a:rPr b="1" i="1" lang="en-US" sz="2800" spc="-1" strike="noStrike">
                <a:solidFill>
                  <a:srgbClr val="993366"/>
                </a:solidFill>
                <a:latin typeface="Century"/>
              </a:rPr>
              <a:t> </a:t>
            </a:r>
            <a:br>
              <a:rPr sz="2800"/>
            </a:br>
            <a:endParaRPr b="0" i="1" lang="en-US" sz="28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87" name="Текст 2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2909880" cy="3789360"/>
          </a:xfrm>
          <a:prstGeom prst="rect">
            <a:avLst/>
          </a:prstGeom>
          <a:ln w="34920">
            <a:solidFill>
              <a:srgbClr val="9933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00720" y="2708280"/>
            <a:ext cx="4392360" cy="3294000"/>
          </a:xfrm>
          <a:prstGeom prst="rect">
            <a:avLst/>
          </a:prstGeom>
          <a:ln w="3492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66"/>
                </a:solidFill>
                <a:latin typeface="Arial"/>
              </a:rPr>
              <a:t>Реализация проекта </a:t>
            </a:r>
            <a:br>
              <a:rPr sz="2800"/>
            </a:br>
            <a:r>
              <a:rPr b="1" i="1" lang="en-US" sz="2800" spc="-1" strike="noStrike">
                <a:solidFill>
                  <a:srgbClr val="993366"/>
                </a:solidFill>
                <a:latin typeface="Arial"/>
              </a:rPr>
              <a:t>«Объекты культурного наследия города Улан-Удэ»</a:t>
            </a:r>
            <a:endParaRPr b="0" i="1" lang="en-US" sz="2800" spc="-1" strike="noStrike">
              <a:solidFill>
                <a:srgbClr val="1e1c11"/>
              </a:solidFill>
              <a:latin typeface="Century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58920" y="1600200"/>
          <a:ext cx="7561080" cy="4921200"/>
        </p:xfrm>
        <a:graphic>
          <a:graphicData uri="http://schemas.openxmlformats.org/drawingml/2006/table">
            <a:tbl>
              <a:tblPr/>
              <a:tblGrid>
                <a:gridCol w="1887480"/>
                <a:gridCol w="1762200"/>
                <a:gridCol w="2020680"/>
                <a:gridCol w="189072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Цели и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2. Парк Железнодорож-ник, бывший «Рабочий са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6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Собрать сведения о историко-культурных памятниках микрорайо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2. Показать их значимость в истории развития школы и района и необходимость сохранения и восстановл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Раскрыть историю возникновения объектов историко-культурного наслед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2. Показать их современное состоя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3. Определить возможные пути решения проблемы сохранения и восстановления памятников культуры и истории на территории микрорайона школ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4. Составить электронную версию  «Памятники культурно-исторического наследия на территории микрорайона школы №6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Использование парка как досугового центра, организация и проведение в нем массовых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66"/>
                </a:solidFill>
                <a:latin typeface="Arial"/>
              </a:rPr>
              <a:t>Парк «Железнодорожник»</a:t>
            </a: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92" name="Текст 2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067880" cy="397512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66"/>
                </a:solidFill>
                <a:latin typeface="Arial"/>
              </a:rPr>
              <a:t>       </a:t>
            </a:r>
            <a:r>
              <a:rPr b="1" i="1" lang="ru-RU" sz="4400" spc="-1" strike="noStrike">
                <a:solidFill>
                  <a:srgbClr val="993366"/>
                </a:solidFill>
                <a:latin typeface="Arial"/>
              </a:rPr>
              <a:t>Пояснительная записка</a:t>
            </a: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0560" y="1196640"/>
            <a:ext cx="6697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обязательных условий развития культуры любого общества является сохранение памятников истории и культуры, которые составляют культурное наследие человечества.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Федеральному закону «Об объектах культурного наследия (памятниках истории и культуры) народов Российской Федерации» от 25.06.2002 года №73-ФЗ, к памятникам истории и культуры относятся объекты, находящиеся на учете и под охраной местных или центральных органов власти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ми, на основании которых объект становится памятником культуры, является его эстетическое, научно-историческое и воспитательное значение, а так же  интерес к нему как объекту массового туризма.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задачами государства и общества является сохранение в любом виде (консервация) и восстановление (реставрация)  культурного наследия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410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о улице Вокзальной (ул.Революции 1905 г)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ла расположена улица Мариинская (ул.Гагарина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Между этими улицами, силами комсомольцев Локомотивного депо и учащихся нашей школы, был разбит Рабочий сад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июня 1924 г произошло его торжественное открытие.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73" r="37039" b="-5790"/>
          <a:stretch/>
        </p:blipFill>
        <p:spPr>
          <a:xfrm>
            <a:off x="395280" y="1050840"/>
            <a:ext cx="4197240" cy="51865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i="1" lang="en-US" sz="2800" spc="-1" strike="noStrike">
                <a:solidFill>
                  <a:srgbClr val="993366"/>
                </a:solidFill>
                <a:latin typeface="Cambria"/>
              </a:rPr>
              <a:t>В</a:t>
            </a:r>
            <a:r>
              <a:rPr b="1" i="1" lang="en-US" sz="2800" spc="-1" strike="noStrike">
                <a:solidFill>
                  <a:srgbClr val="993366"/>
                </a:solidFill>
                <a:latin typeface="Monotype Corsiva"/>
              </a:rPr>
              <a:t> </a:t>
            </a:r>
            <a:r>
              <a:rPr b="1" i="1" lang="en-US" sz="2800" spc="-1" strike="noStrike">
                <a:solidFill>
                  <a:srgbClr val="993366"/>
                </a:solidFill>
                <a:latin typeface="Cambria"/>
              </a:rPr>
              <a:t>1948-1949 гг. на улице Международной  на месте запланированного цирка строится новое здание школы №65</a:t>
            </a:r>
            <a:endParaRPr b="0" i="1" lang="en-US" sz="28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96" name="Picture 4" descr="DSC00218"/>
          <p:cNvPicPr/>
          <p:nvPr/>
        </p:nvPicPr>
        <p:blipFill>
          <a:blip r:embed="rId1"/>
          <a:stretch/>
        </p:blipFill>
        <p:spPr>
          <a:xfrm>
            <a:off x="900000" y="2349360"/>
            <a:ext cx="7344000" cy="4052880"/>
          </a:xfrm>
          <a:prstGeom prst="rect">
            <a:avLst/>
          </a:prstGeom>
          <a:ln w="34920">
            <a:solidFill>
              <a:srgbClr val="969696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3366"/>
                </a:solidFill>
                <a:latin typeface="Arial"/>
              </a:rPr>
              <a:t>В настоящее время парк приходит в запустение.</a:t>
            </a:r>
            <a:r>
              <a:rPr b="0" i="1" lang="en-US" sz="4000" spc="-1" strike="noStrike">
                <a:solidFill>
                  <a:srgbClr val="1e1c11"/>
                </a:solidFill>
                <a:latin typeface="Century"/>
              </a:rPr>
              <a:t> </a:t>
            </a:r>
            <a:endParaRPr b="0" i="1" lang="en-US" sz="40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98" name="Текст 2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690800" cy="263844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  <p:pic>
        <p:nvPicPr>
          <p:cNvPr id="99" name="Текст 2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673440" cy="399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00720" y="19162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Дорожки разрушаются, деревья засых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277560"/>
            <a:ext cx="764388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Arial"/>
              </a:rPr>
              <a:t>Долгое время силами учащихся школы организовывались субботники по расчистке парка, но этих мер недостаточно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обходима проект реконструкции парка, в котором могли разместиться детские, спортивные площадки, зоны отдыха для жителей микрорайона.</a:t>
            </a:r>
            <a:r>
              <a:rPr b="0" i="1" lang="en-US" sz="4400" spc="-1" strike="noStrike">
                <a:solidFill>
                  <a:srgbClr val="1e1c11"/>
                </a:solidFill>
                <a:latin typeface="Century"/>
              </a:rPr>
              <a:t> </a:t>
            </a: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102" name="Picture 3" descr="IMG_0013"/>
          <p:cNvPicPr/>
          <p:nvPr/>
        </p:nvPicPr>
        <p:blipFill>
          <a:blip r:embed="rId1"/>
          <a:stretch/>
        </p:blipFill>
        <p:spPr>
          <a:xfrm>
            <a:off x="324000" y="3357720"/>
            <a:ext cx="4319280" cy="2862000"/>
          </a:xfrm>
          <a:prstGeom prst="rect">
            <a:avLst/>
          </a:prstGeom>
          <a:ln w="34920">
            <a:solidFill>
              <a:srgbClr val="969696"/>
            </a:solidFill>
            <a:miter/>
          </a:ln>
        </p:spPr>
      </p:pic>
      <p:pic>
        <p:nvPicPr>
          <p:cNvPr id="103" name="Picture 4" descr="IMG_0013"/>
          <p:cNvPicPr/>
          <p:nvPr/>
        </p:nvPicPr>
        <p:blipFill>
          <a:blip r:embed="rId2"/>
          <a:stretch/>
        </p:blipFill>
        <p:spPr>
          <a:xfrm>
            <a:off x="4859280" y="3357720"/>
            <a:ext cx="4033800" cy="2893680"/>
          </a:xfrm>
          <a:prstGeom prst="rect">
            <a:avLst/>
          </a:prstGeom>
          <a:ln w="31680">
            <a:solidFill>
              <a:srgbClr val="808080"/>
            </a:solidFill>
            <a:miter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66"/>
                </a:solidFill>
                <a:latin typeface="Arial"/>
              </a:rPr>
              <a:t>Реализация проекта </a:t>
            </a:r>
            <a:br>
              <a:rPr sz="2800"/>
            </a:br>
            <a:r>
              <a:rPr b="1" i="1" lang="en-US" sz="2800" spc="-1" strike="noStrike">
                <a:solidFill>
                  <a:srgbClr val="993366"/>
                </a:solidFill>
                <a:latin typeface="Arial"/>
              </a:rPr>
              <a:t>«Объекты культурного наследия города Улан-Удэ»</a:t>
            </a:r>
            <a:endParaRPr b="0" i="1" lang="en-US" sz="2800" spc="-1" strike="noStrike">
              <a:solidFill>
                <a:srgbClr val="1e1c11"/>
              </a:solidFill>
              <a:latin typeface="Century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32000" y="1600200"/>
          <a:ext cx="7561080" cy="4898880"/>
        </p:xfrm>
        <a:graphic>
          <a:graphicData uri="http://schemas.openxmlformats.org/drawingml/2006/table">
            <a:tbl>
              <a:tblPr/>
              <a:tblGrid>
                <a:gridCol w="1886040"/>
                <a:gridCol w="1763640"/>
                <a:gridCol w="2022480"/>
                <a:gridCol w="1888920"/>
              </a:tblGrid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Цели и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3. Стадион «Локомоти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. Собрать сведения о историко-культурных памятниках микрорайон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. Показать их значимость в истории развития школы и района и необходимость сохранения и восстановле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. Раскрыть историю возникновения объектов историко-культурного наслед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. Показать их современное состоя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3. Определить возможные пути решения проблемы сохранения и восстановления памятников культуры и истории на территории микрорайона школ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4. Составить электронную версию  «Памятники культурно-исторического наследия на территории микрорайона школы №6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. Создание спортивных сек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.Использование стадиона для проведения массовых спортивных мероприя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3. Организация досуга жителей микрорай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66"/>
                </a:solidFill>
                <a:latin typeface="Arial"/>
              </a:rPr>
              <a:t>Стадион «Локомотив»</a:t>
            </a: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107" name="Текст 2" descr=""/>
          <p:cNvPicPr/>
          <p:nvPr/>
        </p:nvPicPr>
        <p:blipFill>
          <a:blip r:embed="rId1"/>
          <a:stretch/>
        </p:blipFill>
        <p:spPr>
          <a:xfrm>
            <a:off x="1619280" y="1874880"/>
            <a:ext cx="7067520" cy="3975120"/>
          </a:xfrm>
          <a:prstGeom prst="rect">
            <a:avLst/>
          </a:prstGeom>
          <a:ln w="3492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Arial"/>
              </a:rPr>
              <a:t>Стадион РЖД «Локомотив» расположен между улицами Революции 1905 г. и Цивилевой.</a:t>
            </a: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109" name="Текст 2" descr=""/>
          <p:cNvPicPr/>
          <p:nvPr/>
        </p:nvPicPr>
        <p:blipFill>
          <a:blip r:embed="rId1"/>
          <a:srcRect l="0" t="73" r="37039" b="-5790"/>
          <a:stretch/>
        </p:blipFill>
        <p:spPr>
          <a:xfrm>
            <a:off x="2843280" y="2565360"/>
            <a:ext cx="4576680" cy="3888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Arial"/>
              </a:rPr>
              <a:t>Стадион был открыт в 1958 г, когда в нашей стране был особо популярен футбол.</a:t>
            </a:r>
            <a:endParaRPr b="0" i="1" lang="en-US" sz="2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3960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воспитали не одно поколение футболистов Бурятии.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нно при стадионе зародилась команда  «Локомотив», переименованная в «Селенгу», а с апреля 2017 года – в республиканскую команду «Бурятия».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еди самых именитых спортсменов, тренировавшихся в футбольной секции при стадионе – Владимир Гранат, бронзовый призер чемпионата России.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12" name="Текст 2" descr="Владимир Гранат"/>
          <p:cNvPicPr/>
          <p:nvPr/>
        </p:nvPicPr>
        <p:blipFill>
          <a:blip r:embed="rId1"/>
          <a:stretch/>
        </p:blipFill>
        <p:spPr>
          <a:xfrm>
            <a:off x="971640" y="1700280"/>
            <a:ext cx="3325680" cy="4680000"/>
          </a:xfrm>
          <a:prstGeom prst="rect">
            <a:avLst/>
          </a:prstGeom>
          <a:ln w="3168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66"/>
                </a:solidFill>
                <a:latin typeface="Arial"/>
              </a:rPr>
              <a:t>Но стадион никогда не имел оборудованных площадки, спортивных дорожек, зрительских трибун</a:t>
            </a:r>
            <a:r>
              <a:rPr b="0" i="1" lang="en-US" sz="4000" spc="-1" strike="noStrike">
                <a:solidFill>
                  <a:srgbClr val="1e1c11"/>
                </a:solidFill>
                <a:latin typeface="Century"/>
              </a:rPr>
              <a:t> </a:t>
            </a:r>
            <a:endParaRPr b="0" i="1" lang="en-US" sz="4000" spc="-1" strike="noStrike">
              <a:solidFill>
                <a:srgbClr val="1e1c11"/>
              </a:solidFill>
              <a:latin typeface="Century"/>
            </a:endParaRPr>
          </a:p>
        </p:txBody>
      </p:sp>
      <p:pic>
        <p:nvPicPr>
          <p:cNvPr id="114" name="Текст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384720" cy="4525920"/>
          </a:xfrm>
          <a:prstGeom prst="rect">
            <a:avLst/>
          </a:prstGeom>
          <a:ln w="34920">
            <a:solidFill>
              <a:srgbClr val="80808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4508640" cy="2706480"/>
          </a:xfrm>
          <a:prstGeom prst="rect">
            <a:avLst/>
          </a:prstGeom>
          <a:ln w="3492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427640" y="501336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В настоящее время стадион законсервирован. Решается вопрос о его передаче республ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66"/>
                </a:solidFill>
                <a:latin typeface="Arial"/>
              </a:rPr>
              <a:t>Заключение.</a:t>
            </a: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ение культурного наследия является основой единства общества, любые же потери неизбежно отражаются на духовном развитии, которые нельзя восполнить созданием новых современных памятников и произведений культуры.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а комплексная программа поддержки и реконструкции памятников истории и культуры, расположенных на территории микрорайона школы.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e1c11"/>
                </a:solidFill>
                <a:latin typeface="Arial"/>
              </a:rPr>
              <a:t>      </a:t>
            </a:r>
            <a:r>
              <a:rPr b="1" i="1" lang="en-US" sz="4400" spc="-1" strike="noStrike">
                <a:solidFill>
                  <a:srgbClr val="993366"/>
                </a:solidFill>
                <a:latin typeface="Arial"/>
              </a:rPr>
              <a:t>Актуальность проекта</a:t>
            </a: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18920" y="1599840"/>
            <a:ext cx="7056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сожалению, состояние многих памятников истории и культуры, находящихся под охраной государства, ухудшается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ояние памятников истории и культуры, которые располагаются на территории микрорайона нашей школы, также вызывают тревогу. В районе улиц Гагарина и Революции 1905 г., которые являются основными границами микрорайона школы,   находятся такие объекты культуры и истории, как первое здание нашей школы (построено в 1903 г.), парк Железнодорожников (разбит в 1924 г.) и стадион «Локомотив» (с 1958 г.).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3457440" cy="2594160"/>
          </a:xfrm>
          <a:prstGeom prst="rect">
            <a:avLst/>
          </a:prstGeom>
          <a:ln w="31680">
            <a:solidFill>
              <a:srgbClr val="808080"/>
            </a:solidFill>
            <a:miter/>
          </a:ln>
        </p:spPr>
      </p:pic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3745080" cy="2106720"/>
          </a:xfrm>
          <a:prstGeom prst="rect">
            <a:avLst/>
          </a:prstGeom>
          <a:ln w="31680">
            <a:solidFill>
              <a:srgbClr val="808080"/>
            </a:solidFill>
            <a:miter/>
          </a:ln>
        </p:spPr>
      </p:pic>
      <p:pic>
        <p:nvPicPr>
          <p:cNvPr id="50" name="Текст 2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457440" cy="2079720"/>
          </a:xfrm>
          <a:prstGeom prst="rect">
            <a:avLst/>
          </a:prstGeom>
          <a:ln w="34920">
            <a:solidFill>
              <a:srgbClr val="80808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692360" y="29242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дание Верхнеудинского железнодорожного учил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6048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арк «Железнодорож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602136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дион «Локомоти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Программа </a:t>
            </a:r>
            <a:br>
              <a:rPr sz="3600"/>
            </a:b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«Мы память бережно храним»</a:t>
            </a:r>
            <a:endParaRPr b="0" i="1" lang="en-US" sz="36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70675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ъект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сследования становятся памятники истории и культуры, расположенные на микрорайоне школы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сследования является история возникновения и развития, а также современное состояние этих объектов. 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66"/>
                </a:solidFill>
                <a:latin typeface="Arial"/>
              </a:rPr>
              <a:t>Классификация проекта</a:t>
            </a:r>
            <a:endParaRPr b="0" i="1" lang="en-US" sz="40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но-ориентированный,  информационный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направлен на сбор информации и получение конкретного результа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характеру контактов между участник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межличностный,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утришколь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реализуется учителями и учениками школ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 основными  участниками могут быть родители учащихся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одолжительности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ткосрочный: март  – май 2018 г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характеру координации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рытый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явной  координацией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66"/>
                </a:solidFill>
                <a:latin typeface="Arial"/>
              </a:rPr>
              <a:t>Цели проекта</a:t>
            </a: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учи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рию возникновения памятников истории и культуры, расположенных на территории микрорайона школы, обратить внимание на их состояние в настоящее время.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мость этих историко-культурных памятников и необходимость их сохранения и восстановления.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66"/>
                </a:solidFill>
                <a:latin typeface="Arial"/>
              </a:rPr>
              <a:t>Задачи проекта</a:t>
            </a:r>
            <a:endParaRPr b="0" i="1" lang="en-US" sz="4400" spc="-1" strike="noStrike">
              <a:solidFill>
                <a:srgbClr val="1e1c11"/>
              </a:solidFill>
              <a:latin typeface="Centur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345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навательные: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р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ведения о возникновении памятников культуры и истории, которые находятся на территории микрорайона школы;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ан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обенности их развития, современное состояние;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кры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роль историко-культурных памятников в истории развития нашего города и школы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9000" y="1600200"/>
            <a:ext cx="366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ьно-практические: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каз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начимость этих объектов в истории развития нашего города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формиров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нформационный банк данных о памятниках истории и культуры на территории микрорайона школы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зда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зентацию «Памятники культурно-исторического наследия на территории микрорайона школы №65»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66"/>
                </a:solidFill>
                <a:latin typeface="Arial"/>
              </a:rPr>
              <a:t>Основные этапы и направления исследовательской работы</a:t>
            </a:r>
            <a:endParaRPr b="0" i="1" lang="en-US" sz="2800" spc="-1" strike="noStrike">
              <a:solidFill>
                <a:srgbClr val="1e1c11"/>
              </a:solidFill>
              <a:latin typeface="Century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8920" y="1413000"/>
          <a:ext cx="7427880" cy="5221080"/>
        </p:xfrm>
        <a:graphic>
          <a:graphicData uri="http://schemas.openxmlformats.org/drawingml/2006/table">
            <a:tbl>
              <a:tblPr/>
              <a:tblGrid>
                <a:gridCol w="1019160"/>
                <a:gridCol w="2184480"/>
                <a:gridCol w="2622600"/>
                <a:gridCol w="1601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рать основные сведения о памятниках истории и культуры на микрорайоне МАОУ «СОШ №65 г.Улан-Удэ имени Г.С.Асеев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 обработка информ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здании Железнодорожного училища, открытого 7 января 1903 г. на улице Вокзальна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парке «Железнодорожник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стадионе «Локомоти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, 2018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зировать собранный материал по направлениям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снове собранного материала составить электронную версию  «Памятники культурно-исторического наследия на территории  микрорайона школы №6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-май, 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5:58:57Z</dcterms:created>
  <dc:creator>Admin</dc:creator>
  <dc:description/>
  <dc:language>en-US</dc:language>
  <cp:lastModifiedBy>Admin</cp:lastModifiedBy>
  <dcterms:modified xsi:type="dcterms:W3CDTF">2020-01-01T19:46:00Z</dcterms:modified>
  <cp:revision>4</cp:revision>
  <dc:subject/>
  <dc:title>Слайд 1</dc:title>
</cp:coreProperties>
</file>