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36F1-FDD9-49A2-9903-20012D267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38BE-EB7C-46EC-AA50-A6DB734A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FBD2A-2033-4E25-95C6-23DF7EAD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FFEFF-FACC-4136-898D-EB5E405F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68C50-C9D8-4D8A-B214-4E4FDB02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ECC80-8D0B-400A-BCEA-C94E5AB8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4E8EC-7230-483E-B56B-E1AEFBC3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ED730-F223-4611-9701-2089C370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83856-B345-4B03-867C-7FC76A53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CFE55-CF79-4497-A7D7-D1D23C97A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491CB-F4D2-41EE-BBFA-35B594D9F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96B96-3255-49A9-BBAC-3BB97592B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B6A5-502B-44B0-B2DA-93BEEDEF2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AA787-50CB-41E4-9B43-6EFA0335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DA697-EBBA-433E-BA2C-48FDA315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6FAAA0-B8EE-4A00-832F-4A680487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05BD77-F84C-4962-A7DD-3082C61E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9CBC4-5869-4A6D-8216-02069688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71658-57A2-4E4B-B060-1B567D5D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C085A-1411-4CDA-B3FF-25544CF7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C117A-E51A-4EA4-A7F7-A142ECC8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299CB-3D3D-48B4-ABF7-F2243EC0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5DEDE-277F-4B50-A21A-E1BC71275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1612-FDC5-4153-B7BD-C0DB9B37B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2469E-FBDB-4840-9941-7DDE3354E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367C8-7E53-42AC-9A89-1B2BBE9013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4482F-93DB-404F-941E-E582B104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EF22D-E4F6-4B03-BBE1-80DA3D45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FBBFC-C1AD-4AC7-A5AE-EED58D8E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FD2AA-8FF9-4D3C-9A72-9640F940B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5B71C-C4B0-4F6A-85A4-3547EEB37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78B66-B72B-44BA-B356-439D7940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ECD1-8131-42FB-9F0B-D24BF0ED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B2908-D47B-436D-96CD-57756294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9A1A4-7E01-4225-850A-BE21E9ED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844F6-3417-4778-932E-CD465330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C0280-6364-42CB-9165-AB067A62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FA25C-488D-442E-903E-7E838FF411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054DD3-4767-4F4C-BEE1-C55B3B3AB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91C084-538A-44F6-8AED-B9CECDB8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FA44EB-3A00-43FD-B025-AB3B399A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2FFF38-762E-47DC-9110-825C7323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D6D862-BABE-47BE-BB0F-9B4098D8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7B1E-DA85-4D7E-823D-99FC40BF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735B61-D8CE-41DC-A37C-D5CF54BD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B3715C-DCA0-4F8E-BF63-F27DD542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4436BE-0A8F-4C34-8232-EA410548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0F0A5D-2AE2-414B-92E8-80AABAD3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FCE558-0BE9-4A28-8DD4-7AFE0132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D319CA-2EA9-40A6-A90E-F9C5FA993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FCE274-01FF-44C5-A401-DD2C92D1E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0E21BB-5E4F-4985-B2B2-B6B1A09A7C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DC9791-CD5A-4A79-9F8F-2B87C729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C8F110-CFF5-416E-B3C6-E146A50C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9B39-9FB1-47BF-95ED-59739D69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24919E-5782-483E-B242-43FFBC4C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363ABC-3B30-47D6-B988-3B6CFE48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AAF99A-0FA0-4926-897A-44E865F11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766C82-B4E5-4B3A-8EF3-AA35A105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C79A60-0A72-4127-A7AC-FD8F830A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8D03D9-117A-449B-86D6-511B961F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B74130-94BD-47BD-84CB-2FEEB666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58DADF-D206-44A4-AC20-F21BC929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70D611-C96C-491B-B29C-8F71273D3C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87F70-4552-4470-B21E-5DFC6D9065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F629-889B-4BF7-9625-09AA207A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AFA97-F5EC-4AEF-8634-A9D7A62D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FA21E-AB9A-4415-BDBD-1126A391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19881-FA4A-4DE6-AC52-4CE13046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32BDB-E5F9-497F-8A23-5C6ADE80E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5F558-0434-4E55-9CDB-B05E04196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ADD9C-8B72-4698-B89C-BD10D744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8526E-96BA-46A9-BBD1-58D03708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F2010-13C9-4103-8225-5A888822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70FC7-7525-4E2C-A75D-2CC1A688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21717-AD6E-48CE-87F2-E44C6C1D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F7A2-DCA4-4385-BB27-368A465E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2386E-A20E-4BBF-B01A-E41EC4559E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C6E81-B1BC-43DB-9B34-EBCF81102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6A1E3-4917-4DDA-9E8A-D1A45BB9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9CC14-96FB-492B-8565-3EADC7D6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993E0-7CCD-4B66-BD47-704CF60C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5553C-FCFF-4964-A695-48CCC1A3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8A99A-E632-4DF1-841C-9E9E91FE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DB0A3-8BEA-45FC-B2BF-52C5B9B9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17E16-026F-4754-B0BC-9BF3728F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AA4FC-7FEA-422E-B5DB-03615DBF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0B94-32BF-4DB1-9180-EDA239A7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2BAD0-C2CC-48E7-92EE-BBC2C5A1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402DA-6A68-450E-8510-DBEAEB284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B2F73-CA18-436A-A44B-DF7AEC7F5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87170-7B92-49A7-9735-8F841D8BC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55FF1-111F-4E38-897F-E453F399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B02D5-DA22-4FBC-BF1B-0DF5C88C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EED26-733B-4AD7-994B-5E727F3A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20D85-9D35-4368-839F-79F70BDA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746FD-48F4-44E6-A258-BA87CF34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2DD8C-CFD5-432A-ABE5-71D0146B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85D1-ECA4-4A7C-BCFB-026E4843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DFFDF-1D0F-44B2-B5E9-6E31A5AD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13F7D-4B15-4AEB-94B0-1AD2EE0E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D1055-E9F5-4F18-B1DD-EAFC776E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D55D4-948B-4E93-9766-8FFC921FB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14271-F029-4FBD-871E-AA33DF4D0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DDEDA-8092-4517-B05E-2757AB6CB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F801F-20C0-42A4-B90B-CC5111FC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42A7D-DD80-4238-B4F0-1AECC02B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F5F5C-9A4B-41E1-BB4F-408A5936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1C9E1-D607-408D-8167-9DFE6ED8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87EA-B9C9-4F08-AC0A-344956F6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E836A-44AC-4485-9FB0-360C1467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BF8F8-F9B1-4906-9B6A-28439D7B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EE7FB-D92A-4D06-91ED-DF6502B3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4F6AA-0678-4857-AC30-2D8FB768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31E82-55A9-4EFD-A2C4-EA5A5384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E7F2D-376F-4061-A5B5-D44F9C82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E48BC-6203-4838-AB1D-E12882B6A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9AFB0-AF49-4EC6-9781-089D8EEEB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EDF93-7EE0-4B6E-9A91-3E496ABE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C0806-8C25-47F1-8D9C-32396300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47DB-3D4A-4626-B6FF-37AF127C6412}" type="datetime">
              <a:rPr b="0" lang="en-US" sz="1200" spc="-1" strike="noStrike">
                <a:solidFill>
                  <a:srgbClr val="b5a788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МОУ "Сош № 72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C96E-5275-432F-ABD9-C0A4E6E49DA9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Прямоугольник 7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87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8769-35C2-47A4-931D-EE3C15997BF8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МОУ "Сош № 72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0ABA-8470-4FCC-A657-42E0348953B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CDDD-39D7-445B-BC84-9DFD6983DB1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74BB-E906-4403-B8A4-DBF9965F8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63AA-97CF-4E42-8F18-A7D44F222095}" type="datetime">
              <a:rPr b="0" lang="en-US" sz="1400" spc="-1" strike="noStrike">
                <a:solidFill>
                  <a:srgbClr val="000000"/>
                </a:solidFill>
                <a:latin typeface="Corbe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МОУ "Сош № 72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A66A-4740-4B8A-B043-54F87F158DE8}" type="slidenum">
              <a:rPr b="0" lang="en-US" sz="1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921E-D5BA-4ACF-A4FE-26C181F120E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5EDE-4F7B-454E-983E-7CDAB4F99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D240-CD99-4A44-9715-AEF429DBA55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E7FA-594D-4FC3-AE25-99B38A023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00D2-D966-47CB-89A0-19BC2AF6EDFA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МОУ "Сош № 72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4CD4-49E8-40F5-A3F9-4BBEF243037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ирог 12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Овал 13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Кольцо 15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51" name="Кольцо 15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Прямоугольник 1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7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6B51-0BEA-40BE-872F-240E57FA13CD}" type="datetime">
              <a:rPr b="0" lang="en-US" sz="1200" spc="-1" strike="noStrike">
                <a:solidFill>
                  <a:srgbClr val="b5a788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МОУ "Сош № 72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0282-B539-454E-AC32-BED99DEF3112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Овал 7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299" name="Овал 7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589D-230B-47AE-8ED6-DDD6F6EF1BCE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МОУ "Сош № 72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AB1B-11AD-477B-B136-DF8629AA254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76B1-6375-4B2B-9FB9-EBE5EA72662B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МОУ "Сош № 72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52F8-FB60-42EC-B30E-A05A88BCEDE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Проектная деятельность в учебно-воспитательном процесс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Учебный исследовательский проек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ждый проект должен завершиться получением какого-либо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продукта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альбома, макета, выс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ки, видеофильма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трина проекта –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презентация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сновная цель которой наилучшим образом показать результат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Основные проблемы презентации: речь и регламен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7815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Структура ре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тупл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новная ча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клю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7815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Регламент- 7-10 мину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обходим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сказать о работе, содержащей большой объем информ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обходимо быть готовым к вопрос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вет на любой вопрос необходимо начинать, поблагодарив того, кто его зад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Оценка проектной работы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35344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Экспертиза проектной пап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в которой содержи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паспорт проек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аны выполнения проекта, его этап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межуточные отче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новная информ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териалы к презен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Оценка презентации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Общая оце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55280" y="1916280"/>
            <a:ext cx="79311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Arial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Учебный исследовательский проект 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это творческая, исследовательская работа учащегося (или группы учащихся), выполненная под руководством научного руководителя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за рамками школьной программ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о одному из учебных предметов, их комплексу или направл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Учебный исследовательский проект в воспитательной работе может рассматриваться ка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8247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стичный замысел о желаемом будущем, так как содержит в себе обоснование и конкретный способ практической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оциально-ориентированной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учаю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например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практик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ориентирован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проект)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8247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метод обучения и воспитания, основанный на постановке социально-значимой цели, проект не привязан к конкретному содержанию и может использоваться как в урочной, так и внеурочной деятельности,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выявляя склонность к научно-исследовательской деятель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бучаю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Цели учебного исследовательского проек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3168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гмастическ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решение конкретной пробл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едагогическа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освоение определенного содержания знаний, овладение умениями, формирование и развитие компетент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Виды учебных исследовательских проект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7419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Персональ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ан работы с проектом выстроен и отслежен с максимальной точность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учащегося формируется чувство ответствен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ащийся приобретает опыт на всех без исключения этапах выполнения про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учащегося формируются важнейшие УУД – исследовательск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зентационны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ценочны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7815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Групп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проектной группе формируются навыки сотрудниче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ект может быть выполнен наиболее глубоко и разносторон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каждом этапе, как правило выделяется свой лидер: лидер-организатор, лидер-исследователь, лидер-оформител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лемент соревнования повышает мотивацию участников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Arial"/>
              </a:rPr>
              <a:t>Классификация проектов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4038480" cy="4884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По доминирующей деятель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 учебно-воспитательной работе могут использовать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ктико-ориентирован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следовательск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формационный;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творческ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ролев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7815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 характеру контак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опроект – реализуется в рамках одного учебного предм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предметный – выполняется исключительно во внеуроч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Требования, предъявляемые к проекту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29600" cy="4668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Ограниченност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это характеристика проекта, позволяющая контролировать ход его реализации по четко определенным этапам. Ограниченность проекта означает, что он содерж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основание актуальности проекта, проблемный вопро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ли и задачи проек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апы и конкретные сроки реализ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кретные результа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количество и качество ресурс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обходимых для реализации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32908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Целостность 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аждая часть проекта соответствует общему замыслу и предполагаемому результа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Последовательность и связность 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логическое построение каждой части проекта, цели и задачи напрямую вытекают из поставленной пробл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Объективность и обоснован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539280" y="765000"/>
            <a:ext cx="8085240" cy="54007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Компетентность авторов 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сведомленность авторов в проблематике, владение ими технологиями, формами и методами реализации про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Жизнеспособность 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пределение перспектив развития проекта в дальнейшем, возможность его реализации в других услов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6:05:59Z</dcterms:created>
  <dc:creator>Алекс</dc:creator>
  <dc:description/>
  <dc:language>en-US</dc:language>
  <cp:lastModifiedBy>Admin</cp:lastModifiedBy>
  <dcterms:modified xsi:type="dcterms:W3CDTF">2018-03-28T18:29:46Z</dcterms:modified>
  <cp:revision>68</cp:revision>
  <dc:subject/>
  <dc:title>Проект.технологии</dc:title>
</cp:coreProperties>
</file>