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C1173F-912A-4F5A-8B8F-91B4EF3538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816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8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29920"/>
            <a:ext cx="8228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CCC50D-3A2D-40CD-B571-C422B26058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816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0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981080"/>
            <a:ext cx="40150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29920"/>
            <a:ext cx="40150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4129920"/>
            <a:ext cx="40150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E363F3-45A0-491F-A51D-887A1EA3AA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816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2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981080"/>
            <a:ext cx="26492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981080"/>
            <a:ext cx="26492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29920"/>
            <a:ext cx="26492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4129920"/>
            <a:ext cx="26492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4129920"/>
            <a:ext cx="26492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7427E4-67DE-4725-AC84-7CB930DC98A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816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8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60F362-55DC-4046-B303-D9694430C7C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816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8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D46889-D8CF-4C20-A64A-DB0ACF3151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816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0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981080"/>
            <a:ext cx="40150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B4C456-B806-491E-A58D-2E15C12FFF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816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F23A98-52DA-4D05-BFBC-24E4D70C6F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8160" cy="635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0AB4F8-2680-43CF-B2DD-7639C1EE96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816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0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981080"/>
            <a:ext cx="40150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29920"/>
            <a:ext cx="40150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AB95B7-F74A-4B60-BBA2-98D639FA05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816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0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981080"/>
            <a:ext cx="40150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4129920"/>
            <a:ext cx="40150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0F90A0-0E38-4152-8A1E-C5C5146D9A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816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0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981080"/>
            <a:ext cx="40150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29920"/>
            <a:ext cx="8228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C7E1AC-C609-42F7-B5F7-2D7AB68EFE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816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8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400" spc="-1" strike="noStrike">
                <a:solidFill>
                  <a:srgbClr val="ffffff"/>
                </a:solidFill>
                <a:latin typeface="Arial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AADF795-3AA3-4A47-A2F6-E591CA3E1D7D}" type="slidenum">
              <a:rPr b="0" lang="ru-RU" sz="1400" spc="-1" strike="noStrike">
                <a:solidFill>
                  <a:srgbClr val="ffffff"/>
                </a:solidFill>
                <a:latin typeface="Arial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280" y="4616280"/>
            <a:ext cx="8999640" cy="21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2600"/>
            </a:br>
            <a:r>
              <a:rPr b="0" lang="ru-RU" sz="2600" spc="-1" strike="noStrike">
                <a:solidFill>
                  <a:srgbClr val="e5ffff"/>
                </a:solidFill>
                <a:latin typeface="Tahoma"/>
              </a:rPr>
              <a:t>МБДОУ «Детский сад №8</a:t>
            </a:r>
            <a:br>
              <a:rPr sz="2600"/>
            </a:br>
            <a:r>
              <a:rPr b="0" lang="ru-RU" sz="2600" spc="-1" strike="noStrike">
                <a:solidFill>
                  <a:srgbClr val="e5ffff"/>
                </a:solidFill>
                <a:latin typeface="Tahoma"/>
              </a:rPr>
              <a:t> г. Канаш</a:t>
            </a:r>
            <a:br>
              <a:rPr sz="2800"/>
            </a:br>
            <a:r>
              <a:rPr b="0" lang="ru-RU" sz="2800" spc="-1" strike="noStrike">
                <a:solidFill>
                  <a:srgbClr val="e5ffff"/>
                </a:solidFill>
                <a:latin typeface="Tahoma"/>
              </a:rPr>
              <a:t>  </a:t>
            </a:r>
            <a:r>
              <a:rPr b="0" lang="ru-RU" sz="2200" spc="-1" strike="noStrike">
                <a:solidFill>
                  <a:srgbClr val="e5ffff"/>
                </a:solidFill>
                <a:latin typeface="Tahoma"/>
              </a:rPr>
              <a:t>2020г.</a:t>
            </a:r>
            <a:br>
              <a:rPr sz="2200"/>
            </a:br>
            <a:r>
              <a:rPr b="0" lang="ru-RU" sz="2200" spc="-1" strike="noStrike">
                <a:solidFill>
                  <a:srgbClr val="e5ffff"/>
                </a:solidFill>
                <a:latin typeface="Tahoma"/>
              </a:rPr>
              <a:t>                                                               </a:t>
            </a:r>
            <a:r>
              <a:rPr b="0" lang="ru-RU" sz="28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e5ffff"/>
                </a:solidFill>
                <a:latin typeface="Tahoma"/>
              </a:rPr>
              <a:t>воспитатель: Чернова Н.С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576360" y="923760"/>
            <a:ext cx="8229600" cy="47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9600" spc="-1" strike="noStrike">
                <a:solidFill>
                  <a:srgbClr val="ffffff"/>
                </a:solidFill>
                <a:latin typeface="Georgia"/>
              </a:rPr>
              <a:t>Времена  года</a:t>
            </a:r>
            <a:endParaRPr b="0" lang="en-US" sz="9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457200" y="349200"/>
            <a:ext cx="822960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1484280"/>
            <a:ext cx="8229600" cy="46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 algn="ctr">
              <a:spcBef>
                <a:spcPts val="20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8000" spc="-1" strike="noStrike">
                <a:solidFill>
                  <a:srgbClr val="ffffff"/>
                </a:solidFill>
                <a:latin typeface="Tahoma"/>
              </a:rPr>
              <a:t>Почему  же  меняется  время  года?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dur="indefinite" fill="hold">
                      <p:stCondLst>
                        <p:cond delay="indefinite"/>
                      </p:stCondLst>
                      <p:childTnLst>
                        <p:par>
                          <p:cTn id="19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8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457200" y="349200"/>
            <a:ext cx="822960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"/>
          <p:cNvSpPr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1332000" y="260280"/>
            <a:ext cx="6519600" cy="6291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349200"/>
            <a:ext cx="822960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spcBef>
                <a:spcPts val="799"/>
              </a:spcBef>
              <a:tabLst>
                <a:tab algn="l" pos="0"/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Тает снежок, ожил лужок. </a:t>
            </a:r>
            <a:br>
              <a:rPr sz="3200"/>
            </a:b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День прибывает. Когда это бывает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(весна)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"/>
          <p:cNvSpPr/>
          <p:nvPr/>
        </p:nvSpPr>
        <p:spPr>
          <a:xfrm>
            <a:off x="5651640" y="1989000"/>
            <a:ext cx="3035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Мар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Апрел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Май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dur="indefinite" fill="hold">
                      <p:stCondLst>
                        <p:cond delay="indefinite"/>
                      </p:stCondLst>
                      <p:childTnLst>
                        <p:par>
                          <p:cTn id="1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898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dur="indefinite" fill="hold">
                      <p:stCondLst>
                        <p:cond delay="indefinite"/>
                      </p:stCondLst>
                      <p:childTnLst>
                        <p:par>
                          <p:cTn id="1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898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dur="indefinite" fill="hold">
                      <p:stCondLst>
                        <p:cond delay="indefinite"/>
                      </p:stCondLst>
                      <p:childTnLst>
                        <p:par>
                          <p:cTn id="2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898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dur="indefinite" fill="hold">
                      <p:stCondLst>
                        <p:cond delay="indefinite"/>
                      </p:stCondLst>
                      <p:childTnLst>
                        <p:par>
                          <p:cTn id="3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898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dur="indefinite" fill="hold">
                      <p:stCondLst>
                        <p:cond delay="indefinite"/>
                      </p:stCondLst>
                      <p:childTnLst>
                        <p:par>
                          <p:cTn id="4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898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324000" y="243000"/>
            <a:ext cx="8569080" cy="642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57200" y="349200"/>
            <a:ext cx="822960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spcBef>
                <a:spcPts val="799"/>
              </a:spcBef>
              <a:tabLst>
                <a:tab algn="l" pos="0"/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Солнце печёт, липа цветёт. </a:t>
            </a:r>
            <a:br>
              <a:rPr sz="3200"/>
            </a:b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Рожь поспевает, когда это бывает?</a:t>
            </a:r>
            <a:r>
              <a:rPr b="0" lang="ru-RU" sz="3200" spc="-1" strike="noStrike">
                <a:solidFill>
                  <a:srgbClr val="ffcc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(лето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"/>
          <p:cNvSpPr/>
          <p:nvPr/>
        </p:nvSpPr>
        <p:spPr>
          <a:xfrm>
            <a:off x="5796000" y="1981080"/>
            <a:ext cx="2890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Июн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Июл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Август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dur="indefinite" fill="hold">
                      <p:stCondLst>
                        <p:cond delay="indefinite"/>
                      </p:stCondLst>
                      <p:childTnLst>
                        <p:par>
                          <p:cTn id="5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898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dur="indefinite" fill="hold">
                      <p:stCondLst>
                        <p:cond delay="indefinite"/>
                      </p:stCondLst>
                      <p:childTnLst>
                        <p:par>
                          <p:cTn id="6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898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dur="indefinite" fill="hold">
                      <p:stCondLst>
                        <p:cond delay="indefinite"/>
                      </p:stCondLst>
                      <p:childTnLst>
                        <p:par>
                          <p:cTn id="6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898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dur="indefinite" fill="hold">
                      <p:stCondLst>
                        <p:cond delay="indefinite"/>
                      </p:stCondLst>
                      <p:childTnLst>
                        <p:par>
                          <p:cTn id="7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898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dur="indefinite" fill="hold">
                      <p:stCondLst>
                        <p:cond delay="indefinite"/>
                      </p:stCondLst>
                      <p:childTnLst>
                        <p:par>
                          <p:cTn id="8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898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349200"/>
            <a:ext cx="822960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79280" y="260280"/>
            <a:ext cx="8713800" cy="631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57200" y="349200"/>
            <a:ext cx="822960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1557360"/>
            <a:ext cx="4691160" cy="454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Утром мы во двор </a:t>
            </a: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идём - </a:t>
            </a:r>
            <a:br>
              <a:rPr sz="3200"/>
            </a:b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Листья сыплются </a:t>
            </a: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дождём, </a:t>
            </a:r>
            <a:br>
              <a:rPr sz="3200"/>
            </a:b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Под ногами шелестят </a:t>
            </a:r>
            <a:br>
              <a:rPr sz="3200"/>
            </a:b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И летят, летят, </a:t>
            </a: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летят..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16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16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(осень)</a:t>
            </a:r>
            <a:r>
              <a:rPr b="0" lang="ru-RU" sz="2400" spc="-1" strike="noStrike">
                <a:solidFill>
                  <a:srgbClr val="ffff00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"/>
          <p:cNvSpPr/>
          <p:nvPr/>
        </p:nvSpPr>
        <p:spPr>
          <a:xfrm>
            <a:off x="5724360" y="1981080"/>
            <a:ext cx="29624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Сентябр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Октябр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Ноябрь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dur="indefinite" fill="hold">
                      <p:stCondLst>
                        <p:cond delay="indefinite"/>
                      </p:stCondLst>
                      <p:childTnLst>
                        <p:par>
                          <p:cTn id="9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898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dur="indefinite" fill="hold">
                      <p:stCondLst>
                        <p:cond delay="indefinite"/>
                      </p:stCondLst>
                      <p:childTnLst>
                        <p:par>
                          <p:cTn id="10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898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dur="indefinite" fill="hold">
                      <p:stCondLst>
                        <p:cond delay="indefinite"/>
                      </p:stCondLst>
                      <p:childTnLst>
                        <p:par>
                          <p:cTn id="11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898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dur="indefinite" fill="hold">
                      <p:stCondLst>
                        <p:cond delay="indefinite"/>
                      </p:stCondLst>
                      <p:childTnLst>
                        <p:par>
                          <p:cTn id="11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898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dur="indefinite" fill="hold">
                      <p:stCondLst>
                        <p:cond delay="indefinite"/>
                      </p:stCondLst>
                      <p:childTnLst>
                        <p:par>
                          <p:cTn id="12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898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57200" y="349200"/>
            <a:ext cx="822960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8569080" cy="635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457200" y="349200"/>
            <a:ext cx="822960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"/>
          <p:cNvSpPr/>
          <p:nvPr/>
        </p:nvSpPr>
        <p:spPr>
          <a:xfrm>
            <a:off x="457200" y="836640"/>
            <a:ext cx="4978440" cy="52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Тройка, тройка </a:t>
            </a: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прилетела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16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Скакуны в той тройке </a:t>
            </a: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белы. </a:t>
            </a:r>
            <a:br>
              <a:rPr sz="3200"/>
            </a:b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А в санях сидит </a:t>
            </a: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царица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16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Белокоса, белолица. </a:t>
            </a:r>
            <a:br>
              <a:rPr sz="3200"/>
            </a:b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Как махнула рукавом - все покрылось </a:t>
            </a: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серебром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16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16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(зима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"/>
          <p:cNvSpPr/>
          <p:nvPr/>
        </p:nvSpPr>
        <p:spPr>
          <a:xfrm>
            <a:off x="5651640" y="1981080"/>
            <a:ext cx="3035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Декабр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Январ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Февраль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dur="indefinite" fill="hold">
                      <p:stCondLst>
                        <p:cond delay="indefinite"/>
                      </p:stCondLst>
                      <p:childTnLst>
                        <p:par>
                          <p:cTn id="13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898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dur="indefinite" fill="hold">
                      <p:stCondLst>
                        <p:cond delay="indefinite"/>
                      </p:stCondLst>
                      <p:childTnLst>
                        <p:par>
                          <p:cTn id="14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898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dur="indefinite" fill="hold">
                      <p:stCondLst>
                        <p:cond delay="indefinite"/>
                      </p:stCondLst>
                      <p:childTnLst>
                        <p:par>
                          <p:cTn id="15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898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dur="indefinite" fill="hold">
                      <p:stCondLst>
                        <p:cond delay="indefinite"/>
                      </p:stCondLst>
                      <p:childTnLst>
                        <p:par>
                          <p:cTn id="16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898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dur="indefinite" fill="hold">
                      <p:stCondLst>
                        <p:cond delay="indefinite"/>
                      </p:stCondLst>
                      <p:childTnLst>
                        <p:par>
                          <p:cTn id="16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898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dur="indefinite" fill="hold">
                      <p:stCondLst>
                        <p:cond delay="indefinite"/>
                      </p:stCondLst>
                      <p:childTnLst>
                        <p:par>
                          <p:cTn id="17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898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dur="indefinite" fill="hold">
                      <p:stCondLst>
                        <p:cond delay="indefinite"/>
                      </p:stCondLst>
                      <p:childTnLst>
                        <p:par>
                          <p:cTn id="18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898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457200" y="349200"/>
            <a:ext cx="822960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250920" y="216000"/>
            <a:ext cx="8642160" cy="6426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2T17:03:58Z</dcterms:created>
  <dc:creator>елка</dc:creator>
  <dc:description/>
  <dc:language>en-US</dc:language>
  <cp:lastModifiedBy/>
  <dcterms:modified xsi:type="dcterms:W3CDTF">2020-01-01T15:04:28Z</dcterms:modified>
  <cp:revision>4</cp:revision>
  <dc:subject/>
  <dc:title>Слайд 1</dc:title>
</cp:coreProperties>
</file>