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24.gif" ContentType="image/gif"/>
  <Override PartName="/ppt/media/image11.wmf" ContentType="image/x-wmf"/>
  <Override PartName="/ppt/media/image9.gif" ContentType="image/gi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gif" ContentType="image/gif"/>
  <Override PartName="/ppt/media/image17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16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.png" ContentType="image/png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480-29C5-4A67-A63D-0882591F2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1946-103C-427C-B7B5-4166407E0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A21E-D2E2-4E9B-965E-B20CE5A6C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E120-42DE-426D-80DC-572807640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787C-834B-48E7-BDCE-38E422711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7F83-9059-4DD4-9A3B-E6594782C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B01E-F2FE-404E-9199-0D696DE45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036D-57D6-4346-8730-31F2130E2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EE46-447B-4A2A-BAC6-6ABF20D24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8659-4943-4E08-9AD6-55B73BECD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40EC-4D35-4715-8A00-DED92C001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5EBF-1E87-4C1A-B407-73BC43695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1FED-2163-4568-8809-8D21ACEE608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4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4920" y="5616720"/>
            <a:ext cx="4392720" cy="409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ыполнила воспитатель: Чернова Н.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МБДОУ «Детский сад №8»г. Кана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cap="sq"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cap="sq"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cap="sq"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cap="sq"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3008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cap="sq"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40000">
            <a:off x="2347920" y="28936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cap="sq"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/>
  <dcterms:modified xsi:type="dcterms:W3CDTF">2019-12-22T10:01:01Z</dcterms:modified>
  <cp:revision>11</cp:revision>
  <dc:subject/>
  <dc:title>ЗАГАДКИ  ПРО ТРАНСПОРТ</dc:title>
</cp:coreProperties>
</file>