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36.jpeg" ContentType="image/jpeg"/>
  <Override PartName="/ppt/media/image9.jpeg" ContentType="image/jpeg"/>
  <Override PartName="/ppt/media/image13.jpeg" ContentType="image/jpeg"/>
  <Override PartName="/ppt/media/image14.jpeg" ContentType="image/jpeg"/>
  <Override PartName="/ppt/media/image8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4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36D-8F05-4DA4-811B-C5E13978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F1B-8938-47A0-B53D-EE281783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11994-0BB6-4764-A077-B24BBB4A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EF2DF-4FB8-4035-90F5-0B2B801A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1471A-F406-448B-A8E2-78D3A3AD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197CC-6B33-4810-9577-C1E1C2A8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54A00-49A1-42BA-A570-4BFB5784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22BCC-656A-4FC4-B102-DE330F8F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8F764-5716-4020-9547-F3A7C718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D3599-6EF2-4B9A-9ED1-ACBADC6B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6EA02-A78E-48F1-B602-9CFF4A73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3CF4-85AC-44F2-9F55-56CBDAF8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DB5-5A6C-46C6-8B36-E82495DB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7354-D291-4542-9585-628A07AF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0F56-DA19-4086-91AE-A4F24E18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3B3D-F617-47F4-AD7C-5C189EF2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CD82-FE1E-42B2-87C6-E131CB3A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A99A-4831-4D50-899A-66E7F479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4193-26BC-48D6-9F5E-8DFB48EF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BFA9-AE22-4549-B0F2-E0FC20F6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D10-DA09-4CBE-91AC-AC612510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D160-0FC1-45EB-83AF-84FCC554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6388-01B6-484C-A90E-0D8EA726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FF5E-C698-4E36-9131-47A7FC2F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8121-14B5-43D3-B777-9CD69F27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B658-149D-4009-9A1F-89E5668E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5A806-0BDF-44CB-B9C7-42441237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227CA-D1F2-4641-BE0D-EDA8CF26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ED1CC-B053-4AA1-9A52-4B2F8D94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574E6-59CD-4DA1-9B7C-4F50C852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89928-F624-41D5-B2CA-4A2EA028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BA78-16CB-4064-9851-2C177B10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F73ED-96A5-44A7-B10F-4F0F3F96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4981B-062B-4DFB-9CF9-82FD2845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46234-2994-41F2-8469-7B04E5C8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F30EE-3B7B-43B9-B863-96794960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33E4A-4ADF-4F3D-8A79-E00BA8DF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A2D88-2C32-441E-AEF5-97BF19DA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FF170-2925-4B15-B481-BD096E4C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A68F2-87D7-435F-A2FE-95F8E341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E1A08-789E-4FA1-AAB7-F98D0023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8D6FC-62A9-4B4C-AA85-9E6194E4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776C-0E2D-40F6-8FB6-22B46E1F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65F8B-39F6-488B-AC0A-B1E5A676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0A3D6-1985-4D5D-B76F-39C4F797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E4954-6928-40B1-93F5-74D26303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631C6-B72E-4069-9143-C09ACF3F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BBD66-65D9-4EFA-9515-0533EEAD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6FB77-5F98-4D44-A06A-09ACCC18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0AB61-B3CB-4FF8-BCAB-0D26F1FE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D6ECB-BA43-47E3-A60F-3CF215FA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1A59B-849D-4C5B-898A-BEC5C46A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2102F-0441-4696-AFFC-BDE1A736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549-EEA5-4C5A-832C-6F21181B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2D28F-8719-4C09-9A28-FE320601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1E6D1-01F1-48CA-A30B-5AD3C808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5E7A4-25E4-45AE-A2B4-A8F6B5E0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BE714-B36A-477D-B9E7-746FFEC0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5D0BE-0B72-4928-8822-A0A4E3DF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3DAB8-27DB-4FC5-B398-03FD2C7F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A3C5C-8367-4EB1-BD1F-90B22A3E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1F2A7-73C8-4193-BECA-281D77B5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5C203-6B2A-4E25-A380-8E5B06B6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0BB3E-3551-4848-8F77-C5BCCF84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28C-3BF1-4F2C-A808-991B5882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E8AE1-C398-4E97-A19D-027BC291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3B3B5-3029-4720-8E12-C19AF85C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9986A-F848-4923-A820-197B2B8D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BD471-BC9A-4858-8644-FAB097FD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D81C1-1D91-44DD-8D5B-02704CBB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155DA-A813-4652-818A-69F9D054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3D877-F619-4C8A-BCD5-BF3C872E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9A43E-CB63-416B-9104-4BB6ABAD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4E784-FE5F-426C-A49F-7580CBEB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2317A-844E-4EF3-A851-73B94B98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9CA-2A2E-467A-89BB-F8FE019F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EECA1-9AD8-4CBD-A181-8CC86BD9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260A8-5668-429B-9E4B-F2E02E3B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779E2-0A03-4B46-9025-AA658168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49D03-4571-4ED9-8E18-776BC99C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D468F-D5BD-4FBC-B699-5F38E349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8C718-58F1-4F47-9EAC-AD52BD4A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BE9DA-F96E-4F8F-BBA2-9B3BC639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1A9B8-DA02-4C78-BEF5-EE253EF0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A1B9F-9649-4C0B-A556-F6C388C2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DCF75-74F1-4E98-8935-CAD71F34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B3A-50F2-4EBE-9A45-6B507034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D53F3-EAA0-44DE-B7C0-8662CFBB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EA6B0-AD2D-4C3E-AD46-0D4569E6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99793-5A23-4E02-BFFF-DBC488DC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64AC3-1857-42C8-90C4-ECCDAEFA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18FC5-7596-4EB4-A71E-1542C6D0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239EC-F601-4ADD-822D-DB0E31DE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3A141-C524-4C89-B046-4512BAEA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4B52A-5ED3-492E-A2DE-78367E62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CE948-E0B5-4ECC-BEC0-62C5DBCE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F1448-D315-47E1-9506-15239D90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F5C9-F8C3-4E98-B512-522234C6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270EF-3A6A-4309-A756-D7CB29E2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68C5B-3163-4194-BA51-65643C44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F878E-CE3C-46C1-BD96-64E10E35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E557A-6CF5-4D7B-8730-84A7C998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B1213-E5BA-420A-AA94-5864D090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302B2-CEDF-4247-BFF5-47A5EC21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B9D7F-43A0-486E-AE84-6AA3CA58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98D47-7487-4AAD-BC3C-2BE523D1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226CA-7BDE-4E54-B47D-F3568575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AB094-DA64-4B2B-B2B8-E3968876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8020-07EA-4372-853F-886090847AD9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7D1F-7AFA-43F6-A363-490E51DA80AE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716B-B797-42A8-A2FA-A279AD0B8AA4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A33C-0BDF-4093-BDC3-411B0B5D8396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A7A8-959C-4BA8-B46F-CB917BE0C100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DD20-9F52-4C45-AFED-60A29193FCF8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B3F6-0598-4F13-A6BB-D2318C7CF976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327F-8DEA-45FF-82FA-F5AEAF90606D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D8A1-ADD7-4674-A548-CED825C9A432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3"/>
          <p:cNvSpPr/>
          <p:nvPr/>
        </p:nvSpPr>
        <p:spPr>
          <a:xfrm>
            <a:off x="826920" y="404640"/>
            <a:ext cx="7560000" cy="22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ДОУ «ЦРР «Дубравушка»-детский сад № 31»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Georgia"/>
                <a:ea typeface="华文楷体"/>
              </a:rPr>
              <a:t>«Чудеса  на  песке»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Прямоугольник 4"/>
          <p:cNvSpPr/>
          <p:nvPr/>
        </p:nvSpPr>
        <p:spPr>
          <a:xfrm>
            <a:off x="1258920" y="3645000"/>
            <a:ext cx="71280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Науменко  Людмила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Николаевна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оспитатель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Прямоугольник 5"/>
          <p:cNvSpPr/>
          <p:nvPr/>
        </p:nvSpPr>
        <p:spPr>
          <a:xfrm>
            <a:off x="900000" y="5445000"/>
            <a:ext cx="75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19 год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Рисунок 1" descr="detskie-fony-dlya-prezentatsiy-v-detskom-sadu-75494-large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4" name="Прямоугольник 2" descr=""/>
          <p:cNvPicPr/>
          <p:nvPr/>
        </p:nvPicPr>
        <p:blipFill>
          <a:blip r:embed="rId2"/>
          <a:stretch/>
        </p:blipFill>
        <p:spPr>
          <a:xfrm>
            <a:off x="378000" y="291960"/>
            <a:ext cx="8594640" cy="774720"/>
          </a:xfrm>
          <a:prstGeom prst="rect">
            <a:avLst/>
          </a:prstGeom>
          <a:ln w="0">
            <a:noFill/>
          </a:ln>
        </p:spPr>
      </p:pic>
      <p:sp>
        <p:nvSpPr>
          <p:cNvPr id="445" name="Прямоугольник 3"/>
          <p:cNvSpPr/>
          <p:nvPr/>
        </p:nvSpPr>
        <p:spPr>
          <a:xfrm>
            <a:off x="539640" y="981000"/>
            <a:ext cx="7848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Песочница.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Игровой и бросовый материал небольшого размера: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разнообразные пластиковые формочки разной величины — геометрические, изображающие животных, транспорт, людей;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формочки для теста;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миниатюрные игрушки (высотой 5–10 см), изображающие людей разного пола и возраста, различных животных и растения, транспорт;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бросовый материал: камешки, ракушки, большие пуговицы;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формочки;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детская посуда.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Заламинированные фигурки людей, животных, сказочных персонажей и т.д., для занятия в соответствии с темой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6" name="Рисунок 5" descr=""/>
          <p:cNvPicPr/>
          <p:nvPr/>
        </p:nvPicPr>
        <p:blipFill>
          <a:blip r:embed="rId3"/>
          <a:stretch/>
        </p:blipFill>
        <p:spPr>
          <a:xfrm>
            <a:off x="5076720" y="4005360"/>
            <a:ext cx="3473640" cy="266364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6" descr="C:\Users\Людмила Николаевна\Desktop\все фото\DSCN0121.JPG"/>
          <p:cNvPicPr/>
          <p:nvPr/>
        </p:nvPicPr>
        <p:blipFill>
          <a:blip r:embed="rId4"/>
          <a:stretch/>
        </p:blipFill>
        <p:spPr>
          <a:xfrm>
            <a:off x="841320" y="4005360"/>
            <a:ext cx="315432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Рисунок 1" descr="detskie-fony-dlya-prezentatsiy-v-detskom-sadu-75494-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2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5580000" cy="472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0" name="Picture 2" descr="C:\Users\Детсад\Pictures\цветной_песок_(1)(1).jpg"/>
          <p:cNvPicPr/>
          <p:nvPr/>
        </p:nvPicPr>
        <p:blipFill>
          <a:blip r:embed="rId3"/>
          <a:stretch/>
        </p:blipFill>
        <p:spPr>
          <a:xfrm>
            <a:off x="179280" y="189000"/>
            <a:ext cx="3997440" cy="266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1" name="Рисунок 4" descr="https://sluhon.ru/wp-content/uploads/2018/10/%D0%BF%D0%B5%D1%81%D0%BE%D1%87%D0%BD%D0%B0%D1%8F-%D1%82%D0%B5%D1%80%D0%B0%D0%BF%D0%B8%D1%8F-%D0%B4%D0%BB%D1%8F-%D0%B4%D0%B5%D1%82%D0%B5%D0%B9-e1539419878763.jpg"/>
          <p:cNvPicPr/>
          <p:nvPr/>
        </p:nvPicPr>
        <p:blipFill>
          <a:blip r:embed="rId4"/>
          <a:stretch/>
        </p:blipFill>
        <p:spPr>
          <a:xfrm>
            <a:off x="108000" y="3500280"/>
            <a:ext cx="33116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Рисунок 1" descr="detskie-fony-dlya-prezentatsiy-v-detskom-sadu-75494-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2"/>
          <p:cNvSpPr/>
          <p:nvPr/>
        </p:nvSpPr>
        <p:spPr>
          <a:xfrm>
            <a:off x="825120" y="476280"/>
            <a:ext cx="76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оспитательно-образовательный эффек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4" name="Схема 3" descr=""/>
          <p:cNvPicPr/>
          <p:nvPr/>
        </p:nvPicPr>
        <p:blipFill>
          <a:blip r:embed="rId2"/>
          <a:stretch/>
        </p:blipFill>
        <p:spPr>
          <a:xfrm>
            <a:off x="378000" y="1359000"/>
            <a:ext cx="853416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Рисунок 1" descr="detskie-fony-dlya-prezentatsiy-v-detskom-sadu-75494-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6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5284800" cy="396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7" name="Рисунок 7" descr=""/>
          <p:cNvPicPr/>
          <p:nvPr/>
        </p:nvPicPr>
        <p:blipFill>
          <a:blip r:embed="rId3"/>
          <a:stretch/>
        </p:blipFill>
        <p:spPr>
          <a:xfrm>
            <a:off x="5796000" y="549360"/>
            <a:ext cx="2968560" cy="222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8" name="Рисунок 4" descr=""/>
          <p:cNvPicPr/>
          <p:nvPr/>
        </p:nvPicPr>
        <p:blipFill>
          <a:blip r:embed="rId4"/>
          <a:stretch/>
        </p:blipFill>
        <p:spPr>
          <a:xfrm>
            <a:off x="600120" y="1050840"/>
            <a:ext cx="47638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1" descr="detskie-fony-dlya-prezentatsiy-v-detskom-sadu-75494-large"/>
          <p:cNvPicPr/>
          <p:nvPr/>
        </p:nvPicPr>
        <p:blipFill>
          <a:blip r:embed="rId1"/>
          <a:stretch/>
        </p:blipFill>
        <p:spPr>
          <a:xfrm>
            <a:off x="-23760" y="936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2"/>
          <p:cNvSpPr/>
          <p:nvPr/>
        </p:nvSpPr>
        <p:spPr>
          <a:xfrm>
            <a:off x="468360" y="115920"/>
            <a:ext cx="8136000" cy="58140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песка в работе с детьми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Прямоугольник 3"/>
          <p:cNvSpPr/>
          <p:nvPr/>
        </p:nvSpPr>
        <p:spPr>
          <a:xfrm>
            <a:off x="455760" y="765000"/>
            <a:ext cx="81486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амая лучшая игрушка для детей — кучка песка!» — так говорил всем известный педагог Константин Дмитриевич Ушинский.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мы, воспитатели, имеем большие возможности обогащения развивающей среды различными игрушками, играми, конструкторами, которые помогают нам в реализации федерального стандарта дошкольного образования и способствуют раскрытию способностей воспитанников. Песок — современный материал для организации игр, которые в свою очередь  являются сквозным механизмом развития ребёнка.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в песочнице — одна из форм естественной активности детей, поэтому песок стал одним из компонентов развивающей предметно-пространственной среды нашей группы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е, но очень важные правила: не торопитесь и будьте рядом. Пусть ребенок станет ведущим, рассказывает сказки, истории, комментирует и задает вопросы.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5" name="Рисунок 5" descr="C:\Users\Людмила Николаевна\Desktop\все фото\DSCN0126.JPG"/>
          <p:cNvPicPr/>
          <p:nvPr/>
        </p:nvPicPr>
        <p:blipFill>
          <a:blip r:embed="rId2"/>
          <a:stretch/>
        </p:blipFill>
        <p:spPr>
          <a:xfrm>
            <a:off x="4859280" y="4076640"/>
            <a:ext cx="3405240" cy="266544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6" descr="C:\Users\Людмила Николаевна\Desktop\все фото\DSCN0138.JPG"/>
          <p:cNvPicPr/>
          <p:nvPr/>
        </p:nvPicPr>
        <p:blipFill>
          <a:blip r:embed="rId3"/>
          <a:stretch/>
        </p:blipFill>
        <p:spPr>
          <a:xfrm>
            <a:off x="1035000" y="4076640"/>
            <a:ext cx="3249720" cy="247824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5" descr="C:\Users\Людмила Николаевна\Desktop\все фото\DSCN0126.JPG"/>
          <p:cNvPicPr/>
          <p:nvPr/>
        </p:nvPicPr>
        <p:blipFill>
          <a:blip r:embed="rId4"/>
          <a:stretch/>
        </p:blipFill>
        <p:spPr>
          <a:xfrm>
            <a:off x="4859280" y="4005360"/>
            <a:ext cx="3405240" cy="266544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6" descr="C:\Users\Людмила Николаевна\Desktop\все фото\DSCN0138.JPG"/>
          <p:cNvPicPr/>
          <p:nvPr/>
        </p:nvPicPr>
        <p:blipFill>
          <a:blip r:embed="rId5"/>
          <a:stretch/>
        </p:blipFill>
        <p:spPr>
          <a:xfrm>
            <a:off x="1035000" y="4005360"/>
            <a:ext cx="324972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1" descr="detskie-fony-dlya-prezentatsiy-v-detskom-sadu-75494-large"/>
          <p:cNvPicPr/>
          <p:nvPr/>
        </p:nvPicPr>
        <p:blipFill>
          <a:blip r:embed="rId1"/>
          <a:stretch/>
        </p:blipFill>
        <p:spPr>
          <a:xfrm>
            <a:off x="-23760" y="9360"/>
            <a:ext cx="916776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Прямоугольник 2" descr=""/>
          <p:cNvPicPr/>
          <p:nvPr/>
        </p:nvPicPr>
        <p:blipFill>
          <a:blip r:embed="rId2"/>
          <a:stretch/>
        </p:blipFill>
        <p:spPr>
          <a:xfrm>
            <a:off x="2262240" y="396720"/>
            <a:ext cx="5052960" cy="66996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3"/>
          <p:cNvSpPr/>
          <p:nvPr/>
        </p:nvSpPr>
        <p:spPr>
          <a:xfrm>
            <a:off x="455760" y="1628640"/>
            <a:ext cx="3755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создание комфортных, благоприятных условий для совместной и самостоятельной деятельности в условиях группы детского сада.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2" name="Рисунок 8" descr="C:\Users\Людмила Николаевна\Desktop\2 срада\DSCN0963.JPG"/>
          <p:cNvPicPr/>
          <p:nvPr/>
        </p:nvPicPr>
        <p:blipFill>
          <a:blip r:embed="rId3"/>
          <a:stretch/>
        </p:blipFill>
        <p:spPr>
          <a:xfrm>
            <a:off x="5651640" y="4365720"/>
            <a:ext cx="1873080" cy="234144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10" descr="C:\Users\Людмила Николаевна\Desktop\игры с песком\DSCN1377.JPG"/>
          <p:cNvPicPr/>
          <p:nvPr/>
        </p:nvPicPr>
        <p:blipFill>
          <a:blip r:embed="rId4"/>
          <a:stretch/>
        </p:blipFill>
        <p:spPr>
          <a:xfrm>
            <a:off x="4500720" y="1125360"/>
            <a:ext cx="4103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Рисунок 1" descr="detskie-fony-dlya-prezentatsiy-v-detskom-sadu-75494-large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5" name="Прямоугольник 2" descr=""/>
          <p:cNvPicPr/>
          <p:nvPr/>
        </p:nvPicPr>
        <p:blipFill>
          <a:blip r:embed="rId2"/>
          <a:stretch/>
        </p:blipFill>
        <p:spPr>
          <a:xfrm>
            <a:off x="3108240" y="291960"/>
            <a:ext cx="2689200" cy="774720"/>
          </a:xfrm>
          <a:prstGeom prst="rect">
            <a:avLst/>
          </a:prstGeom>
          <a:ln w="0">
            <a:noFill/>
          </a:ln>
        </p:spPr>
      </p:pic>
      <p:sp>
        <p:nvSpPr>
          <p:cNvPr id="416" name="Прямоугольник 3"/>
          <p:cNvSpPr/>
          <p:nvPr/>
        </p:nvSpPr>
        <p:spPr>
          <a:xfrm>
            <a:off x="539640" y="1052640"/>
            <a:ext cx="784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Развитие мелкой моторики, совершенствование сенсорного восприятия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Развитие творческих способностей, воображения и фантазии.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Развитие познавательных процессов. Формирование исследовательских умений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Закрепление знаний и навыков, полученных на занятиях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Развитие коммуникативных навыков.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Воспитание внимания. Нормализация эмоционально-волевой сферы детей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7" name="Рисунок 5" descr="C:\Users\Людмила Николаевна\Desktop\игры с песком\DSCN1370.JPG"/>
          <p:cNvPicPr/>
          <p:nvPr/>
        </p:nvPicPr>
        <p:blipFill>
          <a:blip r:embed="rId3"/>
          <a:stretch/>
        </p:blipFill>
        <p:spPr>
          <a:xfrm>
            <a:off x="250920" y="2924280"/>
            <a:ext cx="2808360" cy="3698640"/>
          </a:xfrm>
          <a:prstGeom prst="rect">
            <a:avLst/>
          </a:prstGeom>
          <a:ln cap="sq" w="381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18" name="Рисунок 8" descr=""/>
          <p:cNvPicPr/>
          <p:nvPr/>
        </p:nvPicPr>
        <p:blipFill>
          <a:blip r:embed="rId4"/>
          <a:stretch/>
        </p:blipFill>
        <p:spPr>
          <a:xfrm>
            <a:off x="3203640" y="2924280"/>
            <a:ext cx="3165480" cy="2376360"/>
          </a:xfrm>
          <a:prstGeom prst="rect">
            <a:avLst/>
          </a:prstGeom>
          <a:ln cap="sq" w="38160">
            <a:solidFill>
              <a:srgbClr val="f273a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19" name="Рисунок 12" descr="https://cache3.youla.io/files/images/780_780/5c/77/5c778e63a09cd58205078012.jpg"/>
          <p:cNvPicPr/>
          <p:nvPr/>
        </p:nvPicPr>
        <p:blipFill>
          <a:blip r:embed="rId5"/>
          <a:stretch/>
        </p:blipFill>
        <p:spPr>
          <a:xfrm>
            <a:off x="6084720" y="4437000"/>
            <a:ext cx="2862360" cy="228780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Рисунок 1" descr="detskie-fony-dlya-prezentatsiy-v-detskom-sadu-75494-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2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824360" cy="1800360"/>
          </a:xfrm>
          <a:prstGeom prst="rect">
            <a:avLst/>
          </a:prstGeom>
          <a:ln w="0">
            <a:noFill/>
          </a:ln>
        </p:spPr>
      </p:pic>
      <p:pic>
        <p:nvPicPr>
          <p:cNvPr id="422" name="Прямоугольник 4" descr=""/>
          <p:cNvPicPr/>
          <p:nvPr/>
        </p:nvPicPr>
        <p:blipFill>
          <a:blip r:embed="rId3"/>
          <a:stretch/>
        </p:blipFill>
        <p:spPr>
          <a:xfrm>
            <a:off x="4998960" y="433440"/>
            <a:ext cx="3827520" cy="145584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5"/>
          <p:cNvSpPr/>
          <p:nvPr/>
        </p:nvSpPr>
        <p:spPr>
          <a:xfrm>
            <a:off x="611280" y="2205000"/>
            <a:ext cx="8064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33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3333"/>
                </a:solidFill>
                <a:latin typeface="Times New Roman"/>
                <a:ea typeface="Calibri"/>
              </a:rPr>
              <a:t>   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  <a:ea typeface="Calibri"/>
              </a:rPr>
              <a:t>С песком можно играть в помещении в любую погоду. Такая домашняя песочница особенно востребована в зимнее время и в дождливые дни. Он приятен  на ощупь и похож на мокрый морской песок. Не требует добавления воды для лепки, не высыхает, не пачкает руки ребенка и не оставляет следов на игровой поверхности.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Times New Roman"/>
                <a:ea typeface="Calibri"/>
              </a:rPr>
              <a:t>   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  <a:ea typeface="Calibri"/>
              </a:rPr>
              <a:t>Песок безвреден, гипоаллергенен и безопасен для ребенка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Times New Roman"/>
                <a:ea typeface="Calibri"/>
              </a:rPr>
              <a:t>   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  <a:ea typeface="Calibri"/>
              </a:rPr>
              <a:t>В нем не развиваются вредоносные бактерии и отсутствуют токсические вещества.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Times New Roman"/>
                <a:ea typeface="Calibri"/>
              </a:rPr>
              <a:t>   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  <a:ea typeface="Calibri"/>
              </a:rPr>
              <a:t>Кинетический песок отлично лепится и не высыхает, что позволяет его широко применять в образовательной, свободной игровой и других видах деятельности с детьми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Times New Roman"/>
                <a:ea typeface="Calibri"/>
              </a:rPr>
              <a:t>   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  <a:ea typeface="Calibri"/>
              </a:rPr>
              <a:t>Собрать песок для лепки после окончания игры очень легко. Достаточно лишь слепить из него комок и притронуться им к оставшимся на игровой поверхности песчинкам. Мелкие частички будут прилипать к основной массе, как к магниту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сок не впитывает пыль и не пахнет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укт не боится воды и в случае смачивания после просушки сохраняет прежние свойства. В случае неосторожного заглатывания песка (что не рекомендуется) силикон и кварц не взаимодействуют с желудочным соком и через определенное время выходят из организма естественным путем, не вызывая дискомфорта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Рисунок 1" descr="detskie-fony-dlya-prezentatsiy-v-detskom-sadu-75494-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2"/>
          <p:cNvSpPr/>
          <p:nvPr/>
        </p:nvSpPr>
        <p:spPr>
          <a:xfrm>
            <a:off x="250920" y="26028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Почему  кинетический песок полезен для детей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Скругленный прямоугольник 3"/>
          <p:cNvSpPr/>
          <p:nvPr/>
        </p:nvSpPr>
        <p:spPr>
          <a:xfrm>
            <a:off x="909720" y="1332000"/>
            <a:ext cx="3097080" cy="2254320"/>
          </a:xfrm>
          <a:prstGeom prst="roundRect">
            <a:avLst>
              <a:gd name="adj" fmla="val 16667"/>
            </a:avLst>
          </a:prstGeom>
          <a:solidFill>
            <a:srgbClr val="738ac8"/>
          </a:solidFill>
          <a:ln w="25560">
            <a:solidFill>
              <a:srgbClr val="536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Игры с кинетическим песком не требуются инструкции и руководства. С ним интересно играть как одному ребенку, так и нескольким детям одновременно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Скругленный прямоугольник 4"/>
          <p:cNvSpPr/>
          <p:nvPr/>
        </p:nvSpPr>
        <p:spPr>
          <a:xfrm>
            <a:off x="5219640" y="1319040"/>
            <a:ext cx="3097440" cy="4918320"/>
          </a:xfrm>
          <a:custGeom>
            <a:avLst/>
            <a:gdLst>
              <a:gd name="textAreaLeft" fmla="*/ 151200 w 3097440"/>
              <a:gd name="textAreaRight" fmla="*/ 2946240 w 3097440"/>
              <a:gd name="textAreaTop" fmla="*/ 151200 h 4918320"/>
              <a:gd name="textAreaBottom" fmla="*/ 4767120 h 4918320"/>
            </a:gdLst>
            <a:ahLst/>
            <a:rect l="textAreaLeft" t="textAreaTop" r="textAreaRight" b="textAreaBottom"/>
            <a:pathLst>
              <a:path w="21600" h="34296">
                <a:moveTo>
                  <a:pt x="3600" y="0"/>
                </a:moveTo>
                <a:arcTo wR="3600" hR="3600" stAng="16200000" swAng="-5400000"/>
                <a:lnTo>
                  <a:pt x="0" y="30696"/>
                </a:lnTo>
                <a:arcTo wR="3600" hR="3600" stAng="10800000" swAng="-5400000"/>
                <a:lnTo>
                  <a:pt x="18000" y="342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157a"/>
          </a:solidFill>
          <a:ln w="25560">
            <a:solidFill>
              <a:srgbClr val="ac0c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азвить мелкую моторику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вершенствовать сенсорное восприятие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уществлять подготовку руки к письму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азвивать речь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азвивать творческое мышление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Вовлекать в ролевые игры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Тренировать внимание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асслабляться и успокаиваться; прекрасно снимает стресс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8" name="Рисунок 5" descr=""/>
          <p:cNvPicPr/>
          <p:nvPr/>
        </p:nvPicPr>
        <p:blipFill>
          <a:blip r:embed="rId2"/>
          <a:stretch/>
        </p:blipFill>
        <p:spPr>
          <a:xfrm>
            <a:off x="633240" y="3736800"/>
            <a:ext cx="365292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1" descr="detskie-fony-dlya-prezentatsiy-v-detskom-sadu-75494-large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Прямоугольник 2" descr=""/>
          <p:cNvPicPr/>
          <p:nvPr/>
        </p:nvPicPr>
        <p:blipFill>
          <a:blip r:embed="rId2"/>
          <a:stretch/>
        </p:blipFill>
        <p:spPr>
          <a:xfrm>
            <a:off x="3108240" y="291960"/>
            <a:ext cx="2768760" cy="774720"/>
          </a:xfrm>
          <a:prstGeom prst="rect">
            <a:avLst/>
          </a:prstGeom>
          <a:ln w="0">
            <a:noFill/>
          </a:ln>
        </p:spPr>
      </p:pic>
      <p:pic>
        <p:nvPicPr>
          <p:cNvPr id="431" name="Схема 12" descr=""/>
          <p:cNvPicPr/>
          <p:nvPr/>
        </p:nvPicPr>
        <p:blipFill>
          <a:blip r:embed="rId3"/>
          <a:stretch/>
        </p:blipFill>
        <p:spPr>
          <a:xfrm>
            <a:off x="208080" y="689040"/>
            <a:ext cx="8770680" cy="411480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13" descr=""/>
          <p:cNvPicPr/>
          <p:nvPr/>
        </p:nvPicPr>
        <p:blipFill>
          <a:blip r:embed="rId4"/>
          <a:stretch/>
        </p:blipFill>
        <p:spPr>
          <a:xfrm>
            <a:off x="6300720" y="4653000"/>
            <a:ext cx="2687760" cy="2016000"/>
          </a:xfrm>
          <a:prstGeom prst="rect">
            <a:avLst/>
          </a:prstGeom>
          <a:ln cap="sq" w="38160">
            <a:solidFill>
              <a:srgbClr val="007eea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33" name="Рисунок 15" descr=""/>
          <p:cNvPicPr/>
          <p:nvPr/>
        </p:nvPicPr>
        <p:blipFill>
          <a:blip r:embed="rId5"/>
          <a:stretch/>
        </p:blipFill>
        <p:spPr>
          <a:xfrm>
            <a:off x="250920" y="4653000"/>
            <a:ext cx="2736720" cy="2050920"/>
          </a:xfrm>
          <a:prstGeom prst="rect">
            <a:avLst/>
          </a:prstGeom>
          <a:ln cap="sq" w="38160">
            <a:solidFill>
              <a:srgbClr val="007eea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34" name="Рисунок 8" descr="https://www.maam.ru/upload/blogs/detsad-283112-1428324806.jpg"/>
          <p:cNvPicPr/>
          <p:nvPr/>
        </p:nvPicPr>
        <p:blipFill>
          <a:blip r:embed="rId6"/>
          <a:stretch/>
        </p:blipFill>
        <p:spPr>
          <a:xfrm>
            <a:off x="3276720" y="4653000"/>
            <a:ext cx="2735280" cy="2016000"/>
          </a:xfrm>
          <a:prstGeom prst="rect">
            <a:avLst/>
          </a:prstGeom>
          <a:ln cap="sq" w="38160">
            <a:solidFill>
              <a:srgbClr val="007eea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Рисунок 1" descr="detskie-fony-dlya-prezentatsiy-v-detskom-sadu-75494-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4"/>
          <p:cNvSpPr/>
          <p:nvPr/>
        </p:nvSpPr>
        <p:spPr>
          <a:xfrm>
            <a:off x="826920" y="2133720"/>
            <a:ext cx="7490160" cy="4248000"/>
          </a:xfrm>
          <a:prstGeom prst="rect">
            <a:avLst/>
          </a:prstGeom>
          <a:solidFill>
            <a:srgbClr val="feb80a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организованной образовательной деятельности с детьми по всем образовательным областям: «Речевое развитие», «Познавательное развитие», «Социально- коммуникативное развитие», «Художественно- эстетическое развитие», «Физическое развитие»;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дагогическое обследование детей, результаты которого могут быть использованы в индивидуальном подходе к ребенку, в консультировании родителей и педагогов;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групповая и индивидуальная совместная деятельность взрослых с детьми;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амостоятельная и совместная игровая деятельность детей;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ерия комплексных занятий, направленных на развитие эмоциональной и познавательной сферы детей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7" name="Стрелка вниз 7" descr=""/>
          <p:cNvPicPr/>
          <p:nvPr/>
        </p:nvPicPr>
        <p:blipFill>
          <a:blip r:embed="rId2"/>
          <a:stretch/>
        </p:blipFill>
        <p:spPr>
          <a:xfrm>
            <a:off x="2809800" y="927000"/>
            <a:ext cx="3279960" cy="1548000"/>
          </a:xfrm>
          <a:prstGeom prst="rect">
            <a:avLst/>
          </a:prstGeom>
          <a:ln w="0">
            <a:noFill/>
          </a:ln>
        </p:spPr>
      </p:pic>
      <p:pic>
        <p:nvPicPr>
          <p:cNvPr id="438" name="Прямоугольник 9" descr=""/>
          <p:cNvPicPr/>
          <p:nvPr/>
        </p:nvPicPr>
        <p:blipFill>
          <a:blip r:embed="rId3"/>
          <a:stretch/>
        </p:blipFill>
        <p:spPr>
          <a:xfrm>
            <a:off x="506520" y="281160"/>
            <a:ext cx="83199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Рисунок 1" descr="detskie-fony-dlya-prezentatsiy-v-detskom-sadu-75494-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Прямоугольник 5"/>
          <p:cNvSpPr/>
          <p:nvPr/>
        </p:nvSpPr>
        <p:spPr>
          <a:xfrm>
            <a:off x="684360" y="2133720"/>
            <a:ext cx="8064360" cy="4248000"/>
          </a:xfrm>
          <a:prstGeom prst="rect">
            <a:avLst/>
          </a:prstGeom>
          <a:solidFill>
            <a:srgbClr val="00addc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татья «Игры с песком или песочная терапия» в информационной газете «Дубравушка»;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нкетирование родителей (законных представителей);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осветительская работа с родителями и педагогами в форме консультаций - презентаций, оформление информационного уголка для родителей и педагогов;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фотовыставка;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астер – классы для педагогов «Играем с кинетическим песком»;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одительские собрания с показом практической работы с детьми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1" name="Стрелка вниз 8" descr=""/>
          <p:cNvPicPr/>
          <p:nvPr/>
        </p:nvPicPr>
        <p:blipFill>
          <a:blip r:embed="rId2"/>
          <a:stretch/>
        </p:blipFill>
        <p:spPr>
          <a:xfrm>
            <a:off x="3029040" y="804960"/>
            <a:ext cx="3279600" cy="1663560"/>
          </a:xfrm>
          <a:prstGeom prst="rect">
            <a:avLst/>
          </a:prstGeom>
          <a:ln w="0">
            <a:noFill/>
          </a:ln>
        </p:spPr>
      </p:pic>
      <p:pic>
        <p:nvPicPr>
          <p:cNvPr id="442" name="Прямоугольник 9" descr=""/>
          <p:cNvPicPr/>
          <p:nvPr/>
        </p:nvPicPr>
        <p:blipFill>
          <a:blip r:embed="rId3"/>
          <a:stretch/>
        </p:blipFill>
        <p:spPr>
          <a:xfrm>
            <a:off x="506520" y="281160"/>
            <a:ext cx="83199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5T07:52:32Z</dcterms:created>
  <dc:creator>Пользователь</dc:creator>
  <dc:description/>
  <dc:language>en-US</dc:language>
  <cp:lastModifiedBy>Людмила Николаевна</cp:lastModifiedBy>
  <dcterms:modified xsi:type="dcterms:W3CDTF">2020-01-02T06:18:03Z</dcterms:modified>
  <cp:revision>135</cp:revision>
  <dc:subject/>
  <dc:title>Презентация PowerPoint</dc:title>
</cp:coreProperties>
</file>