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9BC-4C37-4631-A614-C2B78E29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C05-B0D3-4716-B9F5-565C3F68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F49-3754-4D1A-B5FD-2A4B922D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2CD-451A-4857-A03A-DF74039B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EDF9-79A6-4F31-8DA0-CCEC99BB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EF0E-EED1-435B-B424-108CC573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4814-AB4F-4856-A0FE-F4ACD8BA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6B7C-922C-4395-824C-21DF4B6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0DFB-C46E-45FD-B8CB-05607D2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2F30-FFB4-4A57-B456-01A8E00D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A018-1880-4439-89D8-58C6D52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245-C580-4FE1-AB18-E161CDF1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17CD-B254-4030-AC1D-81DCF1C1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620C-9611-4DAB-B88E-C21846D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6294-65E7-4C46-97A9-C856F18B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025B-616C-4D12-9477-7B0C9888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A6A2-E490-4D8A-8412-99BAC28E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1528-8217-4AD1-B600-2A59616E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FCBD-9D4D-4B1E-B67F-323F5BC3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1B5E-9477-45DA-A26E-9BEDE9D3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2F40-2B3D-4275-BC31-CE457EE5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CBE7-8CEC-43D1-A122-C342682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44B-2AF5-4770-BE1E-73ABD207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EFCCA-304C-4087-812A-21C8615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4352-ABE4-48F3-A9A3-C657D7CB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CA5C-EE2C-4298-B0C6-B657706B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4F08-53E4-4733-877A-79F5BDC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A89B-F099-46F2-A77A-0AFE298E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41EEA-E7A6-4956-A522-D281C77C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CCB9-7A0E-4439-B0AB-A930B3A6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A9DA0-E17D-4275-AE0C-D44DE974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9E66-9CAC-4169-9DE4-ACD9E51D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82E6-6705-4F20-AE38-DD92C29C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278-AAC1-47CF-8DDE-3B35752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36FF-A754-4E7A-8CC3-809709E3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CE036-D7F7-4D83-9E2B-E2998FBE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BCD1-6ADA-4B7C-9A5A-65C48DF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C4B8-DFE4-4D0F-8820-784193B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82FE-2D3D-487B-B946-68F87F5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98E6-DD35-480A-BB2A-07AD4A67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0262-B9EA-47A3-9DE5-A1DBBB4B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5591-1B24-4B00-BF37-1D7145B1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D8FD-5ECD-43BB-827F-8589A5CC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B3B-560B-44E2-AF60-4A6F0069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5B7-058E-4DB1-ADF9-B6DFDA71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625-788A-4268-8C4A-99B3046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590-FC6A-49D4-A8AF-22FD60D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DE7-5FA5-4BDB-8293-8A13DF4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5876-A995-4E78-B22E-2E977FB5308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25F-3EC5-4CC8-B294-33B78A1D468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2F9B-2684-4A9C-9EB6-822C17BFA29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D31-E645-4AA8-BCE4-50CD6A9489A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6922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  <a:ea typeface="Arial"/>
              </a:rPr>
              <a:t>ИКТ</a:t>
            </a:r>
            <a:br>
              <a:rPr sz="7200"/>
            </a:b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в начальной школ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МБОУ  Чашниковская СОШ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Доронкина М.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4572000" y="3573360"/>
            <a:ext cx="46245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0" y="980640"/>
            <a:ext cx="5834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  <a:ea typeface="Arial"/>
              </a:rPr>
              <a:t>	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  <a:ea typeface="Arial"/>
              </a:rPr>
              <a:t>1. В новогодней гирлянде 90 фонариков: большие , средние и маленькие. Больших фонариков 30, средних 20. Сколько маленьких фонариков в гирлянде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Скругленный прямоугольник 3"/>
          <p:cNvSpPr/>
          <p:nvPr/>
        </p:nvSpPr>
        <p:spPr>
          <a:xfrm>
            <a:off x="4859280" y="4508640"/>
            <a:ext cx="388944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181">
                  <a:alpha val="50196"/>
                </a:srgbClr>
              </a:gs>
              <a:gs pos="100000">
                <a:srgbClr val="ffffcc">
                  <a:alpha val="50196"/>
                </a:srgbClr>
              </a:gs>
            </a:gsLst>
            <a:lin ang="5400000"/>
          </a:gradFill>
          <a:ln w="38160">
            <a:solidFill>
              <a:srgbClr val="b9d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2c3c43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30 + 20 = 50(ф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c3c43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90 – 50 = 40 (ф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Скругленный прямоугольник 4"/>
          <p:cNvSpPr/>
          <p:nvPr/>
        </p:nvSpPr>
        <p:spPr>
          <a:xfrm>
            <a:off x="395280" y="4508640"/>
            <a:ext cx="388764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181">
                  <a:alpha val="50196"/>
                </a:srgbClr>
              </a:gs>
              <a:gs pos="100000">
                <a:srgbClr val="ffffcc">
                  <a:alpha val="51372"/>
                </a:srgbClr>
              </a:gs>
            </a:gsLst>
            <a:lin ang="5400000"/>
          </a:gradFill>
          <a:ln w="38160">
            <a:solidFill>
              <a:srgbClr val="b9d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2c3c43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30 – 20 = 10 (ф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c3c43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90 – 10 = 80 (ф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619280" y="33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ыбери правильное реш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fonar0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940360" y="476280"/>
            <a:ext cx="3016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Picture 3" descr="фон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835280" y="148428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468360" y="765000"/>
            <a:ext cx="8064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роки с использованием ИКТ особенно актуальны в начальной школе. Ученики  к 3-4 классам имеют наглядно-образное мышление, поэтому очень важно строить их обучение, применяя как можно больше качественного иллюстративного материала, вовлекая в процесс восприятия нового не только зрение, но и слух, эмоции, воображ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851280" y="3645000"/>
            <a:ext cx="4824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есь, как нельзя кстати, приходится яркость и занимательность компьютерных слайдов, ани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9" descr="computer_girl"/>
          <p:cNvPicPr/>
          <p:nvPr/>
        </p:nvPicPr>
        <p:blipFill>
          <a:blip r:embed="rId2"/>
          <a:stretch/>
        </p:blipFill>
        <p:spPr>
          <a:xfrm>
            <a:off x="0" y="3645000"/>
            <a:ext cx="29764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Преимущества работы с интерактивными досками для преподавателей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680" y="25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зволяет преподавателям объяснять новый материал из центра класса, работать в большой аудитории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ощряет импровизацию и гибкость, позволяя рисовать и делать записи поверх любых приложений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зволяет сохранять и распечатывать изображения на доске, включая любые записи, сделанные во время занятия, не затрачивая при этом много времени и сил и упрощая проверку усвоенного материала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зволяет учителям делиться материалами друг с другом и вновь использовать их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дохновляет преподавателей на поиск новых подходов к обучению, стимулирует профессиональный рост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168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При работе с интерактивной доской возникают некоторые трудности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84464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личие чисто технических проблем. При скачках напряжения, или отказе доски по неизвестной причине не все учителя сумеют найти верное решение проблем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ременные затраты на подготовку урока очень велик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обходимость временного ограничения работы с интерактивной доской на уроке из-за необходимости соблюдать санитарные норм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смотря на все сложности, которые учитель в состоянии решить, новые технологии открывают учителю более широкие возможности для творчеств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90c226"/>
                </a:solidFill>
                <a:latin typeface="Trebuchet MS"/>
              </a:rPr>
              <a:t>Основные способы использования интерактивных досок в начальной школе:</a:t>
            </a:r>
            <a:br>
              <a:rPr sz="25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429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делать пометки и записи поверх выводимых на экран изображений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использование групповых форм работы; 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совместная работа над документами, таблицами или изображениями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управление компьютером без использования самого компьютера (управление через интерактивную доску) 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использование интерактивной доски как обычной, но с возможностью сохранить результат, распечатать изображение на доске на принтере и т.д.; 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изменение текста в выводимых на экране документах, используя виртуальную клавиатуру, которая настраивается в программном обеспечении доски; 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изменение любых документов или изображений на экране, использование любых пометок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сохранение на компьютере в специальном файле всех пометок, которые учитель делает во время урока, для дальнейшей демонстрации на других уроках; 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сохраненные во время урока записи учитель может передать любому ученику, пропустившему занятие или не успевшему сделать соответствующие записи в своей тетради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демонстрация работы одного ученика всем остальным ученикам класса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демонстрация  картин, видеороликов, фильмов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создание рисунков на интерактивной доске без использования компьютерной мыши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создание рисунков, схем и карт во время проведения урока, которые можно использовать на следующих занятиях, что экономит время на уроке.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возможность делать записи электронными чернилами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просматривать видеофрагменты, прослушивать аудиозаписи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выделять отдельные части экрана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вырезать и стирать, копировать и вставлять объекты, отменять или возвращать действия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листать страницы вперед и назад;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00" spc="-1" strike="noStrike">
                <a:solidFill>
                  <a:srgbClr val="404040"/>
                </a:solidFill>
                <a:latin typeface="Trebuchet MS"/>
              </a:rPr>
              <a:t>поворачивать и перемещать объекты.</a:t>
            </a: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Электронные ресурс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85520" y="198900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Электронные приложения  к  учебникам 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Рисунок 3" descr="1b9e710334039f4115059f744c5360e4.jpg"/>
          <p:cNvPicPr/>
          <p:nvPr/>
        </p:nvPicPr>
        <p:blipFill>
          <a:blip r:embed="rId1"/>
          <a:stretch/>
        </p:blipFill>
        <p:spPr>
          <a:xfrm>
            <a:off x="1143000" y="328608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13315821081matem3.jpeg"/>
          <p:cNvPicPr/>
          <p:nvPr/>
        </p:nvPicPr>
        <p:blipFill>
          <a:blip r:embed="rId2"/>
          <a:stretch/>
        </p:blipFill>
        <p:spPr>
          <a:xfrm>
            <a:off x="4643280" y="2786040"/>
            <a:ext cx="354816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7760" y="2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Использование различных обучающих программ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4" name="Picture 2" descr="http://static.ozone.ru/multimedia/audio_cd_covers/1001235819.jpg"/>
          <p:cNvPicPr/>
          <p:nvPr/>
        </p:nvPicPr>
        <p:blipFill>
          <a:blip r:embed="rId1"/>
          <a:stretch/>
        </p:blipFill>
        <p:spPr>
          <a:xfrm>
            <a:off x="357120" y="3643200"/>
            <a:ext cx="2098800" cy="30006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2928960" y="1595520"/>
            <a:ext cx="5929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Уроки практически не содержат текста — весь материал представлен видеоизображениями и анимированными интерактивными тренажерами, что наиболее подходит для детского восприятия. Мультимедийные уроки способствуют формированию у младших школьников логического мышления, развивают внимание и расширяют кругозо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бник предназначен для учеников начальной школы и разработан в соответствии с Государственным стандартом образования Р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0" y="1285920"/>
            <a:ext cx="278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de61"/>
                </a:solidFill>
                <a:latin typeface="Times New Roman"/>
              </a:rPr>
              <a:t>Диски из серии «Уроки Кирила и Мефод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20116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«Природа и человек. Естествознание для начальной школы».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09680" y="2565360"/>
            <a:ext cx="514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вающая программа для учащихся 1-4 классов предлагает ребёнку 250 интерактивных заданий, выполняя которые он научится размышлять и самостоятельно находить верные ответы, пользуясь дополнительной информацией в виде кратких текстов, схем и таблиц. </a:t>
            </a:r>
            <a:br>
              <a:rPr sz="1400"/>
            </a:b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Красочные иллюстрации, интересные и забавные задания, загадки и кроссворды, доступное изложение материала, тесно связанного с повседневной жизнью- всё это не даст заскучать во время заняти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рограмма работает в трех режимах:</a:t>
            </a:r>
            <a:br>
              <a:rPr sz="1400"/>
            </a:b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. обучение с "обратной связью " под управлением программы</a:t>
            </a:r>
            <a:br>
              <a:rPr sz="1400"/>
            </a:b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2. обучение в свободном режим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3.тестирова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4" descr="http://trade-mart.ru/images/2-69-680759.jpg"/>
          <p:cNvPicPr/>
          <p:nvPr/>
        </p:nvPicPr>
        <p:blipFill>
          <a:blip r:embed="rId1"/>
          <a:stretch/>
        </p:blipFill>
        <p:spPr>
          <a:xfrm>
            <a:off x="468360" y="2781360"/>
            <a:ext cx="3500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Мое тело. Как оно устроено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6160" y="157176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ое тело. Как оно устроено?"- самая известная и популярная в мире программа по изучению тела человека для детей. Теперь любопытные "почемучки" найдут ответы на все вопросы о том, как устроено тело, как оно работает и что надо делать, чтобы всегда быть здоровым и сильным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2" descr="Мое тело. Как оно устроено?: Интерактивная энциклопедия (CDpc)"/>
          <p:cNvPicPr/>
          <p:nvPr/>
        </p:nvPicPr>
        <p:blipFill>
          <a:blip r:embed="rId1"/>
          <a:srcRect l="-3384" t="19853" r="-5669" b="22799"/>
          <a:stretch/>
        </p:blipFill>
        <p:spPr>
          <a:xfrm>
            <a:off x="-108000" y="1700280"/>
            <a:ext cx="4924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Использование ресурсов Интерн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сширяет виды учебной деятельности учащихся (поиск и обработка информации по предмету из Интернета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едоставляет возможности для профессионального творческого общения и оперативного обмена информацие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ает возможности для профессионального рост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ткрывает творческие возможности для учителя по подбору и использованию дидактического материал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озволяет использовать на уроке современные технические средства, увлекательные для учащихся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алее приведу примеры использования Интернет-ресурсов для подготовки к урокам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спользование  ИКТ   на  уроках в  начальной  школе  в  условиях  введения  ФГОС</a:t>
            </a:r>
            <a:r>
              <a:rPr b="0" lang="ru-RU" sz="4900" spc="-1" strike="noStrike">
                <a:solidFill>
                  <a:srgbClr val="000000"/>
                </a:solidFill>
                <a:latin typeface="Trebuchet MS"/>
              </a:rPr>
              <a:t>.</a:t>
            </a:r>
            <a:br>
              <a:rPr sz="4900"/>
            </a:br>
            <a:r>
              <a:rPr b="0" lang="en-US" sz="49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742840" y="2997360"/>
            <a:ext cx="597204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Trebuchet MS"/>
              </a:rPr>
              <a:t>«Научиться играть на флейте, можно только играя самому". </a:t>
            </a:r>
            <a:br>
              <a:rPr sz="2800"/>
            </a:br>
            <a:r>
              <a:rPr b="0" lang="ru-RU" sz="2800" spc="-1" strike="noStrike">
                <a:solidFill>
                  <a:srgbClr val="7f7f7f"/>
                </a:solidFill>
                <a:latin typeface="Trebuchet MS"/>
              </a:rPr>
              <a:t>Сокра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0" y="1628640"/>
            <a:ext cx="327672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785680" y="713880"/>
            <a:ext cx="63579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12d32"/>
                </a:solidFill>
                <a:latin typeface="Trebuchet MS"/>
              </a:rPr>
              <a:t>Применение ИКТ в образовательном процессе позволяет решить одну из важных задач обучения –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2c3c43"/>
                </a:solidFill>
                <a:latin typeface="Trebuchet MS"/>
              </a:rPr>
              <a:t>       </a:t>
            </a:r>
            <a:r>
              <a:rPr b="0" i="1" lang="ru-RU" sz="4000" spc="-1" strike="noStrike">
                <a:solidFill>
                  <a:srgbClr val="404040"/>
                </a:solidFill>
                <a:latin typeface="Trebuchet MS"/>
              </a:rPr>
              <a:t>повышение уровня знаний  через  формирование  УДД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Рисунок 1" descr=""/>
          <p:cNvPicPr/>
          <p:nvPr/>
        </p:nvPicPr>
        <p:blipFill>
          <a:blip r:embed="rId1"/>
          <a:stretch/>
        </p:blipFill>
        <p:spPr>
          <a:xfrm>
            <a:off x="0" y="65160"/>
            <a:ext cx="291636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52600" y="14839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Грамотное использование возможностей современных информационных технологий в начальной школе соответствует триединой дидактической цели урока:</a:t>
            </a:r>
            <a:br>
              <a:rPr sz="25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4360" y="2565000"/>
            <a:ext cx="7775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Образовательный аспект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– восприятие учащимися учебного материала, осмысление связей и отношений между объектами изуч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Развивающий аспект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– развитие у учащихся познавательного интереса, умения обобщать, анализировать, сравнивать, активизация их творческой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оспитательный аспект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– формирование научного мировоззрения, умения четко организовывать самостоятельную и групповую работу, воспитание чувство товарищества, способности к взаимопомомощи</a:t>
            </a: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Скругленный прямоугольник 4"/>
          <p:cNvSpPr/>
          <p:nvPr/>
        </p:nvSpPr>
        <p:spPr>
          <a:xfrm>
            <a:off x="7286760" y="3929040"/>
            <a:ext cx="714240" cy="57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РЕЗУЛЬТАТИВНОСТЬ ОПЫТА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06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ост положительной мотивации на уроках с применением ИКТ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вышение уровня использования наглядности на уроке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вышение производительности учебно-воспитательного процесс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чественное изменение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заимоотношений между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частниками  учебно-воспитательного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цесс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ост качества знан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2" name="Picture 2" descr="http://image.shutterstock.com/display_pic_with_logo/11982/11982,1248765055,2/stock-vector-boy-with-computer-34357399.jpg"/>
          <p:cNvPicPr/>
          <p:nvPr/>
        </p:nvPicPr>
        <p:blipFill>
          <a:blip r:embed="rId1"/>
          <a:srcRect l="0" t="0" r="0" b="6384"/>
          <a:stretch/>
        </p:blipFill>
        <p:spPr>
          <a:xfrm>
            <a:off x="5238720" y="2666880"/>
            <a:ext cx="3905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360" y="134100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ки с использованием ИКТ стали привычными для учащихся моих классов, а для меня -нормой рабо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чевидно, что ИКТ – мощный педагогический инструмент в руках учителя, им надо владеть и широко использовать на своих предметных урока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12d32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212d32"/>
                </a:solidFill>
                <a:latin typeface="Trebuchet MS"/>
              </a:rPr>
              <a:t>Учитель  всегда  должен помнить,  что  ИКТ – это  </a:t>
            </a:r>
            <a:r>
              <a:rPr b="1" lang="ru-RU" sz="2800" spc="-1" strike="noStrike">
                <a:solidFill>
                  <a:srgbClr val="212d32"/>
                </a:solidFill>
                <a:latin typeface="Trebuchet MS"/>
              </a:rPr>
              <a:t>не  цель,  а  лишь средство обучения</a:t>
            </a:r>
            <a:r>
              <a:rPr b="0" lang="ru-RU" sz="2800" spc="-1" strike="noStrike">
                <a:solidFill>
                  <a:srgbClr val="212d32"/>
                </a:solidFill>
                <a:latin typeface="Trebuchet MS"/>
              </a:rPr>
              <a:t>.  Она  должна  применяться  только  там,  где  она  действительно  необходима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68360" y="836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Но всякое лекарство может стать ядом, если принять в неразумных дозах. Нужно помнить, что компьютер - это не волшебная палочка, которая за один час занятий сделает ребенка сразу умным и развитым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Существуют определенные ограничения по времени. Чрезмерное общение с компьютером может не только привести к ухудшению зрения ребенка, но и отрицательно сказаться на его психическом здоровье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И все же компьютер - это наше будущее. Он помогает интеллектуальному росту ребенка, ускоряет процесс мышления. С другой стороны - нельзя уповать только на компьютер и не превращать его в единственный источник знаний об окружающем мире, заменяющий книги, игрушки, а главное - живое общение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755640" y="692280"/>
            <a:ext cx="8229600" cy="49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мой взгляд, использование ИКТ в учебном процессе — это требование времени, что позволяет вовлечь детей в активную работу и вызвать у них стремление к получению зна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2" descr="C:\Documents and Settings\Admin\Рабочий стол\школа\Копия неделя науки КОНКУРСЫ\презентации 4 класс Д Линецкий Ярослав и Шаповалова Вероника\IMG_4667.JPG"/>
          <p:cNvPicPr/>
          <p:nvPr/>
        </p:nvPicPr>
        <p:blipFill>
          <a:blip r:embed="rId1"/>
          <a:stretch/>
        </p:blipFill>
        <p:spPr>
          <a:xfrm>
            <a:off x="1908000" y="2637000"/>
            <a:ext cx="4824720" cy="36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4000" y="3429000"/>
            <a:ext cx="806292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XXI век — век высоких компьютерных технологий. Современный ребёнок живёт в мире электронной культуры. Меняется и роль учителя в информационной культуре — он должен стать координатором информационного потока. Следовательно, учителю необходимо владеть современными методиками и новыми образовательными технологиями, чтобы общаться на одном языке с ребёнк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C:\Documents and Settings\Admin\Рабочий стол\школа\фото класс\ионеры герои\IMG_4765.JPG"/>
          <p:cNvPicPr/>
          <p:nvPr/>
        </p:nvPicPr>
        <p:blipFill>
          <a:blip r:embed="rId1"/>
          <a:stretch/>
        </p:blipFill>
        <p:spPr>
          <a:xfrm>
            <a:off x="438120" y="16200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Documents and Settings\Admin\Рабочий стол\школа\фото класс\ионеры герои\IMG_4755.JPG"/>
          <p:cNvPicPr/>
          <p:nvPr/>
        </p:nvPicPr>
        <p:blipFill>
          <a:blip r:embed="rId2"/>
          <a:stretch/>
        </p:blipFill>
        <p:spPr>
          <a:xfrm>
            <a:off x="4716360" y="16200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Использование   информационно-коммуникативные технологий</a:t>
            </a:r>
            <a:r>
              <a:rPr b="0" lang="en-US" sz="25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на  уроках  в  начальной  школе: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усиливают положительную мотивацию обучения, активизируют познавательную деятельность учащих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позволяют проводить уроки на высоком эстетическом и эмоциональном уровне; обеспечивают наглядность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повышают объем выполняемой работы на уроке в 1,5-2 раза; обеспечивают  высокую степень дифференциации обучения(почти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ндивидуализация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расширяют  возможность самостоятельной деятельности;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формируют  навыки подлинно исследовательской деятельност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обеспечивают доступ к различным справочным системам, электронным библиотекам, другим информационным ресурса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3200" y="2707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ладение информационными технологиями ставится в современном мире в один ряд с такими качествами, как умение читать и писать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Уроки с использованием компьютерных технологий позволяют сделать их более интересными, продуманными, мобильными. Нет необходимости готовить к уроку массу энциклопедий, репродукций, аудио-сопровождения – всё это уже заранее готово и содержатся на маленьком компакт-диске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4" descr="Юморные фото детей за компьютером"/>
          <p:cNvPicPr/>
          <p:nvPr/>
        </p:nvPicPr>
        <p:blipFill>
          <a:blip r:embed="rId1"/>
          <a:stretch/>
        </p:blipFill>
        <p:spPr>
          <a:xfrm>
            <a:off x="4859280" y="276120"/>
            <a:ext cx="2546280" cy="226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Юморные фото детей за компьютером"/>
          <p:cNvPicPr/>
          <p:nvPr/>
        </p:nvPicPr>
        <p:blipFill>
          <a:blip r:embed="rId2"/>
          <a:stretch/>
        </p:blipFill>
        <p:spPr>
          <a:xfrm>
            <a:off x="1125360" y="304920"/>
            <a:ext cx="2988000" cy="2239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6" descr="фон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2735280" y="1609560"/>
            <a:ext cx="640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высоком эстетическом и эмоциональном уровне (музыка, анимац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нагляд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екает большое количество дидактического матери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ает объём выполняемой работы на уроке в 1,5-2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высокую степень дифференциации обучения (индивидуальный подход к ученику, применяя разноуровневые зада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68360" y="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Использование ИКТ позволяет проводить уро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ИКТ  можно  использовать  как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640" y="980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ebeb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84360" y="4005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ebe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39640" y="16430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c3c4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28760" y="11430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индивидуальное  средство 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средство  организации  контроля  усвоения  учебного 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интерактивную  доску  на  каждом  этапе  урока: при  объяснении  нового  материала,  закреплении   и  повтор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90c226"/>
                </a:solidFill>
                <a:latin typeface="Trebuchet MS"/>
              </a:rPr>
              <a:t>Электронные ресурсы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езентации  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Microsoft  Power Poin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Интернет  ресурс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3" descr="2.jpg"/>
          <p:cNvPicPr/>
          <p:nvPr/>
        </p:nvPicPr>
        <p:blipFill>
          <a:blip r:embed="rId1"/>
          <a:stretch/>
        </p:blipFill>
        <p:spPr>
          <a:xfrm>
            <a:off x="2714760" y="2071800"/>
            <a:ext cx="50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528624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Презентации позволяют учителю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0520" y="3284640"/>
            <a:ext cx="521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глядно представлять материал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нсифицировать процесс объяснения нового материала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гулировать объем и скорость выводимой информации посредством анимаци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4" descr="http://activerain.com/image_store/uploads/8/0/9/4/9/ar120726451094908.jpg"/>
          <p:cNvPicPr/>
          <p:nvPr/>
        </p:nvPicPr>
        <p:blipFill>
          <a:blip r:embed="rId1"/>
          <a:stretch/>
        </p:blipFill>
        <p:spPr>
          <a:xfrm>
            <a:off x="5143680" y="0"/>
            <a:ext cx="40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15:42Z</dcterms:created>
  <dc:creator>Зиганьшин  М.М.</dc:creator>
  <dc:description/>
  <dc:language>en-US</dc:language>
  <cp:lastModifiedBy>Пользователь</cp:lastModifiedBy>
  <dcterms:modified xsi:type="dcterms:W3CDTF">2020-01-02T10:23:06Z</dcterms:modified>
  <cp:revision>50</cp:revision>
  <dc:subject/>
  <dc:title>Использование ИКТ на уроках в начальной школе.</dc:title>
</cp:coreProperties>
</file>