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A8B-D32D-45D7-B3BD-7FCF7EB0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971-D35C-40D9-BB4E-3CEFE015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F77-AC15-4BE9-A4F2-69A0E7F4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5CA-D802-4300-A53E-624C1291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4860-9F16-4879-8EC7-60B209D2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792D-E375-46E6-AE6B-55ED0EC7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54E4-A2C0-4930-94BB-9DF40F2D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3902-4BB5-476E-9B32-FF024DB8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4A97-161A-43A4-ADAC-137436DE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E7F1-74CF-4EF7-B64E-7E183148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A838-3E8D-4AC0-A296-81C423E0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A02-F04B-449B-840B-E5F4A943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310D-7465-46C5-9DBF-B3CB74F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F600-250F-406D-9115-784D77E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2B2A-6B13-4691-A529-1BC9BC8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97F3-211F-4634-BCC3-E0146E3D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51E2-28E1-411B-AD8A-D27FD271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9E2-77E3-4FE1-A5AC-30D87518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797-766F-4C34-BE10-BB095B87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B16-B172-49E8-83DC-A501B95C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7F6-2B50-4328-A72B-759281F6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D22-9970-4A7F-BDE9-59C0CC8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693-47EA-41B6-B56A-40F4AF0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23F-3376-4745-B613-2BED58F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4283-1E5C-44E5-84D8-A35C4B42B0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A787-5A6D-43E3-9F57-13D23C7413F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179280" y="260280"/>
            <a:ext cx="87138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Сравнительный анализ специфики интернет-об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на английском и русском язык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(аббревиация, эмограммы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508720" y="4508640"/>
            <a:ext cx="3384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полнила: ученица 6 класса МБОУ КСОШ №1 Кутей Мари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учный руководитель: учитель иностранного языка Митрофанова О.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419640" y="6308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014 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468360" y="476280"/>
            <a:ext cx="835164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:-)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79640" y="5877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ngel -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нге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0" y="260280"/>
            <a:ext cx="914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Сравнив использование аббревиатур и эмограмм как специфические элементы интернет-общения на русском и английском языках, мы делаем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ывод,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что с этой точки зрения в большинстве своем интернет общение и на русском, и на английском имеют общие точки соприкосновения. Основная закономерность образования аббревиатур – это сокращения по первым буквам слова или словосочетания. Получившиеся аббревиатуры могут выступать в качестве акронимов, т.е. могут читаться как самостоятельные слова, так они могут быть и просто инициальными аббревиатурами, когда каждая буква произносится отдельно. В русском языке существуют еще и буквенно-звуковые аббревиатуры, которые наполовину читаются по буквам, наполовину по звукам. Отличие аббревиации в интернет-общении на английском и на русском языках состоит в том, что в русском языке мы, как правило не сокращаем целые предложения до букв алфавита. В то время, как в английском интернет-общении целые фразы и предложения могут быть выражены заглавными буквам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Если говорить об использовании эмограмм в интернет-общении, то в данном случае особых различий не замечено. И в русском, и в английском языках очень часто используют это средство общения для выражения тех или иных эмоций. Часто в русском языке эмограммы используют, когда сказать в общем-то нечего, но хочется продолжить общение с этим человеком. В таком случае происходит взаимообмен разного вида смайлик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250920" y="1700280"/>
            <a:ext cx="8713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00">
                    <a:alpha val="86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your attention!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00ff00">
                  <a:alpha val="86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24000" y="765000"/>
            <a:ext cx="8640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следить и выявить сходство и различие в специфике интернет-общения в английском и русском языках на примере аббревиатур и эмограм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чи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1. Рассмотреть специфику интернет-общения через специальную литературу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2. Сравнить аббревиатуры в английском и русском языках, которые используются как одна из форм специфики интернет-общ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3. Сравнить используемые эмограммы в интернет-общении на английском и русском язык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ктуальность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состоит в том, что всё больше людей сталкиваются с необходимостью общаться на языке сокращений и терминов. Широкое использование сокращений в интернет-общении, часто вызывают недопонимание между собеседниками, которые не так давно стали участниками виртуального общения и еще не имеют практики в этом вопрос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24000" y="1700280"/>
            <a:ext cx="8424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Аббревиация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бразование новых слов путём сокращения основы. В результате этого способа словообразования создаются слова с неполной, усечённой основой, называемые  </a:t>
            </a: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аббревиатурами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C:\Users\ПАША\Downloads\1236970163_97591234internet.jpg"/>
          <p:cNvPicPr/>
          <p:nvPr/>
        </p:nvPicPr>
        <p:blipFill>
          <a:blip r:embed="rId1"/>
          <a:stretch/>
        </p:blipFill>
        <p:spPr>
          <a:xfrm>
            <a:off x="357120" y="357120"/>
            <a:ext cx="2413080" cy="180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:\Users\ПАША\Downloads\1333258731_internet-turizm.jpg"/>
          <p:cNvPicPr/>
          <p:nvPr/>
        </p:nvPicPr>
        <p:blipFill>
          <a:blip r:embed="rId2"/>
          <a:stretch/>
        </p:blipFill>
        <p:spPr>
          <a:xfrm>
            <a:off x="6500880" y="4786200"/>
            <a:ext cx="236700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187280" y="981000"/>
            <a:ext cx="67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84360" y="76500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)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UNICEF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United Nations International Children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 Emergency Fund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– Международный детский фонд Организации Объединенных Наций) (акроним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b) RSPCA (Royal Society for the Prevention of cruelty to Animals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–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ролевское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щество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защиты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животных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т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жестокого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ращени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ициаль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аббревиатура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) ЦСКА – центральный спортивный клуб армии (буквенно-звукова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611280" y="1268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ND (Any Day Now) -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епер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юбое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рем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b) HTH (Hope This Help!)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- </a:t>
            </a: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надеюсь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, </a:t>
            </a: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это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поможе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) CU (See You) –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видимс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SimSun"/>
              </a:rPr>
              <a:t>d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)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  <a:ea typeface="SimSun"/>
              </a:rPr>
              <a:t>WBW</a:t>
            </a: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 (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  <a:ea typeface="SimSun"/>
              </a:rPr>
              <a:t>With Best Wishes</a:t>
            </a: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) - с наилучшими пожелан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C:\Users\ПАША\Downloads\4bd6ed64fc81.jpg"/>
          <p:cNvPicPr/>
          <p:nvPr/>
        </p:nvPicPr>
        <p:blipFill>
          <a:blip r:embed="rId1"/>
          <a:stretch/>
        </p:blipFill>
        <p:spPr>
          <a:xfrm>
            <a:off x="7048440" y="52862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:\Users\ПАША\Downloads\denhik1998.jpg"/>
          <p:cNvPicPr/>
          <p:nvPr/>
        </p:nvPicPr>
        <p:blipFill>
          <a:blip r:embed="rId2"/>
          <a:stretch/>
        </p:blipFill>
        <p:spPr>
          <a:xfrm>
            <a:off x="0" y="0"/>
            <a:ext cx="1643040" cy="130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250920" y="476280"/>
            <a:ext cx="828180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-@</a:t>
            </a:r>
            <a:endParaRPr b="1" lang="en-US" sz="9600" spc="1" strike="noStrike">
              <a:ln w="12600">
                <a:solidFill>
                  <a:srgbClr val="ffcc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826920" y="602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creaming -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оп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250920" y="476280"/>
            <a:ext cx="842472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-D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619280" y="580536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79280" y="5805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Laughing out loud –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громко смеять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250920" y="692280"/>
            <a:ext cx="8208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-|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00000" y="59500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SimSun"/>
              </a:rPr>
              <a:t>Have a day –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у, как денек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250920" y="692280"/>
            <a:ext cx="8424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-9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79280" y="57340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Licking her or his lips -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близывать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7:06:27Z</dcterms:created>
  <dc:creator>1</dc:creator>
  <dc:description/>
  <dc:language>en-US</dc:language>
  <cp:lastModifiedBy>ПАША</cp:lastModifiedBy>
  <dcterms:modified xsi:type="dcterms:W3CDTF">2014-01-22T11:12:37Z</dcterms:modified>
  <cp:revision>17</cp:revision>
  <dc:subject/>
  <dc:title>Слайд 1</dc:title>
</cp:coreProperties>
</file>